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wmf" ContentType="image/x-wmf"/>
  <Override PartName="/ppt/media/image15.jpeg" ContentType="image/jpeg"/>
  <Override PartName="/ppt/media/image16.png" ContentType="image/png"/>
  <Override PartName="/ppt/media/image14.jpeg" ContentType="image/jpeg"/>
  <Override PartName="/ppt/media/image20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3CCB-9F35-4BCB-AA37-01B527CD3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1F7E-AE13-45A9-8FA3-426972AE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897A-2F9E-4C17-B5BA-8AF8E95FB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53CF-E3E6-4594-A47E-CEEDC1A0A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67AE-A3C7-46D1-8BDC-F69EABA1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176B-6E11-4FF2-8128-53AD16FA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05A5-BEEA-4315-981A-B5B339DE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20AB-1DB0-4543-891A-23837FC8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549D-5A01-4CE7-812B-E63E64BA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C837-736F-49BB-9F30-686008A4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EC39-1F64-422D-BB62-E2DF3425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9C51-40CF-4B64-8C24-58E36549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9C68-9977-48D3-B286-B709BEB524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788000" y="1557360"/>
            <a:ext cx="2448000" cy="1886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1116000" y="1514520"/>
            <a:ext cx="2428920" cy="1942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www.aist.go.jp/RIODB/db004/img/ms/W/WMSNW2178.gif"/>
          <p:cNvPicPr/>
          <p:nvPr/>
        </p:nvPicPr>
        <p:blipFill>
          <a:blip r:embed="rId3"/>
          <a:stretch/>
        </p:blipFill>
        <p:spPr>
          <a:xfrm>
            <a:off x="900000" y="4076640"/>
            <a:ext cx="2781360" cy="1866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http://www.aist.go.jp/RIODB/db004/img/hsp/W/WHSP45039.gif"/>
          <p:cNvPicPr/>
          <p:nvPr/>
        </p:nvPicPr>
        <p:blipFill>
          <a:blip r:embed="rId4"/>
          <a:stretch/>
        </p:blipFill>
        <p:spPr>
          <a:xfrm>
            <a:off x="4788000" y="4076640"/>
            <a:ext cx="2628720" cy="1933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Изображение “http://archive.1september.ru/zdd/2004/02/6.jpg” не может быть показано, так как содержит ошибки."/>
          <p:cNvPicPr/>
          <p:nvPr/>
        </p:nvPicPr>
        <p:blipFill>
          <a:blip r:embed="rId5"/>
          <a:stretch/>
        </p:blipFill>
        <p:spPr>
          <a:xfrm>
            <a:off x="3348000" y="2997360"/>
            <a:ext cx="1752480" cy="14284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837000" y="260280"/>
            <a:ext cx="781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Физико-химические методы 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биологически активн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5292720" y="1268280"/>
            <a:ext cx="2808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δН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δН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/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gt;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407240" y="189000"/>
            <a:ext cx="38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пектры первого поря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835280" y="4149720"/>
            <a:ext cx="5400720" cy="2949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0" y="836640"/>
            <a:ext cx="4427640" cy="325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Object 6"/>
          <p:cNvGraphicFramePr/>
          <p:nvPr/>
        </p:nvGraphicFramePr>
        <p:xfrm>
          <a:off x="3276720" y="1484280"/>
          <a:ext cx="6127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1484280"/>
                    <a:ext cx="6127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7"/>
          <p:cNvSpPr/>
          <p:nvPr/>
        </p:nvSpPr>
        <p:spPr>
          <a:xfrm>
            <a:off x="3494880" y="3573360"/>
            <a:ext cx="49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пектры более высокого поря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219640" y="836640"/>
            <a:ext cx="2952720" cy="1224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989280" y="50760"/>
            <a:ext cx="724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давление спин-спинового взаимодейств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упрощение сложных спектр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79280" y="981000"/>
            <a:ext cx="8640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вращение сложного спектра в спектр первого порядка может быть достигнуто увеличением соотношения (δН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δН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79280" y="1989000"/>
            <a:ext cx="2376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растание рабочей частоты прибора увеличивает расстояние между сигналами, сохраняя неизменным константы спин-спинового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6"/>
          <p:cNvGraphicFramePr/>
          <p:nvPr/>
        </p:nvGraphicFramePr>
        <p:xfrm>
          <a:off x="2627280" y="2205000"/>
          <a:ext cx="6516720" cy="40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2205000"/>
                    <a:ext cx="651672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кция №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ин-спиновое взаимодей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Явление спин-спинового взаимо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ило мультипле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станта спин-спинового взаимо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Спин-спиновое взаимодей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419120" y="2698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826920" y="1125360"/>
            <a:ext cx="7850520" cy="1441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гналы протонов могут быть расщеплены на несколь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онентов. Это вызвано непрямым взаимодейств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нов неэквивалентных протон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258920" y="4508640"/>
            <a:ext cx="6551640" cy="2066760"/>
          </a:xfrm>
          <a:prstGeom prst="rect">
            <a:avLst/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Общее правило 2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nI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+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.к. для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протон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½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мультиплетность равн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+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ждая линия любого мультиплета буд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стоять от соседних линий того же мультипл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одно и то же число гер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1258920" y="2708280"/>
            <a:ext cx="6840360" cy="1584360"/>
          </a:xfrm>
          <a:prstGeom prst="rect">
            <a:avLst/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ротонов одной группы А взаимодейству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’ протонами группы В, то сигнал прот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уппы А будет состоять из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’+1 ли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сигнал протонов В – из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+1 ли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3"/>
          <p:cNvGraphicFramePr/>
          <p:nvPr/>
        </p:nvGraphicFramePr>
        <p:xfrm>
          <a:off x="5867280" y="692280"/>
          <a:ext cx="5407200" cy="53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692280"/>
                    <a:ext cx="540720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4"/>
          <p:cNvGraphicFramePr/>
          <p:nvPr/>
        </p:nvGraphicFramePr>
        <p:xfrm>
          <a:off x="324000" y="4941720"/>
          <a:ext cx="1800000" cy="96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4941720"/>
                    <a:ext cx="180000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Line 5"/>
          <p:cNvSpPr/>
          <p:nvPr/>
        </p:nvSpPr>
        <p:spPr>
          <a:xfrm>
            <a:off x="7885080" y="494172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8172360" y="4076640"/>
            <a:ext cx="360360" cy="0"/>
          </a:xfrm>
          <a:prstGeom prst="line">
            <a:avLst/>
          </a:prstGeom>
          <a:ln w="3816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>
            <a:off x="8459640" y="4941720"/>
            <a:ext cx="358920" cy="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795852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817452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846180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755640" y="260280"/>
            <a:ext cx="676908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Константа спин-спинового взаимо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0" y="1341360"/>
            <a:ext cx="7164360" cy="12970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тояние между пиками дублетов, триплетов, квартет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меренное в герцах, называют константой спин-спинов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аимодействия. Обозначают буквой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J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324000" y="2997360"/>
            <a:ext cx="5148000" cy="177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ектроскопия ПМР является незаменим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ом для однозначного опре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ис- и транс-изомеров олефинов, т.к. в э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уча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чения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тран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ци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ществ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лич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14"/>
          <p:cNvGraphicFramePr/>
          <p:nvPr/>
        </p:nvGraphicFramePr>
        <p:xfrm>
          <a:off x="3708360" y="5013360"/>
          <a:ext cx="1727280" cy="80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08360" y="5013360"/>
                    <a:ext cx="17272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Text Box 15"/>
          <p:cNvSpPr/>
          <p:nvPr/>
        </p:nvSpPr>
        <p:spPr>
          <a:xfrm>
            <a:off x="471240" y="6093000"/>
            <a:ext cx="1485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= 13-18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3926520" y="6093000"/>
            <a:ext cx="1359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=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Еще раз о магнитной неэквивал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250920" y="5300640"/>
            <a:ext cx="8569080" cy="12240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того чтобы два протона были идентичны в эксперименте ЯМ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и должны иметь а) одинаковые химические сдвиг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константы спин-спинового взаимодейств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парно равные для каждого из остальных ядер в молеку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4"/>
          <p:cNvGraphicFramePr/>
          <p:nvPr/>
        </p:nvGraphicFramePr>
        <p:xfrm>
          <a:off x="611280" y="2565360"/>
          <a:ext cx="215244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565360"/>
                    <a:ext cx="215244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5"/>
          <p:cNvSpPr/>
          <p:nvPr/>
        </p:nvSpPr>
        <p:spPr>
          <a:xfrm>
            <a:off x="2954520" y="2781360"/>
            <a:ext cx="618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гналы протонов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меют одинак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имические сдвиги (изохронны),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однако различ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константы спин-спинового взаимодей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относительно третьего протон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= 7.92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’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= 0.4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468360" y="907920"/>
            <a:ext cx="8280360" cy="72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тоны с попарно равными константами спин-спинов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аимодействия называются «магнитно-эквивалентным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1908000" y="1628640"/>
            <a:ext cx="6769440" cy="79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тоны с одинаковым химическим сдвигом так 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ываются «магнитно-эквивалентными» (изохронны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3"/>
          <p:cNvGraphicFramePr/>
          <p:nvPr/>
        </p:nvGraphicFramePr>
        <p:xfrm>
          <a:off x="0" y="514440"/>
          <a:ext cx="5934240" cy="58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14440"/>
                    <a:ext cx="5934240" cy="58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Rectangle 4"/>
          <p:cNvSpPr/>
          <p:nvPr/>
        </p:nvSpPr>
        <p:spPr>
          <a:xfrm>
            <a:off x="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2987640" y="189000"/>
            <a:ext cx="5113440" cy="633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7"/>
          <p:cNvGraphicFramePr/>
          <p:nvPr/>
        </p:nvGraphicFramePr>
        <p:xfrm>
          <a:off x="3209760" y="549360"/>
          <a:ext cx="5934240" cy="582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9760" y="549360"/>
                    <a:ext cx="5934240" cy="58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пин-спиновое взаимодействие. 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асчетный спектр иодэт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3"/>
          <p:cNvGraphicFramePr/>
          <p:nvPr/>
        </p:nvGraphicFramePr>
        <p:xfrm>
          <a:off x="5867280" y="0"/>
          <a:ext cx="411192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0"/>
                    <a:ext cx="411192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Rectangle 4"/>
          <p:cNvSpPr/>
          <p:nvPr/>
        </p:nvSpPr>
        <p:spPr>
          <a:xfrm>
            <a:off x="3348000" y="324648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7249320" y="1197000"/>
            <a:ext cx="1049040" cy="405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СН</a:t>
            </a:r>
            <a:r>
              <a:rPr b="1" lang="ru-RU" sz="1800" spc="-1" strike="noStrike" baseline="-25000">
                <a:solidFill>
                  <a:srgbClr val="0033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СН</a:t>
            </a:r>
            <a:r>
              <a:rPr b="1" lang="ru-RU" sz="1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7"/>
          <p:cNvGraphicFramePr/>
          <p:nvPr/>
        </p:nvGraphicFramePr>
        <p:xfrm>
          <a:off x="179280" y="4437000"/>
          <a:ext cx="7056720" cy="22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4437000"/>
                    <a:ext cx="7056720" cy="22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8"/>
          <p:cNvSpPr/>
          <p:nvPr/>
        </p:nvSpPr>
        <p:spPr>
          <a:xfrm>
            <a:off x="5400" y="1052640"/>
            <a:ext cx="6993000" cy="119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ектр состоит из семи лини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уппа из трех линий находится в сильном поле (триплет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группа из четырех линий - в более слаб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ях (называется квартет, или квадруп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0" y="2852640"/>
            <a:ext cx="5364000" cy="1152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аграмма расщепления сигналов прот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уппы вследствие спин-спинов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аимодействия.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конста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ин-спинового взаимодействия (Гц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0"/>
          <p:cNvSpPr/>
          <p:nvPr/>
        </p:nvSpPr>
        <p:spPr>
          <a:xfrm>
            <a:off x="6804000" y="1628640"/>
            <a:ext cx="1800360" cy="1440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3276720" y="2133720"/>
            <a:ext cx="316692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187280" y="3500280"/>
            <a:ext cx="5224680" cy="3152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R2"/>
          <p:cNvPicPr/>
          <p:nvPr/>
        </p:nvPicPr>
        <p:blipFill>
          <a:blip r:embed="rId2"/>
          <a:stretch/>
        </p:blipFill>
        <p:spPr>
          <a:xfrm>
            <a:off x="1258920" y="907920"/>
            <a:ext cx="5108400" cy="27766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1095480" y="12600"/>
            <a:ext cx="6113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Спин-спиновое взаимодействие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395280" y="692280"/>
          <a:ext cx="7705800" cy="2733480"/>
        </p:xfrm>
        <a:graphic>
          <a:graphicData uri="http://schemas.openxmlformats.org/drawingml/2006/table">
            <a:tbl>
              <a:tblPr/>
              <a:tblGrid>
                <a:gridCol w="2541600"/>
                <a:gridCol w="2049480"/>
                <a:gridCol w="3114720"/>
              </a:tblGrid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эквивалентных ядер, вызывающих расщеп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льтиплетность наблюдаемого сиг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сительная интенсивность линий и их расположение в наблюдаемом мультипле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г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б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п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т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интет (пенте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кст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     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      2       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    3        3       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    4       6       4      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    5     10      10      5    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16"/>
          <p:cNvSpPr/>
          <p:nvPr/>
        </p:nvSpPr>
        <p:spPr>
          <a:xfrm>
            <a:off x="2341800" y="189000"/>
            <a:ext cx="35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Треугольник Паска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7" descr=""/>
          <p:cNvPicPr/>
          <p:nvPr/>
        </p:nvPicPr>
        <p:blipFill>
          <a:blip r:embed="rId1"/>
          <a:stretch/>
        </p:blipFill>
        <p:spPr>
          <a:xfrm>
            <a:off x="324000" y="3573360"/>
            <a:ext cx="4392360" cy="306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8" descr="j0299125"/>
          <p:cNvPicPr/>
          <p:nvPr/>
        </p:nvPicPr>
        <p:blipFill>
          <a:blip r:embed="rId2"/>
          <a:stretch/>
        </p:blipFill>
        <p:spPr>
          <a:xfrm>
            <a:off x="6877080" y="4581360"/>
            <a:ext cx="745920" cy="1224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9"/>
          <p:cNvSpPr/>
          <p:nvPr/>
        </p:nvSpPr>
        <p:spPr>
          <a:xfrm>
            <a:off x="4932360" y="4005360"/>
            <a:ext cx="39607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ложите структуру соеди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6:32:14Z</dcterms:created>
  <dc:creator>chem</dc:creator>
  <dc:description/>
  <dc:language>en-US</dc:language>
  <cp:lastModifiedBy>User</cp:lastModifiedBy>
  <dcterms:modified xsi:type="dcterms:W3CDTF">2016-08-15T11:35:23Z</dcterms:modified>
  <cp:revision>5</cp:revision>
  <dc:subject/>
  <dc:title>Слайд 1</dc:title>
</cp:coreProperties>
</file>