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64C1-AB22-486C-ABFD-64D51F3B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F06B-9A64-4A7B-8F12-842EC51F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2340-4C5C-42CF-92E5-138E4C71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E002-F96A-4195-AC10-CB8A4A3D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8540-C363-4802-B867-F2E1CADD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706-ABE1-4396-A663-911AFF7C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62B2-AA73-41F8-8AE9-0A03410D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8DA0-0E98-498E-9E6E-59F86495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B375-3061-4C96-A2C2-D1688E75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A6B7-D1D8-4B2D-A0FE-94D2C4D6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35C6-0FCE-4AA8-87E2-2000C494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3D47-659B-40E6-BCB7-0B5A2722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5C31-D915-4138-B1EC-626AA92D01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109880" y="542880"/>
            <a:ext cx="665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изненные циклы раст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68360" y="285264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(ла) студентка 107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ьность «Технология производств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работки сельскохозяйственной продукции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.П. Гу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927600" y="602136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ранск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6453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618840" y="-27000"/>
            <a:ext cx="820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изненные циклы голосеменны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539640" y="1268280"/>
            <a:ext cx="7848720" cy="72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К группе голосеменных растений относятся представители хвойных деревьев и кустарников. У большинства из них видоизменённые игольчатые листья. Жизненный цикл голосеменных растений отличается тем, что микроспоры (пыльца) образуются в мелких мужских шишках (пыльниках), а мегаспоры — в женских (семязачатках). Из микроспор образуется мужской гаметофит, а из мегаспоры — женский. Жизненный цикл растения из этой группы отличается тем, что оплодотворение происходит при помощи ветра, который доставляет пыльцу к семязачаткам. После этого внутри семяпочки начинает развиваться зародыш, а из него образуется семя. Оно лежит на семенных чешуях и ничем не прикрыто. Семя даёт новый спорофит, из которого вырастает новое расте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820000" cy="6669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Жизненный цикл споровых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755640" y="1125360"/>
            <a:ext cx="79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ровые растения не цветут, потому их также называют нецветковыми. Они бывают двух категорий: высшие (папоротники, хвощи, мхи, плауны); низшие (водоросли, лишайники). Жизненные циклы споровых растений в зависимости от вида могут идти половым или бесполым вариантом. Они не способны размножаться половым способом без участия водной среды. Для полового размножения используется гаметофит, а для бесполого — спорофит. Существует две подгруппы споровых растений: гаплоидная и диплоидная. В гаплоидную подгруппу входят мхи, хвощи и папоротники, у которых более развит гаметофит, а спорофит формируется в виде заростка. Гаплоидная подгруппа отличается тем, что спорофит имеет в ней подчинённый стату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160020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959120" y="639720"/>
            <a:ext cx="376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840960" y="-720"/>
            <a:ext cx="75430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Жизненные циклы расте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х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76200" y="2152800"/>
            <a:ext cx="34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324000" y="1411200"/>
            <a:ext cx="4392360" cy="497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хи — представители примитивного вида высших раст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них очень условное деление организма на стебель и листья, вместо корней — нитеобразные ризои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растают они в болотистых, влажных местах и очень сильно испаряют вла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множаются половым путём, спорофит зависит от гаметофита, споры образуются в специальной коробоч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ая находится над гаметофитом и связана с н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4427640" y="1773360"/>
            <a:ext cx="4608360" cy="4017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3780000" y="189000"/>
            <a:ext cx="5114880" cy="4591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1166760" y="423720"/>
            <a:ext cx="160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0" y="135720"/>
            <a:ext cx="3708360" cy="545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ители папоротников обладают большими перистыми листьями (спорангии расположены на нижней стороне). У растения есть ярко выраженная корневая система, а лист на самом деле является системой ветвей, который называется вайей или предпобегом. Жизненный цикл растения группы папоротников состоит из двух фаз: половой и беспол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79280" y="545292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овая фаза происходит при участии гамет, а бесполая — спор. Бесполое поколение начинается с диплоидной зиготы, а половое — с гаплоидной споры. Сменяемость этих фаз и составляет большую часть цик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16880" cy="5219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684360" y="115920"/>
            <a:ext cx="7848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Жизненный цикл Покрытосеменн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42560" y="1890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крытосеменные раст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произошли предположительно в мезозое от голосеменных предков. Насчитывают около 250 тыс. видов. Они господствуют на большей части суши и создают основную часть фитомассы и кислорода. Освоить сушу покрытосеменные смогли благодаря прогрессивным изменениям вегетативных и репродуктивных органов.К основным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роморфоза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беспечившим появление и распространение цветковых растений, относятся:– формирование сосудистых проводящих тканей –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силе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лоэ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– появление цветка, из завязи которого развивается плод, защищающий семена;– возникновение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войного оплодотво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беспечивающего формирование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риплоидного эндоспер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еобходимого для развития диплоидного зародыша; редукция женского гаметофита до 8 клеток зародышевого мешка.Мужской гаметофит образуется в пыльниках тычинок и представляет собой пылинку. Пылинка содержит генеративную и вегетативную клетки. При попадании на рыльце пестика, пыльца прорастает. Из генеративной клетки образуется 2 спермия. Спермии по пыльцевой трубке, образовавшейся из вегетативной клетки, попадают в зародышевый мешок. Ядро одного спермия сливается с ядром яйцеклетки, а ядро другого спермия сливается с диплоидным центральным ядром. Из оплодотворенной яйцеклетки развивается зародыш, а из триплоидного ядра – ядра запасающей ткани – эндосперм. Этот способ оплодотворения был открыт С.Г. Навашиным и получил название двой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обенности жизненных циклов раст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енный цикл растения состоит из трёх последовательных этапов: зарождение; развитие; размножение. Он может быть простым и сложным. В качестве примера простого цикла можно привести хлореллу, которая размножается спорами. Развиваясь, эта зелёная водоросль становится вместилищем 4–8 автоспор, которые растут внутри материнского организма и покрываются собственной оболочкой. Но среди растений чаще встречается сложный цикл развития, который состоит из 2–3 прост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ым свойством всего живого является способность размножаться. Способ размножения бывает: половой (гаметами); бесполый (спорами); вегетативный (частью организма). В сложных циклах при половом размножении всегда есть несколько обособленных фаз гаметы и зиготы. Гамета — это созревшая половая клетка с гаплоидным (ординарным) набором хромосом. Зигота с диплоидным (двойным) набором образуется в результате объединения двух гамет. Из зиготы развивается спорофит, который производит гаплоидные споры. Из спор — гаметофит, который бывает мужским и женск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1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особы размн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овым способом размножается большинство растений. При этом происходит образование нового организма из зиготы после оплодотворения и объединения гамет (сингамии). Партеногенез — размножение без оплодотворения — также относится к половому способу: дочерний организм образуется из изогаметы, что роднит изогаметы и споры. Половое размножение практически всегда сочетается с другими способами — вегетативным или бесполым, так как само оно отличается низкой продуктивностью. Одновременно этот способ и бесполое размножение встречается у папоротников, а в связке с вегетативным вариантом — у некоторых водорослей. У семенных растений формирование половой клетки происходит из одной дочерней зиготы, в результате чего этот процесс больше напоминает не размножение, а воспроизведение. При бесполом размножении образуются зооспоры — клетки без клеточной стенки, которые у многоклеточных растений находятся в специальных спорангиях, и неподвижные клетки — апланоспоры. Самостоятельно такой способ размножения встречается в природе очень редко. Обычно он сочетается с половым или вегетативны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гетативный способ размн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егетативном варианте размножения происходит разделение на акинеты — толстостенные клетки. Он заключается в отделении от маточника какой-то его части — выводковой почки или тельца. Таким способом размножаются некоторые низшие растения, в том числе саргассовые, бурые и красные водоросли. Вегетативно размножаются даже цветковые растения, например ряска. У некоторых из них образуются выводковые почки, которые опадают на землю и там укореняются. Также почки могут ответвляться и отделяться от материнского растения. У покрытосеменной группы растений очень часто встречается развитие побегов под землёй от корневищ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пространение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847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пространение растений Одним из финальных этапов размножения является распространение растений. В природе может быть 3 варианта расселения: зародышами, спорами и семенами. В крайне редких случаях распространение может происходить при помощи зигот. Ко второму типу относилась группа голосеменных и покрытосеменных растений, а к первому — все остальные группы, в том числе водоросли, моховые и папоротники. Способы размножения растений прошли длинный эволюционный путь от вегетативного к бесполому и половому. Сейчас разделение растений на споровые и семенные связывают не с распространением, а с размножением. Семенной способ выделяется в отдельную группу, так как он считается соединением размножения спорами и гаметами. Семенное размножение включает в себя несколько этапов: образование зигот, гамет, спор, зародышей и семени, а также расселение расте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ередование покол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растений в форме двух разных поколений может носить различные названия: смена форм развития, чередование поколений и т. д. Сменяемость большого папоротника и заростка в случае с равноспоровым папоротником — это пример чередования поколений, отмеченный фазами взрослого состояния форм особей. Эти две формы настолько отличаются внешне, что в них трудно узнать одно и то же растение. Заросток папоротника очень сложно заметить невооружённым глазом. У покрытосеменных растений аналог заростка — зародышевый мешок, который крайне мал и скрыт в глубине цветка. Среди некоторых групп водорослей эти формы особей похожи внешне, но совершенно различаются биологическими признаками. Чередование поколений встречается практически у всех высших растений и эволюционно развитых водорос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Жизненные циклы высших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енный цикл высших растений, если не считать мохообразные, характеризуется тем, что гаметофит развит слабо, а в жизненном цикле большую часть занимает спорофит. Мохообразные растения отличаются тем, что спорофит развивается внутри женского полового органа и находится в непрерывной связи с гаметофитом. В случае с листостебельными мхами он выглядит как коробочка со спорами, растущая из верхней части гаметофита. Остальные высшие растения обладают ярко выраженными спорофитами, которые представляют собой большие и сложные многоклеточные организмы с такими органами, как листва, стебли и корневая система. Большинство растений, которые человек представляет себе, когда говорит о хвощах, папоротниках или других группах, — спорофи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264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Жизненные циклы цветковых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468360" y="1701720"/>
            <a:ext cx="813600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амыми прогрессивными в плане эволюции являются цветковые растения. Жизненный цикл цветковых растений характеризуется тем, что часто зародыш способен развиваться из неоплодотворённой яйцеклетки (апомиксис). Преобладающей формой цветковых является разноспоровый спорофит, представляющий собой растение с листьями и стеблем. Мужской гаметофит представлен пыльцевым зерном, а женский — зародышевым мешком (он развивается быстрее, чем у голосеменных). Органом как полового, так и бесполого размножения является видоизменённый побег — цветок. Зачатки семян защищены стенками завязи. Жизненный цикл развития растений этой группы заканчивается после оплодотворения и образования семени, зародыш в котором имеет запас питательных веществ и не зависит от внешних факто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6T17:40:53Z</dcterms:created>
  <dc:creator>1</dc:creator>
  <dc:description/>
  <dc:language>en-US</dc:language>
  <cp:lastModifiedBy>Анастасия Зарница</cp:lastModifiedBy>
  <dcterms:modified xsi:type="dcterms:W3CDTF">2017-03-19T11:59:06Z</dcterms:modified>
  <cp:revision>6</cp:revision>
  <dc:subject/>
  <dc:title>Слайд 1</dc:title>
</cp:coreProperties>
</file>