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4.wmf" ContentType="image/x-wmf"/>
  <Override PartName="/ppt/media/image2.wmf" ContentType="image/x-wmf"/>
  <Override PartName="/ppt/media/image5.jpeg" ContentType="image/jpeg"/>
  <Override PartName="/ppt/media/image9.wmf" ContentType="image/x-wmf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7CF5-9788-4AF5-8F51-9698C6D1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EC7-81CF-4C5A-BB47-209214E5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5FE-ADD8-45B9-9C2C-49CBD459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DE7-39E6-4D21-AB7C-F638CD0E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13B6-2086-4A7A-9456-BE2542B9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F1EE-C667-46E9-9BD1-6A4496A6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F5CD-43F9-4BA7-B9C4-4CA1C491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86CA-2D6B-410B-9748-E2BAB039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4122-860B-4BDA-BB12-11232971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A2F8-B20F-462D-8722-DEE2E4D0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2A09-F44C-4F1C-BD8F-6005A8B1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01E-A757-47DA-B233-45A43D20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AE4C-B97D-4210-9166-39FDE0DA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21B5-1CDD-4AED-A3B0-DA8DCEBA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979E-5B1B-418B-BB6B-23E3C01E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99C5-E34C-4A09-952F-0D426346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30F5-4EA2-4DD2-B49E-AF1978A2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925D-AD6C-44AB-AF53-FE5176A1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306-27F5-4D63-AEDD-EA92E191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75A-8F97-47F3-8063-9512F744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A5F-0358-410F-8886-E72C9AB0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131-FDA5-42FF-AEEA-3A3965EF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368-A638-4B40-9F7A-A784F978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CE6-2567-4480-8926-CD158638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E061-C14C-4757-AD92-86C1FCD5642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0808-6C0E-4E12-A9F5-1FDE1CE0BA8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АКРОЭКОНОМИКА 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ема 8.  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БЕЗРАБОТИЦА В РЫНОЧНОЙ ЭКОНОМИКЕ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42920" y="3500280"/>
            <a:ext cx="40640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нд. экон. нау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цент кафед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Экономика и финансы» ОРАГ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ашенина Наталья Валерье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54200" y="2565360"/>
            <a:ext cx="2630520" cy="40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252360" y="333360"/>
            <a:ext cx="957744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11088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Причины безработицы с точки зрения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различных экономических школ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71640" y="1197000"/>
          <a:ext cx="7777080" cy="5597640"/>
        </p:xfrm>
        <a:graphic>
          <a:graphicData uri="http://schemas.openxmlformats.org/drawingml/2006/table">
            <a:tbl>
              <a:tblPr/>
              <a:tblGrid>
                <a:gridCol w="2950920"/>
                <a:gridCol w="482616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Классическая и неоклассическая теория занятости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высокий уровень зарпл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влияние профсоюз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фрикционная и добровольная безработ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превышение сбережений над инвестиция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Марксистская теория занятости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ост темпов накопления капитала, делающий рабочую силу относительно избыточ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научно-технический прогре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ост производительности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цикличность развития рыночного хозя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Кейнсианская и неокейнсианская теория занятости</a:t>
                      </a:r>
                      <a:r>
                        <a:rPr b="0" lang="ru-RU" sz="25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недостаток эффективного спроса, порождающий недогрузку мощностей, низкие темпы экономического роста и вынужденную безработиц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наличие несовершенной конкурен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Монетаристская теория занятости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государственная фискальная политика финансирования бюджетного дефици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негибкость цены тру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920" y="1564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Неэкономические последствия безработицы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- это психологические и социальные и политические последствия потери работы.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6920" y="2781000"/>
            <a:ext cx="78566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сихологические стрессы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 отчаяние, нервные и сердечно-сосудистые заболевания, развал семь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еступление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 асоциальное поведени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На уровне обществ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 рост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оциальной напряженност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 вплоть до политических переворотов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 рост уровня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заболеваемости и смертност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в стране, а также рост уровня преступност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отери, которые несет общество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в связи с расходами на образование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людей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 которые в результате оказываются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не в состоянии их применить, а, следовательно, окупит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476280"/>
            <a:ext cx="853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Политика занятости населения как способ борьбы с безработице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9279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Экономические последствия безработицы</a:t>
            </a:r>
            <a:r>
              <a:rPr b="0" i="1" lang="ru-RU" sz="2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На индивидуальном уровне</a:t>
            </a:r>
            <a:br>
              <a:rPr sz="2200"/>
            </a:b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ru-RU" sz="2100" spc="-1" strike="noStrike">
                <a:solidFill>
                  <a:srgbClr val="003366"/>
                </a:solidFill>
                <a:latin typeface="Verdana"/>
              </a:rPr>
              <a:t>потеря дохода или части дохода;</a:t>
            </a:r>
            <a:br>
              <a:rPr sz="2100"/>
            </a:br>
            <a:r>
              <a:rPr b="0" lang="ru-RU" sz="2100" spc="-1" strike="noStrike">
                <a:solidFill>
                  <a:srgbClr val="003366"/>
                </a:solidFill>
                <a:latin typeface="Verdana"/>
              </a:rPr>
              <a:t>потеря квалификации;</a:t>
            </a:r>
            <a:br>
              <a:rPr sz="2100"/>
            </a:br>
            <a:r>
              <a:rPr b="0" lang="ru-RU" sz="2100" spc="-1" strike="noStrike">
                <a:solidFill>
                  <a:srgbClr val="003366"/>
                </a:solidFill>
                <a:latin typeface="Verdana"/>
              </a:rPr>
              <a:t>возможное снижение уровня будущих доходов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79992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На уровне общества в целом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Verdana"/>
              </a:rPr>
              <a:t>Недопроизводство ВВП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Verdana"/>
              </a:rPr>
              <a:t>Отставание фактического ВВП от потенциального ВВП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Verdana"/>
              </a:rPr>
              <a:t>Снижение жизненного уровня населения, рост бедност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Verdana"/>
              </a:rPr>
              <a:t>Неэффективное использование трудовых ресурс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Verdana"/>
              </a:rPr>
              <a:t>Издержки работодателей и государства на поддержание жизненного уровня безработны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тставание (разрыв) фактического ВВП от потенциального ВВП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тставание ВВП =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де Y – фактический ВВП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Y* - потенциальный ВВП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292720" y="2498760"/>
                <a:ext cx="301320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3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Закона Оукена - зависимость между отставанием объема выпуска (ВВП) и уровнем циклической безработицы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182736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де b -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оэффициент Оукен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b &gt; 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u – это фактический уровень безработиц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u* - естественный уровень безработиц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u - u*) – уровень циклической безработиц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733840" y="1916280"/>
                <a:ext cx="41716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оэффициент Оукен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показывает, на </a:t>
            </a:r>
            <a:r>
              <a:rPr b="1" lang="ru-RU" sz="2500" spc="-1" strike="noStrike">
                <a:solidFill>
                  <a:srgbClr val="006666"/>
                </a:solidFill>
                <a:latin typeface="Verdana"/>
              </a:rPr>
              <a:t>сколько процентов</a:t>
            </a: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006666"/>
                </a:solidFill>
                <a:latin typeface="Verdana"/>
              </a:rPr>
              <a:t>сокращается фактический объем выпуска</a:t>
            </a: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 по сравнению с потенциальным (т.е. на сколько процентов увеличивается отставание), </a:t>
            </a:r>
            <a:r>
              <a:rPr b="1" lang="ru-RU" sz="2500" spc="-1" strike="noStrike">
                <a:solidFill>
                  <a:srgbClr val="006666"/>
                </a:solidFill>
                <a:latin typeface="Verdana"/>
              </a:rPr>
              <a:t>если фактический уровень безработицы увеличивается на 1 процентный пункт</a:t>
            </a: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, т.е. это </a:t>
            </a:r>
            <a:r>
              <a:rPr b="0" i="1" lang="ru-RU" sz="2500" spc="-1" strike="noStrike">
                <a:solidFill>
                  <a:srgbClr val="006666"/>
                </a:solidFill>
                <a:latin typeface="Verdana"/>
              </a:rPr>
              <a:t>коэффициент чувствительности</a:t>
            </a: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 отставания ВВП к изменению уровня циклической безработицы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6920" y="301680"/>
            <a:ext cx="749628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Активная политика занятости населения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- совокупность правовых, организационных и экономических мер, проводимых государством с целью снижения уровня безработицы методами, 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стимулирующими поиск работы и создание рабочих мест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492280"/>
            <a:ext cx="6193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Методы активной политики занят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, переподготовка и повышение квалификац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ый поиск и подбор рабочих ме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ка малого предприниматель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116840" y="3429000"/>
            <a:ext cx="2027160" cy="2171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629000" cy="165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093080" y="4941720"/>
            <a:ext cx="1922400" cy="19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ассивная политика занятости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- совокупность мероприятий, направленных на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сглаживание негативных последствий безработицы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60814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99"/>
                </a:solidFill>
                <a:latin typeface="Verdana"/>
              </a:rPr>
              <a:t>Методы пассивной политики занят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плата пособий по безработиц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плата досрочных пенсий из средств службы занят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материальная помощь безработным родителям из малообеспеченных семей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96360" y="328464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365960" y="1700280"/>
            <a:ext cx="1290600" cy="1297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524720" y="4869000"/>
            <a:ext cx="141912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лан лекции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03280" y="2205000"/>
            <a:ext cx="73137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ущность, причины и виды безработиц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згляды на безработицу в различных экономических теориях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следствия безработиц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кон Оукен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литика занятости населения как способ борьбы с безработиц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собенности процессов на рынке труда Росс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252360" y="255600"/>
            <a:ext cx="964872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000"/>
            <a:ext cx="7234200" cy="23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Безработиц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такое состояние рынка труда, когда часть способного работать по найму населения ничем </a:t>
            </a: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не занят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и не имеет соответствующего </a:t>
            </a: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заработк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(дохода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059280" y="4184640"/>
            <a:ext cx="4299840" cy="1972440"/>
            <a:chOff x="3059280" y="4184640"/>
            <a:chExt cx="4299840" cy="1972440"/>
          </a:xfrm>
        </p:grpSpPr>
        <p:cxnSp>
          <p:nvCxnSpPr>
            <p:cNvPr id="97" name="_s6181"/>
            <p:cNvCxnSpPr>
              <a:stCxn id="98" idx="0"/>
              <a:endCxn id="99" idx="2"/>
            </p:cNvCxnSpPr>
            <p:nvPr/>
          </p:nvCxnSpPr>
          <p:spPr>
            <a:xfrm flipV="1" rot="16200000">
              <a:off x="5096520" y="5082120"/>
              <a:ext cx="273960" cy="925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6178"/>
            <p:cNvCxnSpPr>
              <a:stCxn id="101" idx="0"/>
              <a:endCxn id="99" idx="2"/>
            </p:cNvCxnSpPr>
            <p:nvPr/>
          </p:nvCxnSpPr>
          <p:spPr>
            <a:xfrm flipH="1" flipV="1" rot="5400000">
              <a:off x="4171680" y="5082480"/>
              <a:ext cx="273960" cy="925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6159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760360" y="4104720"/>
              <a:ext cx="275760" cy="1380600"/>
            </a:xfrm>
            <a:prstGeom prst="bentConnector3">
              <a:avLst>
                <a:gd name="adj1" fmla="val 495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6158"/>
            <p:cNvCxnSpPr>
              <a:stCxn id="99" idx="0"/>
              <a:endCxn id="104" idx="2"/>
            </p:cNvCxnSpPr>
            <p:nvPr/>
          </p:nvCxnSpPr>
          <p:spPr>
            <a:xfrm flipH="1" flipV="1" rot="5400000">
              <a:off x="4851720" y="4576320"/>
              <a:ext cx="275760" cy="437760"/>
            </a:xfrm>
            <a:prstGeom prst="bentConnector3">
              <a:avLst>
                <a:gd name="adj1" fmla="val 495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6153"/>
            <p:cNvSpPr/>
            <p:nvPr/>
          </p:nvSpPr>
          <p:spPr>
            <a:xfrm>
              <a:off x="4091040" y="4184640"/>
              <a:ext cx="2234880" cy="473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Виды безработицы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_s6155"/>
            <p:cNvSpPr/>
            <p:nvPr/>
          </p:nvSpPr>
          <p:spPr>
            <a:xfrm>
              <a:off x="4000320" y="4932720"/>
              <a:ext cx="1541880" cy="4744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Естественная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6156"/>
            <p:cNvSpPr/>
            <p:nvPr/>
          </p:nvSpPr>
          <p:spPr>
            <a:xfrm>
              <a:off x="5817240" y="4932720"/>
              <a:ext cx="1541880" cy="4744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Циклическая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6177"/>
            <p:cNvSpPr/>
            <p:nvPr/>
          </p:nvSpPr>
          <p:spPr>
            <a:xfrm>
              <a:off x="3059280" y="5682600"/>
              <a:ext cx="1575360" cy="4744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Фрикционная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6180"/>
            <p:cNvSpPr/>
            <p:nvPr/>
          </p:nvSpPr>
          <p:spPr>
            <a:xfrm>
              <a:off x="4909680" y="5682600"/>
              <a:ext cx="1575360" cy="4744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Структурная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29280" y="1052640"/>
            <a:ext cx="919080" cy="884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1280" y="476280"/>
            <a:ext cx="853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1. Сущность, причины и виды безработицы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65534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Verdana"/>
              </a:rPr>
              <a:t>Циклическая безработиц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– постоянно меняющийся по масштабам, продолжительности и составу вид безработицы, связанный с </a:t>
            </a:r>
            <a:r>
              <a:rPr b="0" lang="ru-RU" sz="2100" spc="-1" strike="noStrike">
                <a:solidFill>
                  <a:srgbClr val="000099"/>
                </a:solidFill>
                <a:latin typeface="Verdana"/>
              </a:rPr>
              <a:t>циклом деловой конъюнктуры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Verdana"/>
              </a:rPr>
              <a:t>Фрикционная безработиц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- форма временной незанятости, вызванная тем, что </a:t>
            </a:r>
            <a:r>
              <a:rPr b="0" lang="ru-RU" sz="2100" spc="-1" strike="noStrike">
                <a:solidFill>
                  <a:srgbClr val="000099"/>
                </a:solidFill>
                <a:latin typeface="Verdana"/>
              </a:rPr>
              <a:t>установление соответствия между работниками и рабочими местам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требует </a:t>
            </a:r>
            <a:r>
              <a:rPr b="0" lang="ru-RU" sz="2100" spc="-1" strike="noStrike">
                <a:solidFill>
                  <a:srgbClr val="000099"/>
                </a:solidFill>
                <a:latin typeface="Verdana"/>
              </a:rPr>
              <a:t>времен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Verdana"/>
              </a:rPr>
              <a:t>Структурная безработиц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означает, что </a:t>
            </a:r>
            <a:r>
              <a:rPr b="0" lang="ru-RU" sz="2100" spc="-1" strike="noStrike">
                <a:solidFill>
                  <a:srgbClr val="000099"/>
                </a:solidFill>
                <a:latin typeface="Verdana"/>
              </a:rPr>
              <a:t>спрос и предложение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на одни и те же </a:t>
            </a:r>
            <a:r>
              <a:rPr b="0" lang="ru-RU" sz="2100" spc="-1" strike="noStrike">
                <a:solidFill>
                  <a:srgbClr val="000099"/>
                </a:solidFill>
                <a:latin typeface="Verdana"/>
              </a:rPr>
              <a:t>професси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в различных фирмах, отраслях, регионах </a:t>
            </a:r>
            <a:r>
              <a:rPr b="0" lang="ru-RU" sz="2100" spc="-1" strike="noStrike">
                <a:solidFill>
                  <a:srgbClr val="000099"/>
                </a:solidFill>
                <a:latin typeface="Verdana"/>
              </a:rPr>
              <a:t>не совпадают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Verdana"/>
              </a:rPr>
              <a:t>Естественная безработиц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– такой уровень безработицы, при наличии которого достигается относительное </a:t>
            </a:r>
            <a:r>
              <a:rPr b="0" lang="ru-RU" sz="2100" spc="-1" strike="noStrike">
                <a:solidFill>
                  <a:srgbClr val="000099"/>
                </a:solidFill>
                <a:latin typeface="Verdana"/>
              </a:rPr>
              <a:t>равновесие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акторов повышения-понижения рыночных цен и заработной платы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451640" y="3213000"/>
            <a:ext cx="1513080" cy="1273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345440" y="1773360"/>
            <a:ext cx="1474560" cy="1474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8172360" y="5013360"/>
            <a:ext cx="900360" cy="757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40720" y="5300640"/>
            <a:ext cx="287280" cy="287280"/>
          </a:xfrm>
          <a:prstGeom prst="plus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42920" y="1268280"/>
            <a:ext cx="5113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Безработным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признаются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трудоспособные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граждане, которые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не имеют работы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и заработка,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зарегистрированы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 органах службы занятости в целях поиска подходящей работы,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ищут работу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и готовы приступить к н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56360" y="234936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370160" y="1827360"/>
            <a:ext cx="35798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43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труктура населения стран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71640" y="1692360"/>
          <a:ext cx="7921080" cy="4113000"/>
        </p:xfrm>
        <a:graphic>
          <a:graphicData uri="http://schemas.openxmlformats.org/drawingml/2006/table">
            <a:tbl>
              <a:tblPr/>
              <a:tblGrid>
                <a:gridCol w="1326240"/>
                <a:gridCol w="1558080"/>
                <a:gridCol w="1796760"/>
                <a:gridCol w="1646640"/>
                <a:gridCol w="1593360"/>
              </a:tblGrid>
              <a:tr h="4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население стран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и активное население (рабочая сила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вшие из состава рабочей силы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экономически неактивные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работ-н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 в трудоспособном возраст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 вне трудо-способного возрас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14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до-способное населен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рудо-способное насел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14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475920"/>
            <a:ext cx="7313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66"/>
                </a:solidFill>
                <a:latin typeface="Arial"/>
              </a:rPr>
              <a:t>Уровень безработицы =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720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ровень безработицы в Росс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207040" y="284040"/>
                <a:ext cx="34686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езработн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</m:t>
                        </m:r>
                        <m:r>
                          <m:rPr>
                            <m:lit/>
                            <m:nor/>
                          </m:rPr>
                          <m:t xml:space="preserve">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7" name=""/>
          <p:cNvGraphicFramePr/>
          <p:nvPr/>
        </p:nvGraphicFramePr>
        <p:xfrm>
          <a:off x="826920" y="2205000"/>
          <a:ext cx="799308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05000"/>
                    <a:ext cx="79930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1-11-02T10:19:16Z</dcterms:modified>
  <cp:revision>55</cp:revision>
  <dc:subject/>
  <dc:title>PowerPoint Presentation</dc:title>
</cp:coreProperties>
</file>