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TYPE.WAV" ContentType="audio/x-wav"/>
  <Override PartName="/ppt/media/image3.png" ContentType="image/png"/>
  <Override PartName="/ppt/media/image2.png" ContentType="image/png"/>
  <Override PartName="/ppt/media/image1.png" ContentType="image/png"/>
  <Override PartName="/ppt/media/image24.wmf" ContentType="image/x-wmf"/>
  <Override PartName="/ppt/media/image13.png" ContentType="image/png"/>
  <Override PartName="/ppt/media/image8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2108-CDDA-459F-870F-68EA12AE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891-B596-4F62-9531-9BACA5D2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80A1-5B8D-4088-B84E-D7623AA5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0F4-AF88-4768-B485-4B4798C3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F612-2640-4DB5-8E99-95BBE4D4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C74A-2FAE-4BC5-9315-6EA348C3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F532-32EB-4D91-9486-B5248815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5DA3-BECF-4463-8766-BB1FA9EA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7D0C-43DD-4EB4-85E5-7D840BAD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4B0F-96AC-4DED-80D5-6BD2D3B2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F42C-672A-479F-A989-EF73E069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C0DC-E992-435C-8640-A82E5616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A321-49B0-41C9-837B-B493BA2A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574D-A72A-4DA9-872E-34F9A0A7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A990-A2A7-41E6-BC9A-B1BF4E36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540A-96FC-4827-AB63-D14F6F50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48D9-4C8F-425F-97BF-D442CE90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FAE-2070-4A0C-8106-5E0AE9D5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32E5-D703-41B1-9481-246839C5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80D-CFBE-4704-8DC1-7ED1B697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D8C9-44F1-40D3-823C-B9B87B78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423-598C-4F80-9E95-E520038B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9D4E-EB5C-45CA-9167-9A93A294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882E-E2F2-40DE-A507-2E8D7794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5797440"/>
            <a:ext cx="9167760" cy="1076400"/>
            <a:chOff x="0" y="5797440"/>
            <a:chExt cx="9167760" cy="1076400"/>
          </a:xfrm>
        </p:grpSpPr>
        <p:sp>
          <p:nvSpPr>
            <p:cNvPr id="1" name="Rectangle 2"/>
            <p:cNvSpPr/>
            <p:nvPr/>
          </p:nvSpPr>
          <p:spPr>
            <a:xfrm>
              <a:off x="0" y="5835600"/>
              <a:ext cx="9166320" cy="1020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16"/>
            <p:cNvGrpSpPr/>
            <p:nvPr/>
          </p:nvGrpSpPr>
          <p:grpSpPr>
            <a:xfrm>
              <a:off x="0" y="5797440"/>
              <a:ext cx="9167760" cy="1076400"/>
              <a:chOff x="0" y="5797440"/>
              <a:chExt cx="9167760" cy="107640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4"/>
              <p:cNvSpPr/>
              <p:nvPr/>
            </p:nvSpPr>
            <p:spPr>
              <a:xfrm>
                <a:off x="68904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1395360" y="5797440"/>
                <a:ext cx="920880" cy="1076400"/>
              </a:xfrm>
              <a:custGeom>
                <a:avLst/>
                <a:gdLst/>
                <a:ahLst/>
                <a:rect l="l" t="t" r="r" b="b"/>
                <a:pathLst>
                  <a:path w="580" h="678">
                    <a:moveTo>
                      <a:pt x="0" y="677"/>
                    </a:moveTo>
                    <a:lnTo>
                      <a:pt x="482" y="0"/>
                    </a:lnTo>
                    <a:lnTo>
                      <a:pt x="579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210348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281160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3517920" y="5797440"/>
                <a:ext cx="920880" cy="1076400"/>
              </a:xfrm>
              <a:custGeom>
                <a:avLst/>
                <a:gdLst/>
                <a:ahLst/>
                <a:rect l="l" t="t" r="r" b="b"/>
                <a:pathLst>
                  <a:path w="580" h="678">
                    <a:moveTo>
                      <a:pt x="0" y="677"/>
                    </a:moveTo>
                    <a:lnTo>
                      <a:pt x="482" y="0"/>
                    </a:lnTo>
                    <a:lnTo>
                      <a:pt x="579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420696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0"/>
              <p:cNvSpPr/>
              <p:nvPr/>
            </p:nvSpPr>
            <p:spPr>
              <a:xfrm>
                <a:off x="491508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564192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>
                <a:off x="6367320" y="5797440"/>
                <a:ext cx="91944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711360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4"/>
              <p:cNvSpPr/>
              <p:nvPr/>
            </p:nvSpPr>
            <p:spPr>
              <a:xfrm>
                <a:off x="784080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5"/>
              <p:cNvSpPr/>
              <p:nvPr/>
            </p:nvSpPr>
            <p:spPr>
              <a:xfrm>
                <a:off x="8593200" y="6072120"/>
                <a:ext cx="574560" cy="801720"/>
              </a:xfrm>
              <a:custGeom>
                <a:avLst/>
                <a:gdLst/>
                <a:ahLst/>
                <a:rect l="l" t="t" r="r" b="b"/>
                <a:pathLst>
                  <a:path w="362" h="505">
                    <a:moveTo>
                      <a:pt x="0" y="504"/>
                    </a:moveTo>
                    <a:lnTo>
                      <a:pt x="361" y="0"/>
                    </a:lnTo>
                    <a:lnTo>
                      <a:pt x="361" y="122"/>
                    </a:lnTo>
                    <a:lnTo>
                      <a:pt x="96" y="504"/>
                    </a:lnTo>
                    <a:lnTo>
                      <a:pt x="0" y="50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9546-4CDC-44D0-922E-45DE2466E0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9"/>
          <p:cNvGrpSpPr/>
          <p:nvPr/>
        </p:nvGrpSpPr>
        <p:grpSpPr>
          <a:xfrm>
            <a:off x="0" y="2760840"/>
            <a:ext cx="9151920" cy="4113000"/>
            <a:chOff x="0" y="2760840"/>
            <a:chExt cx="9151920" cy="4113000"/>
          </a:xfrm>
        </p:grpSpPr>
        <p:grpSp>
          <p:nvGrpSpPr>
            <p:cNvPr id="58" name="Group 17"/>
            <p:cNvGrpSpPr/>
            <p:nvPr/>
          </p:nvGrpSpPr>
          <p:grpSpPr>
            <a:xfrm>
              <a:off x="0" y="5797440"/>
              <a:ext cx="9151920" cy="1076400"/>
              <a:chOff x="0" y="5797440"/>
              <a:chExt cx="9151920" cy="1076400"/>
            </a:xfrm>
          </p:grpSpPr>
          <p:sp>
            <p:nvSpPr>
              <p:cNvPr id="59" name="Rectangle 2"/>
              <p:cNvSpPr/>
              <p:nvPr/>
            </p:nvSpPr>
            <p:spPr>
              <a:xfrm>
                <a:off x="0" y="5835600"/>
                <a:ext cx="9150480" cy="10209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16"/>
              <p:cNvGrpSpPr/>
              <p:nvPr/>
            </p:nvGrpSpPr>
            <p:grpSpPr>
              <a:xfrm>
                <a:off x="0" y="5797440"/>
                <a:ext cx="9151920" cy="1076400"/>
                <a:chOff x="0" y="5797440"/>
                <a:chExt cx="9151920" cy="1076400"/>
              </a:xfrm>
            </p:grpSpPr>
            <p:sp>
              <p:nvSpPr>
                <p:cNvPr id="61" name="Freeform 3"/>
                <p:cNvSpPr/>
                <p:nvPr/>
              </p:nvSpPr>
              <p:spPr>
                <a:xfrm>
                  <a:off x="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4"/>
                <p:cNvSpPr/>
                <p:nvPr/>
              </p:nvSpPr>
              <p:spPr>
                <a:xfrm>
                  <a:off x="687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5"/>
                <p:cNvSpPr/>
                <p:nvPr/>
              </p:nvSpPr>
              <p:spPr>
                <a:xfrm>
                  <a:off x="139392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6"/>
                <p:cNvSpPr/>
                <p:nvPr/>
              </p:nvSpPr>
              <p:spPr>
                <a:xfrm>
                  <a:off x="2100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7"/>
                <p:cNvSpPr/>
                <p:nvPr/>
              </p:nvSpPr>
              <p:spPr>
                <a:xfrm>
                  <a:off x="280656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8"/>
                <p:cNvSpPr/>
                <p:nvPr/>
              </p:nvSpPr>
              <p:spPr>
                <a:xfrm>
                  <a:off x="3513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9"/>
                <p:cNvSpPr/>
                <p:nvPr/>
              </p:nvSpPr>
              <p:spPr>
                <a:xfrm>
                  <a:off x="420048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10"/>
                <p:cNvSpPr/>
                <p:nvPr/>
              </p:nvSpPr>
              <p:spPr>
                <a:xfrm>
                  <a:off x="490536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11"/>
                <p:cNvSpPr/>
                <p:nvPr/>
              </p:nvSpPr>
              <p:spPr>
                <a:xfrm>
                  <a:off x="5630760" y="5797440"/>
                  <a:ext cx="91944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2"/>
                <p:cNvSpPr/>
                <p:nvPr/>
              </p:nvSpPr>
              <p:spPr>
                <a:xfrm>
                  <a:off x="635652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13"/>
                <p:cNvSpPr/>
                <p:nvPr/>
              </p:nvSpPr>
              <p:spPr>
                <a:xfrm>
                  <a:off x="710100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14"/>
                <p:cNvSpPr/>
                <p:nvPr/>
              </p:nvSpPr>
              <p:spPr>
                <a:xfrm>
                  <a:off x="782640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15"/>
                <p:cNvSpPr/>
                <p:nvPr/>
              </p:nvSpPr>
              <p:spPr>
                <a:xfrm>
                  <a:off x="8577360" y="6072120"/>
                  <a:ext cx="574560" cy="801720"/>
                </a:xfrm>
                <a:custGeom>
                  <a:avLst/>
                  <a:gdLst/>
                  <a:ahLst/>
                  <a:rect l="l" t="t" r="r" b="b"/>
                  <a:pathLst>
                    <a:path w="362" h="505">
                      <a:moveTo>
                        <a:pt x="0" y="504"/>
                      </a:moveTo>
                      <a:lnTo>
                        <a:pt x="361" y="0"/>
                      </a:lnTo>
                      <a:lnTo>
                        <a:pt x="361" y="122"/>
                      </a:lnTo>
                      <a:lnTo>
                        <a:pt x="96" y="504"/>
                      </a:lnTo>
                      <a:lnTo>
                        <a:pt x="0" y="50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Freeform 18"/>
            <p:cNvSpPr/>
            <p:nvPr/>
          </p:nvSpPr>
          <p:spPr>
            <a:xfrm>
              <a:off x="0" y="2760840"/>
              <a:ext cx="819000" cy="1449360"/>
            </a:xfrm>
            <a:custGeom>
              <a:avLst/>
              <a:gdLst/>
              <a:ahLst/>
              <a:rect l="l" t="t" r="r" b="b"/>
              <a:pathLst>
                <a:path w="516" h="913">
                  <a:moveTo>
                    <a:pt x="0" y="0"/>
                  </a:moveTo>
                  <a:lnTo>
                    <a:pt x="515" y="0"/>
                  </a:ln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3FD1-043E-4F05-93E4-4D0BDF28EC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4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лезность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9760" y="13284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и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кривые безразличия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19080"/>
            <a:ext cx="849636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смотрим наборы благ, представленные векторам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4,1), (2,3)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2,2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пустим, что потребитель упорядочил их следующим образом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2,3)</a:t>
            </a:r>
            <a:r>
              <a:rPr b="1" lang="en-US" sz="2800" spc="-1" strike="noStrike">
                <a:solidFill>
                  <a:srgbClr val="ffffff"/>
                </a:solidFill>
                <a:latin typeface="Math B"/>
                <a:ea typeface="Math B"/>
              </a:rPr>
              <a:t>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4,1)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2,2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тавим в соответствие этим наборам произвольные числа, сохраняющие упор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чение векторов по предпочтительности, например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(2,3) = 6 &gt; U(4,1) = U(2,2) = 4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зовем эти числа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уровнями полезнос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88688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вая безразличия содержит все одинаково предпочтительные наборы благ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динаковая предпочтительность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дин и тот же уровень полезнос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.о., все наборы, принадлежащие кривой безразличия, обладают одинаковым уровнем полезност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и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кривые безразличия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8120" y="1771560"/>
            <a:ext cx="83440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м самым набор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4,1)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2,2)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адлежат кривой безразличия, уровень полезности которой равен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</a:t>
            </a:r>
            <a:r>
              <a:rPr b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этом набор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2,3)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адлежит кривой безразличия с уровнем полезност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6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диаграмме кривых безразличия данная информация о предпочтительности наборов выглядит следующим образо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2001960"/>
            <a:ext cx="9134640" cy="48448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417720" y="4772160"/>
            <a:ext cx="111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417720" y="5253120"/>
            <a:ext cx="111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580640" y="2027160"/>
            <a:ext cx="3499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2,3)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(2,2)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(4,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621120" y="620388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025360" y="184140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5"/>
          <p:cNvSpPr/>
          <p:nvPr/>
        </p:nvSpPr>
        <p:spPr>
          <a:xfrm flipH="1" flipV="1">
            <a:off x="5435280" y="204264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Функции полезности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2038320"/>
            <a:ext cx="83818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угой способ визуального представления этой информации заключается в откладывании на вертикальной оси значений уровня полезнос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68400" y="2038320"/>
            <a:ext cx="8997840" cy="4772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5241960" y="2638440"/>
            <a:ext cx="1777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U(2,3) = 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299200" y="3552840"/>
            <a:ext cx="1876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U(2,2) = 4 </a:t>
            </a:r>
            <a:br>
              <a:rPr sz="2800"/>
            </a:b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U(4,1) = 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52600" y="12348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585720" y="1347840"/>
            <a:ext cx="819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мерны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фик потребления и уровня полезнос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5013720" y="6157800"/>
            <a:ext cx="497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227840" y="4919760"/>
            <a:ext cx="497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2155320" y="2462040"/>
            <a:ext cx="198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езность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52600" y="1905120"/>
            <a:ext cx="81914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о трехмерное представление предпочтений можно сделать более информативным за счет добавления в него двух кривых безразличия, которым принадлежат рассматриваемые наборы благ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0" y="2001960"/>
            <a:ext cx="9134640" cy="4844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887000" y="4200480"/>
            <a:ext cx="1178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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5015520" y="3205080"/>
            <a:ext cx="1178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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5889600" y="4575240"/>
            <a:ext cx="32544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оложенная выше кривая безразличия содержит более предпочтительные наборы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588680" y="2595600"/>
            <a:ext cx="198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езность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4013640" y="4657680"/>
            <a:ext cx="497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4823280" y="6324480"/>
            <a:ext cx="497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42840" y="17240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авнение большего числа  наборов позволяет получить большее число кривых безразличия, что дает более полное представление о системе предпочтений потребителя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0" y="2000160"/>
            <a:ext cx="9134640" cy="48484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265080" y="4753080"/>
            <a:ext cx="111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336720" y="5234040"/>
            <a:ext cx="111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265080" y="5691240"/>
            <a:ext cx="111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621120" y="620388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2025360" y="184140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едпочтения: справка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19160" y="1819080"/>
            <a:ext cx="770112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ffffff"/>
                </a:solidFill>
                <a:latin typeface="Math B"/>
                <a:ea typeface="Math B"/>
              </a:rPr>
              <a:t>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y: x строго предпочтительнее (лучше) 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y: x и y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динако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 предпочтительны (находятся в отношении безразличия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ffffff"/>
                </a:solidFill>
                <a:latin typeface="Math B"/>
                <a:ea typeface="Math B"/>
              </a:rPr>
              <a:t>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: x не хуже, чем 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14240" y="174312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 и ранее, визуальное представление данной информации может быть проведено в трехмерном измерении за счет расположения кривой безразличия на высоте, равной уровню ее полезност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0" y="2001960"/>
            <a:ext cx="9134640" cy="48448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5198400" y="3276720"/>
            <a:ext cx="111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5198400" y="3814920"/>
            <a:ext cx="111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5198400" y="4300560"/>
            <a:ext cx="111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5198400" y="4809960"/>
            <a:ext cx="111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5198400" y="5295960"/>
            <a:ext cx="111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5198400" y="5834160"/>
            <a:ext cx="111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4870800" y="6300720"/>
            <a:ext cx="497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4418280" y="4829040"/>
            <a:ext cx="497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1855440" y="2595600"/>
            <a:ext cx="198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езность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00280" y="1866960"/>
            <a:ext cx="807696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авнивая по предпочтительности все возможные наборы потребительских благ, получим множество всех возможных кривых безразличия потребителя, каждой из которых приписан свой уровень полезност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о множество всех возможных кривых безразличия полностью описывает систему предпочтений потребителя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9200" y="228240"/>
            <a:ext cx="7958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68400" y="2038320"/>
            <a:ext cx="8997840" cy="47721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4"/>
          <p:cNvSpPr/>
          <p:nvPr/>
        </p:nvSpPr>
        <p:spPr>
          <a:xfrm>
            <a:off x="6392520" y="611352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2296800" y="204156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9200" y="228240"/>
            <a:ext cx="7958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3760" y="2014560"/>
            <a:ext cx="9086760" cy="48196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4"/>
          <p:cNvSpPr/>
          <p:nvPr/>
        </p:nvSpPr>
        <p:spPr>
          <a:xfrm>
            <a:off x="6178320" y="611352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677680" y="247032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9200" y="228240"/>
            <a:ext cx="7958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68400" y="2038320"/>
            <a:ext cx="8997840" cy="47721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5868720" y="611352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201480" y="258912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9200" y="228240"/>
            <a:ext cx="7958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47520" y="2027160"/>
            <a:ext cx="9039240" cy="47944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4"/>
          <p:cNvSpPr/>
          <p:nvPr/>
        </p:nvSpPr>
        <p:spPr>
          <a:xfrm>
            <a:off x="5654160" y="611352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416040" y="280368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9200" y="228240"/>
            <a:ext cx="7958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68400" y="2038320"/>
            <a:ext cx="8997840" cy="47721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"/>
          <p:cNvSpPr/>
          <p:nvPr/>
        </p:nvSpPr>
        <p:spPr>
          <a:xfrm>
            <a:off x="5535360" y="611352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630240" y="306540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9200" y="228240"/>
            <a:ext cx="7958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68400" y="2038320"/>
            <a:ext cx="8997840" cy="47721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5320800" y="611352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773160" y="316080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9200" y="228240"/>
            <a:ext cx="7958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47520" y="2027160"/>
            <a:ext cx="9039240" cy="47944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5225760" y="611352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едпочтения: справка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714320"/>
            <a:ext cx="803916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олнот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Для любых двух наборов благ x и y справедливо одно из следующих соотношений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ибо  x </a:t>
            </a:r>
            <a:r>
              <a:rPr b="1" lang="en-US" sz="2800" spc="-1" strike="noStrike">
                <a:solidFill>
                  <a:srgbClr val="ffffff"/>
                </a:solidFill>
                <a:latin typeface="Math B"/>
                <a:ea typeface="Math B"/>
              </a:rPr>
              <a:t>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y, либо y </a:t>
            </a:r>
            <a:r>
              <a:rPr b="1" lang="en-US" sz="2800" spc="-1" strike="noStrike">
                <a:solidFill>
                  <a:srgbClr val="ffffff"/>
                </a:solidFill>
                <a:latin typeface="Math B"/>
                <a:ea typeface="Math B"/>
              </a:rPr>
              <a:t>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x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ли же и то, и другое выполняются одновременно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9200" y="228240"/>
            <a:ext cx="7958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68400" y="2038320"/>
            <a:ext cx="8997840" cy="47721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5035320" y="611352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9200" y="228240"/>
            <a:ext cx="7958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68400" y="2038320"/>
            <a:ext cx="8997840" cy="47721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"/>
          <p:cNvSpPr/>
          <p:nvPr/>
        </p:nvSpPr>
        <p:spPr>
          <a:xfrm>
            <a:off x="5011200" y="611352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9200" y="228240"/>
            <a:ext cx="7958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71280" y="2039760"/>
            <a:ext cx="8991720" cy="47689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"/>
          <p:cNvSpPr/>
          <p:nvPr/>
        </p:nvSpPr>
        <p:spPr>
          <a:xfrm>
            <a:off x="4868640" y="611352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9200" y="228240"/>
            <a:ext cx="7958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71280" y="2038320"/>
            <a:ext cx="8991720" cy="47721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4"/>
          <p:cNvSpPr/>
          <p:nvPr/>
        </p:nvSpPr>
        <p:spPr>
          <a:xfrm>
            <a:off x="4844520" y="611352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9200" y="228240"/>
            <a:ext cx="7958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68400" y="2038320"/>
            <a:ext cx="8997840" cy="477216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4"/>
          <p:cNvSpPr/>
          <p:nvPr/>
        </p:nvSpPr>
        <p:spPr>
          <a:xfrm>
            <a:off x="4820760" y="611352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9200" y="228240"/>
            <a:ext cx="7958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47520" y="2027160"/>
            <a:ext cx="9039240" cy="47944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4"/>
          <p:cNvSpPr/>
          <p:nvPr/>
        </p:nvSpPr>
        <p:spPr>
          <a:xfrm>
            <a:off x="4844520" y="611352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9200" y="228240"/>
            <a:ext cx="7958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47520" y="2027160"/>
            <a:ext cx="9039240" cy="47944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4844520" y="611352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9200" y="228240"/>
            <a:ext cx="7958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47520" y="2027160"/>
            <a:ext cx="9039240" cy="47944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4"/>
          <p:cNvSpPr/>
          <p:nvPr/>
        </p:nvSpPr>
        <p:spPr>
          <a:xfrm>
            <a:off x="4868640" y="611352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9200" y="228240"/>
            <a:ext cx="7958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47520" y="2027160"/>
            <a:ext cx="9039240" cy="47944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939920" y="611352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Object 5"/>
          <p:cNvGraphicFramePr/>
          <p:nvPr/>
        </p:nvGraphicFramePr>
        <p:xfrm>
          <a:off x="7553160" y="4419720"/>
          <a:ext cx="614520" cy="102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3160" y="4419720"/>
                    <a:ext cx="61452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95080" y="228240"/>
            <a:ext cx="7910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окупность всех кривых безразличия для данного отношения предпочтения называется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артой кривых безраличия 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difference map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рта кривых безразличия есть способ задания функции полезности. Одно есть эквивалентное представление другого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едпочтения: справка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Рефлексивност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Любой набор благ x  всегда не хуже самого себя, т.е. для любого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бор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 имеет место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x </a:t>
            </a:r>
            <a:r>
              <a:rPr b="1" lang="en-US" sz="2800" spc="-1" strike="noStrike">
                <a:solidFill>
                  <a:srgbClr val="ffffff"/>
                </a:solidFill>
                <a:latin typeface="Math B"/>
                <a:ea typeface="Math B"/>
              </a:rPr>
              <a:t>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81040" y="1581120"/>
            <a:ext cx="8229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ля заданного отношения предпочтения </a:t>
            </a:r>
            <a:r>
              <a:rPr b="1" lang="en-US" sz="2800" spc="-1" strike="noStrike">
                <a:solidFill>
                  <a:srgbClr val="ffff00"/>
                </a:solidFill>
                <a:latin typeface="Math B"/>
                <a:ea typeface="Math B"/>
              </a:rPr>
              <a:t>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не существует единственной описывающей его функции полезности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опустим, что U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описывает некоторое конкретное отношение предпочтения </a:t>
            </a:r>
            <a:r>
              <a:rPr b="1" lang="en-US" sz="2800" spc="-1" strike="noStrike">
                <a:solidFill>
                  <a:srgbClr val="ffff00"/>
                </a:solidFill>
                <a:latin typeface="Math B"/>
                <a:ea typeface="Math B"/>
              </a:rPr>
              <a:t>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братимся к ранее рассматривавшимся наборам благ (4,1), (2,3) и (2,2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и поэтому,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(2,3) = 6 &gt; U(4,1) = U(2,2) = 4;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.о., (2,3) </a:t>
            </a:r>
            <a:r>
              <a:rPr b="1" lang="en-US" sz="2800" spc="-1" strike="noStrike">
                <a:solidFill>
                  <a:srgbClr val="ffffff"/>
                </a:solidFill>
                <a:latin typeface="Math B"/>
                <a:ea typeface="Math B"/>
              </a:rPr>
              <a:t>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4,1)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2,2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8840" y="1380600"/>
            <a:ext cx="821988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2,3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Math B"/>
                <a:ea typeface="Math B"/>
              </a:rPr>
              <a:t>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4,1)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2,2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им V = U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огда V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и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(2,3) = 36 &gt; V(4,1) = V(2,2) = 16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то ест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вновь получаем, чт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,3) </a:t>
            </a:r>
            <a:r>
              <a:rPr b="1" lang="en-US" sz="2800" spc="-1" strike="noStrike">
                <a:solidFill>
                  <a:srgbClr val="ffff00"/>
                </a:solidFill>
                <a:latin typeface="Math B"/>
                <a:ea typeface="Math B"/>
              </a:rPr>
              <a:t>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4,1)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2,2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 сохраняет тоже самое упорядочение наборов, что и U. Таким образом,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ункци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исывает одинаковое с U отношение предпочтения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2"/>
          <p:cNvSpPr/>
          <p:nvPr/>
        </p:nvSpPr>
        <p:spPr>
          <a:xfrm>
            <a:off x="3672000" y="1476360"/>
            <a:ext cx="1033200" cy="405000"/>
          </a:xfrm>
          <a:prstGeom prst="rightArrow">
            <a:avLst>
              <a:gd name="adj1" fmla="val 50000"/>
              <a:gd name="adj2" fmla="val 63778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9600" y="1523520"/>
            <a:ext cx="8456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(2,3)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Math B"/>
                <a:ea typeface="Math B"/>
              </a:rPr>
              <a:t>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4,1)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2,2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им W = 2U + 10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огда W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10, в силу чего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(2,3) = 22 &gt; W(4,1) = W(2,2) = 18. Т.о.,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получаем, что  (2,3) </a:t>
            </a:r>
            <a:r>
              <a:rPr b="1" lang="en-US" sz="2800" spc="-1" strike="noStrike">
                <a:solidFill>
                  <a:srgbClr val="ffff00"/>
                </a:solidFill>
                <a:latin typeface="Math B"/>
                <a:ea typeface="Math B"/>
              </a:rPr>
              <a:t>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4,1)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2,2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 сохраняет тоже самое упорядочение наборов по предпочтительности, что U и V, и потому является описанием той же самой системы предпочтений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>
            <a:off x="3324240" y="1619280"/>
            <a:ext cx="1100160" cy="404640"/>
          </a:xfrm>
          <a:prstGeom prst="rightArrow">
            <a:avLst>
              <a:gd name="adj1" fmla="val 50000"/>
              <a:gd name="adj2" fmla="val 6797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Text Box 22"/>
          <p:cNvSpPr/>
          <p:nvPr/>
        </p:nvSpPr>
        <p:spPr>
          <a:xfrm>
            <a:off x="752400" y="1562040"/>
            <a:ext cx="8086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(x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является функцией полезности, описывающей отношение предпочтения </a:t>
            </a:r>
            <a:r>
              <a:rPr b="1" lang="en-US" sz="2800" spc="-1" strike="noStrike">
                <a:solidFill>
                  <a:srgbClr val="ffff00"/>
                </a:solidFill>
                <a:latin typeface="Math B"/>
                <a:ea typeface="Math B"/>
              </a:rPr>
              <a:t>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множестве неотрицательных наборов благ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0"/>
                </a:solidFill>
                <a:latin typeface="Math B"/>
                <a:ea typeface="Math B"/>
              </a:rPr>
              <a:t>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n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(U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есть строго возрастающая функция одного аргумента, то зависимость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 = f(U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также представляет собой функцию полезности, описывающую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ходное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тношение предпочтения </a:t>
            </a:r>
            <a:r>
              <a:rPr b="1" lang="en-US" sz="2800" spc="-1" strike="noStrike">
                <a:solidFill>
                  <a:srgbClr val="ffff00"/>
                </a:solidFill>
                <a:latin typeface="Math B"/>
                <a:ea typeface="Math B"/>
              </a:rPr>
              <a:t>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3040" y="14292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я полезности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90080" y="94284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Теорем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о существовании непрерывной функции полезности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84160" y="2044800"/>
            <a:ext cx="763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усть отношение предпочтения ЛПР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Math B"/>
                <a:ea typeface="Math B"/>
              </a:rPr>
              <a:t>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вляется полным, рефлексивным, транзитивным, непрерывным и строго монотонным. Тогда существует непрерывная функция полезности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 : R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n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описывающая данное отношение предпочтения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791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Благо, анти-благо и нейтральный продук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0280" y="1875960"/>
            <a:ext cx="7905600" cy="400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лаго - продукт, который повышает полезность набора в случае появления в нем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ополнительной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единиц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данного продукта (появление в наборе дополнительной единицы продукта делает набор более предпочтительным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Благо, анти-благо и нейтральный продук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8096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нти-благо - продукт, который снижает полезность набора в случае появления в нем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ополнительной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единиц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данного продукта (появление в наборе дополнительной единицы продукта делает набор менее предпочтительным)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Благо, анти-благо и нейтральный продук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йтральный (безразличный) продукт - продукт, появление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ополнительной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единиц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которого в наборе не сказывается на полезности последнего (появление в наборе дополнительной единицы продукта не изменяет предпочтительности набора)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Благо, анти-благо и нейтральный продук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Line 3"/>
          <p:cNvSpPr/>
          <p:nvPr/>
        </p:nvSpPr>
        <p:spPr>
          <a:xfrm>
            <a:off x="1905120" y="2057400"/>
            <a:ext cx="0" cy="2895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>
            <a:off x="1905120" y="49528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50520" y="1531800"/>
            <a:ext cx="198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езность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6461640" y="4998960"/>
            <a:ext cx="9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rc 7"/>
          <p:cNvSpPr/>
          <p:nvPr/>
        </p:nvSpPr>
        <p:spPr>
          <a:xfrm rot="11940000">
            <a:off x="2209320" y="1752120"/>
            <a:ext cx="3963960" cy="2362320"/>
          </a:xfrm>
          <a:custGeom>
            <a:avLst/>
            <a:gdLst/>
            <a:ahLst/>
            <a:rect l="l" t="t" r="r" b="b"/>
            <a:pathLst>
              <a:path fill="none" w="21609" h="21600">
                <a:moveTo>
                  <a:pt x="21609" y="0"/>
                </a:moveTo>
                <a:cubicBezTo>
                  <a:pt x="21609" y="11929"/>
                  <a:pt x="11938" y="21600"/>
                  <a:pt x="9" y="21600"/>
                </a:cubicBezTo>
                <a:cubicBezTo>
                  <a:pt x="6" y="21600"/>
                  <a:pt x="3" y="21599"/>
                  <a:pt x="0" y="21599"/>
                </a:cubicBezTo>
              </a:path>
              <a:path stroke="0" w="21609" h="21600">
                <a:moveTo>
                  <a:pt x="21609" y="0"/>
                </a:moveTo>
                <a:cubicBezTo>
                  <a:pt x="21609" y="11929"/>
                  <a:pt x="11938" y="21600"/>
                  <a:pt x="9" y="21600"/>
                </a:cubicBezTo>
                <a:cubicBezTo>
                  <a:pt x="6" y="21600"/>
                  <a:pt x="3" y="21599"/>
                  <a:pt x="0" y="21599"/>
                </a:cubicBezTo>
                <a:lnTo>
                  <a:pt x="9" y="0"/>
                </a:lnTo>
                <a:lnTo>
                  <a:pt x="21609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8"/>
          <p:cNvSpPr/>
          <p:nvPr/>
        </p:nvSpPr>
        <p:spPr>
          <a:xfrm>
            <a:off x="4419720" y="2133720"/>
            <a:ext cx="0" cy="28191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>
            <a:off x="4419720" y="4876920"/>
            <a:ext cx="0" cy="1522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4174560" y="5075280"/>
            <a:ext cx="48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1905120" y="4419720"/>
            <a:ext cx="2514600" cy="0"/>
          </a:xfrm>
          <a:prstGeom prst="line">
            <a:avLst/>
          </a:prstGeom>
          <a:ln w="25560">
            <a:solidFill>
              <a:srgbClr val="ffff00"/>
            </a:solidFill>
            <a:prstDash val="lgDash"/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4419720" y="4419720"/>
            <a:ext cx="2666880" cy="0"/>
          </a:xfrm>
          <a:prstGeom prst="line">
            <a:avLst/>
          </a:prstGeom>
          <a:ln w="25560">
            <a:solidFill>
              <a:srgbClr val="ff0033"/>
            </a:solidFill>
            <a:prstDash val="lgDash"/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1698480" y="2579760"/>
            <a:ext cx="3036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Объем воды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в пределах ко-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торого каждая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единица явля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ется благо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4479840" y="2598840"/>
            <a:ext cx="43592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Объем воды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в пределах которого каждая единица является анти-благо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609480" y="5500800"/>
            <a:ext cx="8153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окрестности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единиц малое увеличение воды оказывается нейтральным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6"/>
          <p:cNvSpPr/>
          <p:nvPr/>
        </p:nvSpPr>
        <p:spPr>
          <a:xfrm>
            <a:off x="6746400" y="200808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ункц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езнос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едпочтения: справка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Транзитивност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Если наборы благ x, y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 таковы, что: набор x не хуже, чем набор y, а набор y не хуже, чем набор z, то тогда набор x не хуже набора z, т.е.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 x </a:t>
            </a:r>
            <a:r>
              <a:rPr b="1" lang="en-US" sz="2800" spc="-1" strike="noStrike">
                <a:solidFill>
                  <a:srgbClr val="ffffff"/>
                </a:solidFill>
                <a:latin typeface="Math B"/>
                <a:ea typeface="Math B"/>
              </a:rPr>
              <a:t>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y и y </a:t>
            </a:r>
            <a:r>
              <a:rPr b="1" lang="en-US" sz="2800" spc="-1" strike="noStrike">
                <a:solidFill>
                  <a:srgbClr val="ffffff"/>
                </a:solidFill>
                <a:latin typeface="Math B"/>
                <a:ea typeface="Math B"/>
              </a:rPr>
              <a:t>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z              x </a:t>
            </a:r>
            <a:r>
              <a:rPr b="1" lang="en-US" sz="2800" spc="-1" strike="noStrike">
                <a:solidFill>
                  <a:srgbClr val="ffffff"/>
                </a:solidFill>
                <a:latin typeface="Math B"/>
                <a:ea typeface="Math B"/>
              </a:rPr>
              <a:t>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z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788000" y="3997440"/>
            <a:ext cx="882720" cy="320400"/>
          </a:xfrm>
          <a:prstGeom prst="rightArrow">
            <a:avLst>
              <a:gd name="adj1" fmla="val 50000"/>
              <a:gd name="adj2" fmla="val 13776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95160" y="13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специального вида и их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75920" y="1714320"/>
            <a:ext cx="8134200" cy="44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место функции U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рассмотрим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ов вид кривых безразличия у функции полезности которая описывает предпочтительность наборов, состоящих из благ - “совершенных заменителей”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04880" y="142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Кривые безразличия для благ “совершенных заменителей”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Line 3"/>
          <p:cNvSpPr/>
          <p:nvPr/>
        </p:nvSpPr>
        <p:spPr>
          <a:xfrm>
            <a:off x="1476360" y="1833480"/>
            <a:ext cx="0" cy="3548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4"/>
          <p:cNvSpPr/>
          <p:nvPr/>
        </p:nvSpPr>
        <p:spPr>
          <a:xfrm>
            <a:off x="1476360" y="5386320"/>
            <a:ext cx="4095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5"/>
          <p:cNvSpPr/>
          <p:nvPr/>
        </p:nvSpPr>
        <p:spPr>
          <a:xfrm>
            <a:off x="1476360" y="4119480"/>
            <a:ext cx="1262160" cy="12621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1476360" y="3309840"/>
            <a:ext cx="2079720" cy="20797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>
            <a:off x="1476360" y="2476440"/>
            <a:ext cx="2905200" cy="2905200"/>
          </a:xfrm>
          <a:prstGeom prst="line">
            <a:avLst/>
          </a:prstGeom>
          <a:ln w="507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2511360" y="534816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1101600" y="386244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3349440" y="534816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1101600" y="307512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4060800" y="5348160"/>
            <a:ext cx="58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898560" y="2249640"/>
            <a:ext cx="58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4"/>
          <p:cNvSpPr/>
          <p:nvPr/>
        </p:nvSpPr>
        <p:spPr>
          <a:xfrm>
            <a:off x="5528880" y="538020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5"/>
          <p:cNvSpPr/>
          <p:nvPr/>
        </p:nvSpPr>
        <p:spPr>
          <a:xfrm>
            <a:off x="861480" y="124632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3710160" y="1851120"/>
            <a:ext cx="205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x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7"/>
          <p:cNvSpPr/>
          <p:nvPr/>
        </p:nvSpPr>
        <p:spPr>
          <a:xfrm>
            <a:off x="4234320" y="2637000"/>
            <a:ext cx="205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9933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 + x</a:t>
            </a:r>
            <a:r>
              <a:rPr b="1" lang="en-US" sz="3200" spc="-1" strike="noStrike" baseline="-25000">
                <a:solidFill>
                  <a:srgbClr val="ff9933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 = 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8"/>
          <p:cNvSpPr/>
          <p:nvPr/>
        </p:nvSpPr>
        <p:spPr>
          <a:xfrm>
            <a:off x="4996080" y="3422520"/>
            <a:ext cx="2275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+ x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= 1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rc 19"/>
          <p:cNvSpPr/>
          <p:nvPr/>
        </p:nvSpPr>
        <p:spPr>
          <a:xfrm>
            <a:off x="1692360" y="2168640"/>
            <a:ext cx="1904760" cy="214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21600"/>
                </a:moveTo>
                <a:cubicBezTo>
                  <a:pt x="0" y="9677"/>
                  <a:pt x="9659" y="9"/>
                  <a:pt x="21582" y="0"/>
                </a:cubicBezTo>
              </a:path>
              <a:path stroke="0" w="21600" h="21600">
                <a:moveTo>
                  <a:pt x="0" y="21600"/>
                </a:moveTo>
                <a:cubicBezTo>
                  <a:pt x="0" y="9677"/>
                  <a:pt x="9659" y="9"/>
                  <a:pt x="21582" y="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20"/>
          <p:cNvSpPr/>
          <p:nvPr/>
        </p:nvSpPr>
        <p:spPr>
          <a:xfrm>
            <a:off x="2216160" y="2978280"/>
            <a:ext cx="1928880" cy="9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21600"/>
                </a:moveTo>
                <a:cubicBezTo>
                  <a:pt x="0" y="9677"/>
                  <a:pt x="9659" y="9"/>
                  <a:pt x="21582" y="0"/>
                </a:cubicBezTo>
              </a:path>
              <a:path stroke="0" w="21600" h="21600">
                <a:moveTo>
                  <a:pt x="0" y="21600"/>
                </a:moveTo>
                <a:cubicBezTo>
                  <a:pt x="0" y="9677"/>
                  <a:pt x="9659" y="9"/>
                  <a:pt x="21582" y="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rc 21"/>
          <p:cNvSpPr/>
          <p:nvPr/>
        </p:nvSpPr>
        <p:spPr>
          <a:xfrm>
            <a:off x="3105000" y="3741840"/>
            <a:ext cx="1827360" cy="452160"/>
          </a:xfrm>
          <a:custGeom>
            <a:avLst/>
            <a:gdLst/>
            <a:ahLst/>
            <a:rect l="l" t="t" r="r" b="b"/>
            <a:pathLst>
              <a:path fill="none" w="19973" h="21600">
                <a:moveTo>
                  <a:pt x="-1" y="13375"/>
                </a:moveTo>
                <a:cubicBezTo>
                  <a:pt x="3329" y="5289"/>
                  <a:pt x="11206" y="8"/>
                  <a:pt x="19952" y="0"/>
                </a:cubicBezTo>
              </a:path>
              <a:path stroke="0" w="19973" h="21600">
                <a:moveTo>
                  <a:pt x="-1" y="13375"/>
                </a:moveTo>
                <a:cubicBezTo>
                  <a:pt x="3329" y="5289"/>
                  <a:pt x="11206" y="8"/>
                  <a:pt x="19952" y="0"/>
                </a:cubicBezTo>
                <a:lnTo>
                  <a:pt x="19973" y="21600"/>
                </a:lnTo>
                <a:lnTo>
                  <a:pt x="-1" y="13375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4823640" y="4344840"/>
            <a:ext cx="3301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(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= 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Кривые безразличия для благ “совершенных заменителей”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Line 3"/>
          <p:cNvSpPr/>
          <p:nvPr/>
        </p:nvSpPr>
        <p:spPr>
          <a:xfrm>
            <a:off x="1476360" y="1833480"/>
            <a:ext cx="0" cy="3548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4"/>
          <p:cNvSpPr/>
          <p:nvPr/>
        </p:nvSpPr>
        <p:spPr>
          <a:xfrm>
            <a:off x="1476360" y="5386320"/>
            <a:ext cx="4095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6"/>
          <p:cNvSpPr/>
          <p:nvPr/>
        </p:nvSpPr>
        <p:spPr>
          <a:xfrm>
            <a:off x="1476360" y="4119480"/>
            <a:ext cx="1262160" cy="12621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7"/>
          <p:cNvSpPr/>
          <p:nvPr/>
        </p:nvSpPr>
        <p:spPr>
          <a:xfrm>
            <a:off x="1476360" y="3309840"/>
            <a:ext cx="2079720" cy="20797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8"/>
          <p:cNvSpPr/>
          <p:nvPr/>
        </p:nvSpPr>
        <p:spPr>
          <a:xfrm>
            <a:off x="1476360" y="2476440"/>
            <a:ext cx="2905200" cy="2905200"/>
          </a:xfrm>
          <a:prstGeom prst="line">
            <a:avLst/>
          </a:prstGeom>
          <a:ln w="507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2511360" y="534816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1101600" y="386244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3349440" y="534816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1101600" y="307512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4060800" y="5348160"/>
            <a:ext cx="58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898560" y="2249640"/>
            <a:ext cx="58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15"/>
          <p:cNvSpPr/>
          <p:nvPr/>
        </p:nvSpPr>
        <p:spPr>
          <a:xfrm>
            <a:off x="5528880" y="538020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6"/>
          <p:cNvSpPr/>
          <p:nvPr/>
        </p:nvSpPr>
        <p:spPr>
          <a:xfrm>
            <a:off x="861480" y="124632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7"/>
          <p:cNvSpPr/>
          <p:nvPr/>
        </p:nvSpPr>
        <p:spPr>
          <a:xfrm>
            <a:off x="3710160" y="1851120"/>
            <a:ext cx="205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x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8"/>
          <p:cNvSpPr/>
          <p:nvPr/>
        </p:nvSpPr>
        <p:spPr>
          <a:xfrm>
            <a:off x="4234320" y="2637000"/>
            <a:ext cx="205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9933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 + x</a:t>
            </a:r>
            <a:r>
              <a:rPr b="1" lang="en-US" sz="3200" spc="-1" strike="noStrike" baseline="-25000">
                <a:solidFill>
                  <a:srgbClr val="ff9933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 = 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9"/>
          <p:cNvSpPr/>
          <p:nvPr/>
        </p:nvSpPr>
        <p:spPr>
          <a:xfrm>
            <a:off x="4996080" y="3422520"/>
            <a:ext cx="2275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+ x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= 1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Arc 20"/>
          <p:cNvSpPr/>
          <p:nvPr/>
        </p:nvSpPr>
        <p:spPr>
          <a:xfrm>
            <a:off x="1692360" y="2168640"/>
            <a:ext cx="1904760" cy="214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21600"/>
                </a:moveTo>
                <a:cubicBezTo>
                  <a:pt x="0" y="9677"/>
                  <a:pt x="9659" y="9"/>
                  <a:pt x="21582" y="0"/>
                </a:cubicBezTo>
              </a:path>
              <a:path stroke="0" w="21600" h="21600">
                <a:moveTo>
                  <a:pt x="0" y="21600"/>
                </a:moveTo>
                <a:cubicBezTo>
                  <a:pt x="0" y="9677"/>
                  <a:pt x="9659" y="9"/>
                  <a:pt x="21582" y="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Arc 21"/>
          <p:cNvSpPr/>
          <p:nvPr/>
        </p:nvSpPr>
        <p:spPr>
          <a:xfrm>
            <a:off x="2216160" y="2978280"/>
            <a:ext cx="1928880" cy="9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21600"/>
                </a:moveTo>
                <a:cubicBezTo>
                  <a:pt x="0" y="9677"/>
                  <a:pt x="9659" y="9"/>
                  <a:pt x="21582" y="0"/>
                </a:cubicBezTo>
              </a:path>
              <a:path stroke="0" w="21600" h="21600">
                <a:moveTo>
                  <a:pt x="0" y="21600"/>
                </a:moveTo>
                <a:cubicBezTo>
                  <a:pt x="0" y="9677"/>
                  <a:pt x="9659" y="9"/>
                  <a:pt x="21582" y="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3"/>
          <p:cNvSpPr/>
          <p:nvPr/>
        </p:nvSpPr>
        <p:spPr>
          <a:xfrm>
            <a:off x="399960" y="5946840"/>
            <a:ext cx="8115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ривые безразличия представляют собой параллельные лини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Arc 24"/>
          <p:cNvSpPr/>
          <p:nvPr/>
        </p:nvSpPr>
        <p:spPr>
          <a:xfrm>
            <a:off x="3105000" y="3741840"/>
            <a:ext cx="1827360" cy="452160"/>
          </a:xfrm>
          <a:custGeom>
            <a:avLst/>
            <a:gdLst/>
            <a:ahLst/>
            <a:rect l="l" t="t" r="r" b="b"/>
            <a:pathLst>
              <a:path fill="none" w="19973" h="21600">
                <a:moveTo>
                  <a:pt x="-1" y="13375"/>
                </a:moveTo>
                <a:cubicBezTo>
                  <a:pt x="3329" y="5289"/>
                  <a:pt x="11206" y="8"/>
                  <a:pt x="19952" y="0"/>
                </a:cubicBezTo>
              </a:path>
              <a:path stroke="0" w="19973" h="21600">
                <a:moveTo>
                  <a:pt x="-1" y="13375"/>
                </a:moveTo>
                <a:cubicBezTo>
                  <a:pt x="3329" y="5289"/>
                  <a:pt x="11206" y="8"/>
                  <a:pt x="19952" y="0"/>
                </a:cubicBezTo>
                <a:lnTo>
                  <a:pt x="19973" y="21600"/>
                </a:lnTo>
                <a:lnTo>
                  <a:pt x="-1" y="13375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25"/>
          <p:cNvSpPr/>
          <p:nvPr/>
        </p:nvSpPr>
        <p:spPr>
          <a:xfrm>
            <a:off x="4823640" y="4344840"/>
            <a:ext cx="3301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(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= 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специального вида и их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43040" y="170496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ряду 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функц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езности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и V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рассмотри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функцию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(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= min{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}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ов вид кривых безразличия у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ой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ункции полезност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которая описыв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т предпочтительность наборов, состоящих из взаимодополняющих благ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Кривые безразличия для взаимодополняемых благ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Line 3"/>
          <p:cNvSpPr/>
          <p:nvPr/>
        </p:nvSpPr>
        <p:spPr>
          <a:xfrm>
            <a:off x="1476360" y="1833480"/>
            <a:ext cx="0" cy="3548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4"/>
          <p:cNvSpPr/>
          <p:nvPr/>
        </p:nvSpPr>
        <p:spPr>
          <a:xfrm>
            <a:off x="1476360" y="5386320"/>
            <a:ext cx="4095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861480" y="124632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5528880" y="538020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8"/>
          <p:cNvSpPr/>
          <p:nvPr/>
        </p:nvSpPr>
        <p:spPr>
          <a:xfrm flipV="1">
            <a:off x="1476360" y="2143080"/>
            <a:ext cx="3214800" cy="3214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4584600" y="1731960"/>
            <a:ext cx="77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10"/>
          <p:cNvSpPr/>
          <p:nvPr/>
        </p:nvSpPr>
        <p:spPr>
          <a:xfrm flipH="1">
            <a:off x="1469880" y="4713120"/>
            <a:ext cx="64944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11"/>
          <p:cNvSpPr/>
          <p:nvPr/>
        </p:nvSpPr>
        <p:spPr>
          <a:xfrm>
            <a:off x="2147760" y="4713120"/>
            <a:ext cx="0" cy="67788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12"/>
          <p:cNvSpPr/>
          <p:nvPr/>
        </p:nvSpPr>
        <p:spPr>
          <a:xfrm flipH="1">
            <a:off x="1469520" y="4179960"/>
            <a:ext cx="11970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2666880" y="4179960"/>
            <a:ext cx="0" cy="121104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14"/>
          <p:cNvSpPr/>
          <p:nvPr/>
        </p:nvSpPr>
        <p:spPr>
          <a:xfrm flipH="1">
            <a:off x="1484280" y="3486240"/>
            <a:ext cx="189072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15"/>
          <p:cNvSpPr/>
          <p:nvPr/>
        </p:nvSpPr>
        <p:spPr>
          <a:xfrm>
            <a:off x="3375000" y="3471840"/>
            <a:ext cx="0" cy="19191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Group 18"/>
          <p:cNvGrpSpPr/>
          <p:nvPr/>
        </p:nvGrpSpPr>
        <p:grpSpPr>
          <a:xfrm>
            <a:off x="3371760" y="1495440"/>
            <a:ext cx="1978200" cy="1990800"/>
            <a:chOff x="3371760" y="1495440"/>
            <a:chExt cx="1978200" cy="1990800"/>
          </a:xfrm>
        </p:grpSpPr>
        <p:sp>
          <p:nvSpPr>
            <p:cNvPr id="356" name="Line 16"/>
            <p:cNvSpPr/>
            <p:nvPr/>
          </p:nvSpPr>
          <p:spPr>
            <a:xfrm flipV="1">
              <a:off x="3371760" y="1495440"/>
              <a:ext cx="0" cy="1976400"/>
            </a:xfrm>
            <a:prstGeom prst="line">
              <a:avLst/>
            </a:prstGeom>
            <a:ln w="507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7"/>
            <p:cNvSpPr/>
            <p:nvPr/>
          </p:nvSpPr>
          <p:spPr>
            <a:xfrm flipH="1">
              <a:off x="3373560" y="3486240"/>
              <a:ext cx="1976400" cy="0"/>
            </a:xfrm>
            <a:prstGeom prst="line">
              <a:avLst/>
            </a:prstGeom>
            <a:ln w="507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Group 21"/>
          <p:cNvGrpSpPr/>
          <p:nvPr/>
        </p:nvGrpSpPr>
        <p:grpSpPr>
          <a:xfrm>
            <a:off x="2666880" y="2190240"/>
            <a:ext cx="1978200" cy="1991160"/>
            <a:chOff x="2666880" y="2190240"/>
            <a:chExt cx="1978200" cy="1991160"/>
          </a:xfrm>
        </p:grpSpPr>
        <p:sp>
          <p:nvSpPr>
            <p:cNvPr id="359" name="Line 19"/>
            <p:cNvSpPr/>
            <p:nvPr/>
          </p:nvSpPr>
          <p:spPr>
            <a:xfrm flipV="1">
              <a:off x="2666880" y="2190240"/>
              <a:ext cx="0" cy="1976760"/>
            </a:xfrm>
            <a:prstGeom prst="line">
              <a:avLst/>
            </a:prstGeom>
            <a:ln w="507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0"/>
            <p:cNvSpPr/>
            <p:nvPr/>
          </p:nvSpPr>
          <p:spPr>
            <a:xfrm flipH="1">
              <a:off x="2668680" y="4181400"/>
              <a:ext cx="1976400" cy="0"/>
            </a:xfrm>
            <a:prstGeom prst="line">
              <a:avLst/>
            </a:prstGeom>
            <a:ln w="507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Group 24"/>
          <p:cNvGrpSpPr/>
          <p:nvPr/>
        </p:nvGrpSpPr>
        <p:grpSpPr>
          <a:xfrm>
            <a:off x="2143080" y="2733840"/>
            <a:ext cx="1978200" cy="1990440"/>
            <a:chOff x="2143080" y="2733840"/>
            <a:chExt cx="1978200" cy="1990440"/>
          </a:xfrm>
        </p:grpSpPr>
        <p:sp>
          <p:nvSpPr>
            <p:cNvPr id="362" name="Line 22"/>
            <p:cNvSpPr/>
            <p:nvPr/>
          </p:nvSpPr>
          <p:spPr>
            <a:xfrm flipV="1">
              <a:off x="2143080" y="2733840"/>
              <a:ext cx="0" cy="19764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3"/>
            <p:cNvSpPr/>
            <p:nvPr/>
          </p:nvSpPr>
          <p:spPr>
            <a:xfrm flipH="1">
              <a:off x="2144880" y="4724280"/>
              <a:ext cx="19764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Rectangle 25"/>
          <p:cNvSpPr/>
          <p:nvPr/>
        </p:nvSpPr>
        <p:spPr>
          <a:xfrm>
            <a:off x="5664600" y="3162240"/>
            <a:ext cx="2739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min{x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,x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} = 8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6"/>
          <p:cNvSpPr/>
          <p:nvPr/>
        </p:nvSpPr>
        <p:spPr>
          <a:xfrm>
            <a:off x="1939320" y="535464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27"/>
          <p:cNvSpPr/>
          <p:nvPr/>
        </p:nvSpPr>
        <p:spPr>
          <a:xfrm>
            <a:off x="2460240" y="53532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28"/>
          <p:cNvSpPr/>
          <p:nvPr/>
        </p:nvSpPr>
        <p:spPr>
          <a:xfrm>
            <a:off x="3166560" y="535464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29"/>
          <p:cNvSpPr/>
          <p:nvPr/>
        </p:nvSpPr>
        <p:spPr>
          <a:xfrm>
            <a:off x="1042560" y="44164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30"/>
          <p:cNvSpPr/>
          <p:nvPr/>
        </p:nvSpPr>
        <p:spPr>
          <a:xfrm>
            <a:off x="1044000" y="389556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1"/>
          <p:cNvSpPr/>
          <p:nvPr/>
        </p:nvSpPr>
        <p:spPr>
          <a:xfrm>
            <a:off x="1058400" y="32050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32"/>
          <p:cNvSpPr/>
          <p:nvPr/>
        </p:nvSpPr>
        <p:spPr>
          <a:xfrm>
            <a:off x="4913640" y="3868560"/>
            <a:ext cx="2739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min{x</a:t>
            </a:r>
            <a:r>
              <a:rPr b="1" lang="en-US" sz="32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,x</a:t>
            </a:r>
            <a:r>
              <a:rPr b="1" lang="en-US" sz="32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} = 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33"/>
          <p:cNvSpPr/>
          <p:nvPr/>
        </p:nvSpPr>
        <p:spPr>
          <a:xfrm>
            <a:off x="4424760" y="4446720"/>
            <a:ext cx="2739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n{x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,x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} = 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34"/>
          <p:cNvSpPr/>
          <p:nvPr/>
        </p:nvSpPr>
        <p:spPr>
          <a:xfrm>
            <a:off x="609480" y="5803920"/>
            <a:ext cx="815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вокупность прямых углов, вершины которых лежат на луче, исходящем из вершин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35"/>
          <p:cNvSpPr/>
          <p:nvPr/>
        </p:nvSpPr>
        <p:spPr>
          <a:xfrm>
            <a:off x="5014080" y="2320920"/>
            <a:ext cx="399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(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= min{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специального вида и их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71320" y="1771560"/>
            <a:ext cx="830556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ункция полезности вида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U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f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вляется линейной только по переменной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Такого рода зависимости называются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квазилинейными (quasi-linear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пример,  U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6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Кривые безразличия квазилинейной функции полезности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Line 3"/>
          <p:cNvSpPr/>
          <p:nvPr/>
        </p:nvSpPr>
        <p:spPr>
          <a:xfrm>
            <a:off x="6000840" y="4786200"/>
            <a:ext cx="23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Freeform 19"/>
          <p:cNvSpPr/>
          <p:nvPr/>
        </p:nvSpPr>
        <p:spPr>
          <a:xfrm>
            <a:off x="907920" y="3936960"/>
            <a:ext cx="4191120" cy="1855800"/>
          </a:xfrm>
          <a:custGeom>
            <a:avLst/>
            <a:gdLst/>
            <a:ahLst/>
            <a:rect l="l" t="t" r="r" b="b"/>
            <a:pathLst>
              <a:path w="2532" h="1265">
                <a:moveTo>
                  <a:pt x="0" y="0"/>
                </a:moveTo>
                <a:lnTo>
                  <a:pt x="13" y="90"/>
                </a:lnTo>
                <a:lnTo>
                  <a:pt x="26" y="126"/>
                </a:lnTo>
                <a:lnTo>
                  <a:pt x="38" y="155"/>
                </a:lnTo>
                <a:lnTo>
                  <a:pt x="51" y="179"/>
                </a:lnTo>
                <a:lnTo>
                  <a:pt x="64" y="200"/>
                </a:lnTo>
                <a:lnTo>
                  <a:pt x="76" y="220"/>
                </a:lnTo>
                <a:lnTo>
                  <a:pt x="89" y="236"/>
                </a:lnTo>
                <a:lnTo>
                  <a:pt x="102" y="253"/>
                </a:lnTo>
                <a:lnTo>
                  <a:pt x="114" y="269"/>
                </a:lnTo>
                <a:lnTo>
                  <a:pt x="127" y="283"/>
                </a:lnTo>
                <a:lnTo>
                  <a:pt x="139" y="297"/>
                </a:lnTo>
                <a:lnTo>
                  <a:pt x="152" y="310"/>
                </a:lnTo>
                <a:lnTo>
                  <a:pt x="165" y="322"/>
                </a:lnTo>
                <a:lnTo>
                  <a:pt x="177" y="335"/>
                </a:lnTo>
                <a:lnTo>
                  <a:pt x="190" y="346"/>
                </a:lnTo>
                <a:lnTo>
                  <a:pt x="203" y="358"/>
                </a:lnTo>
                <a:lnTo>
                  <a:pt x="215" y="369"/>
                </a:lnTo>
                <a:lnTo>
                  <a:pt x="228" y="379"/>
                </a:lnTo>
                <a:lnTo>
                  <a:pt x="241" y="391"/>
                </a:lnTo>
                <a:lnTo>
                  <a:pt x="253" y="401"/>
                </a:lnTo>
                <a:lnTo>
                  <a:pt x="266" y="409"/>
                </a:lnTo>
                <a:lnTo>
                  <a:pt x="279" y="420"/>
                </a:lnTo>
                <a:lnTo>
                  <a:pt x="291" y="430"/>
                </a:lnTo>
                <a:lnTo>
                  <a:pt x="304" y="439"/>
                </a:lnTo>
                <a:lnTo>
                  <a:pt x="317" y="447"/>
                </a:lnTo>
                <a:lnTo>
                  <a:pt x="329" y="456"/>
                </a:lnTo>
                <a:lnTo>
                  <a:pt x="342" y="465"/>
                </a:lnTo>
                <a:lnTo>
                  <a:pt x="354" y="474"/>
                </a:lnTo>
                <a:lnTo>
                  <a:pt x="367" y="482"/>
                </a:lnTo>
                <a:lnTo>
                  <a:pt x="380" y="490"/>
                </a:lnTo>
                <a:lnTo>
                  <a:pt x="392" y="498"/>
                </a:lnTo>
                <a:lnTo>
                  <a:pt x="405" y="507"/>
                </a:lnTo>
                <a:lnTo>
                  <a:pt x="418" y="514"/>
                </a:lnTo>
                <a:lnTo>
                  <a:pt x="430" y="522"/>
                </a:lnTo>
                <a:lnTo>
                  <a:pt x="443" y="530"/>
                </a:lnTo>
                <a:lnTo>
                  <a:pt x="456" y="537"/>
                </a:lnTo>
                <a:lnTo>
                  <a:pt x="468" y="545"/>
                </a:lnTo>
                <a:lnTo>
                  <a:pt x="481" y="551"/>
                </a:lnTo>
                <a:lnTo>
                  <a:pt x="494" y="559"/>
                </a:lnTo>
                <a:lnTo>
                  <a:pt x="506" y="566"/>
                </a:lnTo>
                <a:lnTo>
                  <a:pt x="519" y="573"/>
                </a:lnTo>
                <a:lnTo>
                  <a:pt x="531" y="580"/>
                </a:lnTo>
                <a:lnTo>
                  <a:pt x="544" y="586"/>
                </a:lnTo>
                <a:lnTo>
                  <a:pt x="557" y="594"/>
                </a:lnTo>
                <a:lnTo>
                  <a:pt x="569" y="600"/>
                </a:lnTo>
                <a:lnTo>
                  <a:pt x="582" y="607"/>
                </a:lnTo>
                <a:lnTo>
                  <a:pt x="595" y="613"/>
                </a:lnTo>
                <a:lnTo>
                  <a:pt x="607" y="619"/>
                </a:lnTo>
                <a:lnTo>
                  <a:pt x="620" y="627"/>
                </a:lnTo>
                <a:lnTo>
                  <a:pt x="633" y="633"/>
                </a:lnTo>
                <a:lnTo>
                  <a:pt x="645" y="640"/>
                </a:lnTo>
                <a:lnTo>
                  <a:pt x="658" y="646"/>
                </a:lnTo>
                <a:lnTo>
                  <a:pt x="671" y="651"/>
                </a:lnTo>
                <a:lnTo>
                  <a:pt x="683" y="657"/>
                </a:lnTo>
                <a:lnTo>
                  <a:pt x="696" y="664"/>
                </a:lnTo>
                <a:lnTo>
                  <a:pt x="709" y="670"/>
                </a:lnTo>
                <a:lnTo>
                  <a:pt x="721" y="675"/>
                </a:lnTo>
                <a:lnTo>
                  <a:pt x="734" y="681"/>
                </a:lnTo>
                <a:lnTo>
                  <a:pt x="746" y="688"/>
                </a:lnTo>
                <a:lnTo>
                  <a:pt x="759" y="693"/>
                </a:lnTo>
                <a:lnTo>
                  <a:pt x="772" y="699"/>
                </a:lnTo>
                <a:lnTo>
                  <a:pt x="784" y="704"/>
                </a:lnTo>
                <a:lnTo>
                  <a:pt x="798" y="710"/>
                </a:lnTo>
                <a:lnTo>
                  <a:pt x="811" y="715"/>
                </a:lnTo>
                <a:lnTo>
                  <a:pt x="824" y="722"/>
                </a:lnTo>
                <a:lnTo>
                  <a:pt x="836" y="727"/>
                </a:lnTo>
                <a:lnTo>
                  <a:pt x="849" y="732"/>
                </a:lnTo>
                <a:lnTo>
                  <a:pt x="862" y="738"/>
                </a:lnTo>
                <a:lnTo>
                  <a:pt x="874" y="743"/>
                </a:lnTo>
                <a:lnTo>
                  <a:pt x="887" y="748"/>
                </a:lnTo>
                <a:lnTo>
                  <a:pt x="899" y="753"/>
                </a:lnTo>
                <a:lnTo>
                  <a:pt x="912" y="760"/>
                </a:lnTo>
                <a:lnTo>
                  <a:pt x="925" y="765"/>
                </a:lnTo>
                <a:lnTo>
                  <a:pt x="937" y="770"/>
                </a:lnTo>
                <a:lnTo>
                  <a:pt x="950" y="775"/>
                </a:lnTo>
                <a:lnTo>
                  <a:pt x="963" y="780"/>
                </a:lnTo>
                <a:lnTo>
                  <a:pt x="975" y="785"/>
                </a:lnTo>
                <a:lnTo>
                  <a:pt x="988" y="790"/>
                </a:lnTo>
                <a:lnTo>
                  <a:pt x="1001" y="795"/>
                </a:lnTo>
                <a:lnTo>
                  <a:pt x="1013" y="800"/>
                </a:lnTo>
                <a:lnTo>
                  <a:pt x="1026" y="805"/>
                </a:lnTo>
                <a:lnTo>
                  <a:pt x="1039" y="810"/>
                </a:lnTo>
                <a:lnTo>
                  <a:pt x="1051" y="815"/>
                </a:lnTo>
                <a:lnTo>
                  <a:pt x="1064" y="820"/>
                </a:lnTo>
                <a:lnTo>
                  <a:pt x="1076" y="825"/>
                </a:lnTo>
                <a:lnTo>
                  <a:pt x="1089" y="829"/>
                </a:lnTo>
                <a:lnTo>
                  <a:pt x="1102" y="834"/>
                </a:lnTo>
                <a:lnTo>
                  <a:pt x="1114" y="839"/>
                </a:lnTo>
                <a:lnTo>
                  <a:pt x="1127" y="844"/>
                </a:lnTo>
                <a:lnTo>
                  <a:pt x="1140" y="849"/>
                </a:lnTo>
                <a:lnTo>
                  <a:pt x="1152" y="853"/>
                </a:lnTo>
                <a:lnTo>
                  <a:pt x="1165" y="858"/>
                </a:lnTo>
                <a:lnTo>
                  <a:pt x="1178" y="863"/>
                </a:lnTo>
                <a:lnTo>
                  <a:pt x="1190" y="867"/>
                </a:lnTo>
                <a:lnTo>
                  <a:pt x="1203" y="872"/>
                </a:lnTo>
                <a:lnTo>
                  <a:pt x="1216" y="877"/>
                </a:lnTo>
                <a:lnTo>
                  <a:pt x="1228" y="881"/>
                </a:lnTo>
                <a:lnTo>
                  <a:pt x="1241" y="886"/>
                </a:lnTo>
                <a:lnTo>
                  <a:pt x="1254" y="890"/>
                </a:lnTo>
                <a:lnTo>
                  <a:pt x="1266" y="895"/>
                </a:lnTo>
                <a:lnTo>
                  <a:pt x="1279" y="899"/>
                </a:lnTo>
                <a:lnTo>
                  <a:pt x="1291" y="904"/>
                </a:lnTo>
                <a:lnTo>
                  <a:pt x="1304" y="908"/>
                </a:lnTo>
                <a:lnTo>
                  <a:pt x="1317" y="913"/>
                </a:lnTo>
                <a:lnTo>
                  <a:pt x="1329" y="916"/>
                </a:lnTo>
                <a:lnTo>
                  <a:pt x="1342" y="921"/>
                </a:lnTo>
                <a:lnTo>
                  <a:pt x="1355" y="925"/>
                </a:lnTo>
                <a:lnTo>
                  <a:pt x="1367" y="930"/>
                </a:lnTo>
                <a:lnTo>
                  <a:pt x="1380" y="934"/>
                </a:lnTo>
                <a:lnTo>
                  <a:pt x="1393" y="938"/>
                </a:lnTo>
                <a:lnTo>
                  <a:pt x="1405" y="943"/>
                </a:lnTo>
                <a:lnTo>
                  <a:pt x="1418" y="947"/>
                </a:lnTo>
                <a:lnTo>
                  <a:pt x="1431" y="951"/>
                </a:lnTo>
                <a:lnTo>
                  <a:pt x="1443" y="956"/>
                </a:lnTo>
                <a:lnTo>
                  <a:pt x="1456" y="959"/>
                </a:lnTo>
                <a:lnTo>
                  <a:pt x="1469" y="963"/>
                </a:lnTo>
                <a:lnTo>
                  <a:pt x="1481" y="968"/>
                </a:lnTo>
                <a:lnTo>
                  <a:pt x="1494" y="972"/>
                </a:lnTo>
                <a:lnTo>
                  <a:pt x="1506" y="976"/>
                </a:lnTo>
                <a:lnTo>
                  <a:pt x="1519" y="980"/>
                </a:lnTo>
                <a:lnTo>
                  <a:pt x="1532" y="985"/>
                </a:lnTo>
                <a:lnTo>
                  <a:pt x="1544" y="988"/>
                </a:lnTo>
                <a:lnTo>
                  <a:pt x="1557" y="992"/>
                </a:lnTo>
                <a:lnTo>
                  <a:pt x="1570" y="996"/>
                </a:lnTo>
                <a:lnTo>
                  <a:pt x="1582" y="1000"/>
                </a:lnTo>
                <a:lnTo>
                  <a:pt x="1595" y="1005"/>
                </a:lnTo>
                <a:lnTo>
                  <a:pt x="1608" y="1009"/>
                </a:lnTo>
                <a:lnTo>
                  <a:pt x="1620" y="1012"/>
                </a:lnTo>
                <a:lnTo>
                  <a:pt x="1633" y="1016"/>
                </a:lnTo>
                <a:lnTo>
                  <a:pt x="1646" y="1020"/>
                </a:lnTo>
                <a:lnTo>
                  <a:pt x="1658" y="1024"/>
                </a:lnTo>
                <a:lnTo>
                  <a:pt x="1671" y="1028"/>
                </a:lnTo>
                <a:lnTo>
                  <a:pt x="1683" y="1031"/>
                </a:lnTo>
                <a:lnTo>
                  <a:pt x="1696" y="1035"/>
                </a:lnTo>
                <a:lnTo>
                  <a:pt x="1709" y="1039"/>
                </a:lnTo>
                <a:lnTo>
                  <a:pt x="1721" y="1043"/>
                </a:lnTo>
                <a:lnTo>
                  <a:pt x="1734" y="1048"/>
                </a:lnTo>
                <a:lnTo>
                  <a:pt x="1747" y="1052"/>
                </a:lnTo>
                <a:lnTo>
                  <a:pt x="1759" y="1055"/>
                </a:lnTo>
                <a:lnTo>
                  <a:pt x="1772" y="1059"/>
                </a:lnTo>
                <a:lnTo>
                  <a:pt x="1785" y="1063"/>
                </a:lnTo>
                <a:lnTo>
                  <a:pt x="1797" y="1066"/>
                </a:lnTo>
                <a:lnTo>
                  <a:pt x="1810" y="1069"/>
                </a:lnTo>
                <a:lnTo>
                  <a:pt x="1823" y="1073"/>
                </a:lnTo>
                <a:lnTo>
                  <a:pt x="1835" y="1077"/>
                </a:lnTo>
                <a:lnTo>
                  <a:pt x="1848" y="1081"/>
                </a:lnTo>
                <a:lnTo>
                  <a:pt x="1861" y="1085"/>
                </a:lnTo>
                <a:lnTo>
                  <a:pt x="1873" y="1088"/>
                </a:lnTo>
                <a:lnTo>
                  <a:pt x="1886" y="1092"/>
                </a:lnTo>
                <a:lnTo>
                  <a:pt x="1898" y="1096"/>
                </a:lnTo>
                <a:lnTo>
                  <a:pt x="1911" y="1100"/>
                </a:lnTo>
                <a:lnTo>
                  <a:pt x="1924" y="1104"/>
                </a:lnTo>
                <a:lnTo>
                  <a:pt x="1936" y="1107"/>
                </a:lnTo>
                <a:lnTo>
                  <a:pt x="1949" y="1110"/>
                </a:lnTo>
                <a:lnTo>
                  <a:pt x="1962" y="1114"/>
                </a:lnTo>
                <a:lnTo>
                  <a:pt x="1974" y="1117"/>
                </a:lnTo>
                <a:lnTo>
                  <a:pt x="1987" y="1121"/>
                </a:lnTo>
                <a:lnTo>
                  <a:pt x="2000" y="1125"/>
                </a:lnTo>
                <a:lnTo>
                  <a:pt x="2012" y="1129"/>
                </a:lnTo>
                <a:lnTo>
                  <a:pt x="2025" y="1131"/>
                </a:lnTo>
                <a:lnTo>
                  <a:pt x="2038" y="1135"/>
                </a:lnTo>
                <a:lnTo>
                  <a:pt x="2050" y="1139"/>
                </a:lnTo>
                <a:lnTo>
                  <a:pt x="2063" y="1143"/>
                </a:lnTo>
                <a:lnTo>
                  <a:pt x="2075" y="1145"/>
                </a:lnTo>
                <a:lnTo>
                  <a:pt x="2088" y="1149"/>
                </a:lnTo>
                <a:lnTo>
                  <a:pt x="2101" y="1153"/>
                </a:lnTo>
                <a:lnTo>
                  <a:pt x="2113" y="1157"/>
                </a:lnTo>
                <a:lnTo>
                  <a:pt x="2126" y="1159"/>
                </a:lnTo>
                <a:lnTo>
                  <a:pt x="2139" y="1163"/>
                </a:lnTo>
                <a:lnTo>
                  <a:pt x="2151" y="1167"/>
                </a:lnTo>
                <a:lnTo>
                  <a:pt x="2164" y="1171"/>
                </a:lnTo>
                <a:lnTo>
                  <a:pt x="2177" y="1173"/>
                </a:lnTo>
                <a:lnTo>
                  <a:pt x="2189" y="1177"/>
                </a:lnTo>
                <a:lnTo>
                  <a:pt x="2202" y="1181"/>
                </a:lnTo>
                <a:lnTo>
                  <a:pt x="2215" y="1183"/>
                </a:lnTo>
                <a:lnTo>
                  <a:pt x="2227" y="1187"/>
                </a:lnTo>
                <a:lnTo>
                  <a:pt x="2240" y="1191"/>
                </a:lnTo>
                <a:lnTo>
                  <a:pt x="2253" y="1193"/>
                </a:lnTo>
                <a:lnTo>
                  <a:pt x="2265" y="1197"/>
                </a:lnTo>
                <a:lnTo>
                  <a:pt x="2278" y="1201"/>
                </a:lnTo>
                <a:lnTo>
                  <a:pt x="2290" y="1203"/>
                </a:lnTo>
                <a:lnTo>
                  <a:pt x="2303" y="1207"/>
                </a:lnTo>
                <a:lnTo>
                  <a:pt x="2316" y="1211"/>
                </a:lnTo>
                <a:lnTo>
                  <a:pt x="2328" y="1213"/>
                </a:lnTo>
                <a:lnTo>
                  <a:pt x="2341" y="1217"/>
                </a:lnTo>
                <a:lnTo>
                  <a:pt x="2354" y="1220"/>
                </a:lnTo>
                <a:lnTo>
                  <a:pt x="2366" y="1224"/>
                </a:lnTo>
                <a:lnTo>
                  <a:pt x="2380" y="1227"/>
                </a:lnTo>
                <a:lnTo>
                  <a:pt x="2393" y="1230"/>
                </a:lnTo>
                <a:lnTo>
                  <a:pt x="2406" y="1234"/>
                </a:lnTo>
                <a:lnTo>
                  <a:pt x="2418" y="1236"/>
                </a:lnTo>
                <a:lnTo>
                  <a:pt x="2431" y="1240"/>
                </a:lnTo>
                <a:lnTo>
                  <a:pt x="2443" y="1243"/>
                </a:lnTo>
                <a:lnTo>
                  <a:pt x="2456" y="1246"/>
                </a:lnTo>
                <a:lnTo>
                  <a:pt x="2469" y="1249"/>
                </a:lnTo>
                <a:lnTo>
                  <a:pt x="2481" y="1253"/>
                </a:lnTo>
                <a:lnTo>
                  <a:pt x="2494" y="1255"/>
                </a:lnTo>
                <a:lnTo>
                  <a:pt x="2507" y="1259"/>
                </a:lnTo>
                <a:lnTo>
                  <a:pt x="2519" y="1262"/>
                </a:lnTo>
                <a:lnTo>
                  <a:pt x="2532" y="1265"/>
                </a:ln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Freeform 20"/>
          <p:cNvSpPr/>
          <p:nvPr/>
        </p:nvSpPr>
        <p:spPr>
          <a:xfrm>
            <a:off x="907920" y="2933640"/>
            <a:ext cx="5023080" cy="2244960"/>
          </a:xfrm>
          <a:custGeom>
            <a:avLst/>
            <a:gdLst/>
            <a:ahLst/>
            <a:rect l="l" t="t" r="r" b="b"/>
            <a:pathLst>
              <a:path w="3164" h="1414">
                <a:moveTo>
                  <a:pt x="0" y="0"/>
                </a:moveTo>
                <a:lnTo>
                  <a:pt x="13" y="90"/>
                </a:lnTo>
                <a:lnTo>
                  <a:pt x="26" y="126"/>
                </a:lnTo>
                <a:lnTo>
                  <a:pt x="38" y="154"/>
                </a:lnTo>
                <a:lnTo>
                  <a:pt x="51" y="178"/>
                </a:lnTo>
                <a:lnTo>
                  <a:pt x="64" y="200"/>
                </a:lnTo>
                <a:lnTo>
                  <a:pt x="76" y="218"/>
                </a:lnTo>
                <a:lnTo>
                  <a:pt x="89" y="236"/>
                </a:lnTo>
                <a:lnTo>
                  <a:pt x="102" y="253"/>
                </a:lnTo>
                <a:lnTo>
                  <a:pt x="114" y="268"/>
                </a:lnTo>
                <a:lnTo>
                  <a:pt x="127" y="283"/>
                </a:lnTo>
                <a:lnTo>
                  <a:pt x="139" y="297"/>
                </a:lnTo>
                <a:lnTo>
                  <a:pt x="152" y="310"/>
                </a:lnTo>
                <a:lnTo>
                  <a:pt x="165" y="322"/>
                </a:lnTo>
                <a:lnTo>
                  <a:pt x="177" y="335"/>
                </a:lnTo>
                <a:lnTo>
                  <a:pt x="190" y="346"/>
                </a:lnTo>
                <a:lnTo>
                  <a:pt x="203" y="358"/>
                </a:lnTo>
                <a:lnTo>
                  <a:pt x="215" y="369"/>
                </a:lnTo>
                <a:lnTo>
                  <a:pt x="228" y="379"/>
                </a:lnTo>
                <a:lnTo>
                  <a:pt x="241" y="389"/>
                </a:lnTo>
                <a:lnTo>
                  <a:pt x="253" y="399"/>
                </a:lnTo>
                <a:lnTo>
                  <a:pt x="266" y="409"/>
                </a:lnTo>
                <a:lnTo>
                  <a:pt x="279" y="419"/>
                </a:lnTo>
                <a:lnTo>
                  <a:pt x="291" y="428"/>
                </a:lnTo>
                <a:lnTo>
                  <a:pt x="304" y="437"/>
                </a:lnTo>
                <a:lnTo>
                  <a:pt x="317" y="447"/>
                </a:lnTo>
                <a:lnTo>
                  <a:pt x="329" y="456"/>
                </a:lnTo>
                <a:lnTo>
                  <a:pt x="342" y="465"/>
                </a:lnTo>
                <a:lnTo>
                  <a:pt x="354" y="473"/>
                </a:lnTo>
                <a:lnTo>
                  <a:pt x="367" y="481"/>
                </a:lnTo>
                <a:lnTo>
                  <a:pt x="380" y="489"/>
                </a:lnTo>
                <a:lnTo>
                  <a:pt x="392" y="498"/>
                </a:lnTo>
                <a:lnTo>
                  <a:pt x="405" y="505"/>
                </a:lnTo>
                <a:lnTo>
                  <a:pt x="418" y="513"/>
                </a:lnTo>
                <a:lnTo>
                  <a:pt x="430" y="521"/>
                </a:lnTo>
                <a:lnTo>
                  <a:pt x="443" y="528"/>
                </a:lnTo>
                <a:lnTo>
                  <a:pt x="456" y="536"/>
                </a:lnTo>
                <a:lnTo>
                  <a:pt x="468" y="543"/>
                </a:lnTo>
                <a:lnTo>
                  <a:pt x="481" y="551"/>
                </a:lnTo>
                <a:lnTo>
                  <a:pt x="494" y="559"/>
                </a:lnTo>
                <a:lnTo>
                  <a:pt x="506" y="565"/>
                </a:lnTo>
                <a:lnTo>
                  <a:pt x="519" y="572"/>
                </a:lnTo>
                <a:lnTo>
                  <a:pt x="531" y="579"/>
                </a:lnTo>
                <a:lnTo>
                  <a:pt x="544" y="586"/>
                </a:lnTo>
                <a:lnTo>
                  <a:pt x="557" y="593"/>
                </a:lnTo>
                <a:lnTo>
                  <a:pt x="569" y="600"/>
                </a:lnTo>
                <a:lnTo>
                  <a:pt x="582" y="607"/>
                </a:lnTo>
                <a:lnTo>
                  <a:pt x="595" y="613"/>
                </a:lnTo>
                <a:lnTo>
                  <a:pt x="607" y="619"/>
                </a:lnTo>
                <a:lnTo>
                  <a:pt x="620" y="626"/>
                </a:lnTo>
                <a:lnTo>
                  <a:pt x="633" y="632"/>
                </a:lnTo>
                <a:lnTo>
                  <a:pt x="645" y="638"/>
                </a:lnTo>
                <a:lnTo>
                  <a:pt x="658" y="645"/>
                </a:lnTo>
                <a:lnTo>
                  <a:pt x="671" y="651"/>
                </a:lnTo>
                <a:lnTo>
                  <a:pt x="683" y="657"/>
                </a:lnTo>
                <a:lnTo>
                  <a:pt x="696" y="663"/>
                </a:lnTo>
                <a:lnTo>
                  <a:pt x="709" y="669"/>
                </a:lnTo>
                <a:lnTo>
                  <a:pt x="721" y="675"/>
                </a:lnTo>
                <a:lnTo>
                  <a:pt x="734" y="681"/>
                </a:lnTo>
                <a:lnTo>
                  <a:pt x="746" y="686"/>
                </a:lnTo>
                <a:lnTo>
                  <a:pt x="759" y="693"/>
                </a:lnTo>
                <a:lnTo>
                  <a:pt x="772" y="699"/>
                </a:lnTo>
                <a:lnTo>
                  <a:pt x="784" y="704"/>
                </a:lnTo>
                <a:lnTo>
                  <a:pt x="798" y="709"/>
                </a:lnTo>
                <a:lnTo>
                  <a:pt x="811" y="715"/>
                </a:lnTo>
                <a:lnTo>
                  <a:pt x="824" y="720"/>
                </a:lnTo>
                <a:lnTo>
                  <a:pt x="836" y="727"/>
                </a:lnTo>
                <a:lnTo>
                  <a:pt x="849" y="732"/>
                </a:lnTo>
                <a:lnTo>
                  <a:pt x="862" y="737"/>
                </a:lnTo>
                <a:lnTo>
                  <a:pt x="874" y="743"/>
                </a:lnTo>
                <a:lnTo>
                  <a:pt x="887" y="748"/>
                </a:lnTo>
                <a:lnTo>
                  <a:pt x="899" y="753"/>
                </a:lnTo>
                <a:lnTo>
                  <a:pt x="912" y="758"/>
                </a:lnTo>
                <a:lnTo>
                  <a:pt x="925" y="763"/>
                </a:lnTo>
                <a:lnTo>
                  <a:pt x="937" y="770"/>
                </a:lnTo>
                <a:lnTo>
                  <a:pt x="950" y="775"/>
                </a:lnTo>
                <a:lnTo>
                  <a:pt x="963" y="780"/>
                </a:lnTo>
                <a:lnTo>
                  <a:pt x="975" y="785"/>
                </a:lnTo>
                <a:lnTo>
                  <a:pt x="988" y="790"/>
                </a:lnTo>
                <a:lnTo>
                  <a:pt x="1001" y="795"/>
                </a:lnTo>
                <a:lnTo>
                  <a:pt x="1013" y="800"/>
                </a:lnTo>
                <a:lnTo>
                  <a:pt x="1026" y="805"/>
                </a:lnTo>
                <a:lnTo>
                  <a:pt x="1039" y="810"/>
                </a:lnTo>
                <a:lnTo>
                  <a:pt x="1051" y="815"/>
                </a:lnTo>
                <a:lnTo>
                  <a:pt x="1064" y="819"/>
                </a:lnTo>
                <a:lnTo>
                  <a:pt x="1076" y="824"/>
                </a:lnTo>
                <a:lnTo>
                  <a:pt x="1089" y="829"/>
                </a:lnTo>
                <a:lnTo>
                  <a:pt x="1102" y="834"/>
                </a:lnTo>
                <a:lnTo>
                  <a:pt x="1114" y="839"/>
                </a:lnTo>
                <a:lnTo>
                  <a:pt x="1127" y="843"/>
                </a:lnTo>
                <a:lnTo>
                  <a:pt x="1140" y="848"/>
                </a:lnTo>
                <a:lnTo>
                  <a:pt x="1152" y="853"/>
                </a:lnTo>
                <a:lnTo>
                  <a:pt x="1165" y="858"/>
                </a:lnTo>
                <a:lnTo>
                  <a:pt x="1178" y="862"/>
                </a:lnTo>
                <a:lnTo>
                  <a:pt x="1190" y="867"/>
                </a:lnTo>
                <a:lnTo>
                  <a:pt x="1203" y="872"/>
                </a:lnTo>
                <a:lnTo>
                  <a:pt x="1216" y="876"/>
                </a:lnTo>
                <a:lnTo>
                  <a:pt x="1228" y="881"/>
                </a:lnTo>
                <a:lnTo>
                  <a:pt x="1241" y="885"/>
                </a:lnTo>
                <a:lnTo>
                  <a:pt x="1254" y="890"/>
                </a:lnTo>
                <a:lnTo>
                  <a:pt x="1266" y="894"/>
                </a:lnTo>
                <a:lnTo>
                  <a:pt x="1279" y="899"/>
                </a:lnTo>
                <a:lnTo>
                  <a:pt x="1291" y="904"/>
                </a:lnTo>
                <a:lnTo>
                  <a:pt x="1304" y="907"/>
                </a:lnTo>
                <a:lnTo>
                  <a:pt x="1317" y="911"/>
                </a:lnTo>
                <a:lnTo>
                  <a:pt x="1329" y="916"/>
                </a:lnTo>
                <a:lnTo>
                  <a:pt x="1342" y="920"/>
                </a:lnTo>
                <a:lnTo>
                  <a:pt x="1355" y="925"/>
                </a:lnTo>
                <a:lnTo>
                  <a:pt x="1367" y="929"/>
                </a:lnTo>
                <a:lnTo>
                  <a:pt x="1380" y="934"/>
                </a:lnTo>
                <a:lnTo>
                  <a:pt x="1393" y="938"/>
                </a:lnTo>
                <a:lnTo>
                  <a:pt x="1405" y="942"/>
                </a:lnTo>
                <a:lnTo>
                  <a:pt x="1418" y="947"/>
                </a:lnTo>
                <a:lnTo>
                  <a:pt x="1431" y="950"/>
                </a:lnTo>
                <a:lnTo>
                  <a:pt x="1443" y="954"/>
                </a:lnTo>
                <a:lnTo>
                  <a:pt x="1456" y="959"/>
                </a:lnTo>
                <a:lnTo>
                  <a:pt x="1469" y="963"/>
                </a:lnTo>
                <a:lnTo>
                  <a:pt x="1481" y="967"/>
                </a:lnTo>
                <a:lnTo>
                  <a:pt x="1494" y="972"/>
                </a:lnTo>
                <a:lnTo>
                  <a:pt x="1506" y="976"/>
                </a:lnTo>
                <a:lnTo>
                  <a:pt x="1519" y="980"/>
                </a:lnTo>
                <a:lnTo>
                  <a:pt x="1532" y="983"/>
                </a:lnTo>
                <a:lnTo>
                  <a:pt x="1544" y="987"/>
                </a:lnTo>
                <a:lnTo>
                  <a:pt x="1557" y="992"/>
                </a:lnTo>
                <a:lnTo>
                  <a:pt x="1570" y="996"/>
                </a:lnTo>
                <a:lnTo>
                  <a:pt x="1582" y="1000"/>
                </a:lnTo>
                <a:lnTo>
                  <a:pt x="1595" y="1004"/>
                </a:lnTo>
                <a:lnTo>
                  <a:pt x="1608" y="1007"/>
                </a:lnTo>
                <a:lnTo>
                  <a:pt x="1620" y="1011"/>
                </a:lnTo>
                <a:lnTo>
                  <a:pt x="1633" y="1016"/>
                </a:lnTo>
                <a:lnTo>
                  <a:pt x="1646" y="1020"/>
                </a:lnTo>
                <a:lnTo>
                  <a:pt x="1658" y="1024"/>
                </a:lnTo>
                <a:lnTo>
                  <a:pt x="1671" y="1028"/>
                </a:lnTo>
                <a:lnTo>
                  <a:pt x="1683" y="1031"/>
                </a:lnTo>
                <a:lnTo>
                  <a:pt x="1696" y="1035"/>
                </a:lnTo>
                <a:lnTo>
                  <a:pt x="1709" y="1039"/>
                </a:lnTo>
                <a:lnTo>
                  <a:pt x="1721" y="1043"/>
                </a:lnTo>
                <a:lnTo>
                  <a:pt x="1734" y="1047"/>
                </a:lnTo>
                <a:lnTo>
                  <a:pt x="1747" y="1050"/>
                </a:lnTo>
                <a:lnTo>
                  <a:pt x="1759" y="1054"/>
                </a:lnTo>
                <a:lnTo>
                  <a:pt x="1772" y="1058"/>
                </a:lnTo>
                <a:lnTo>
                  <a:pt x="1785" y="1062"/>
                </a:lnTo>
                <a:lnTo>
                  <a:pt x="1797" y="1065"/>
                </a:lnTo>
                <a:lnTo>
                  <a:pt x="1810" y="1069"/>
                </a:lnTo>
                <a:lnTo>
                  <a:pt x="1823" y="1073"/>
                </a:lnTo>
                <a:lnTo>
                  <a:pt x="1835" y="1077"/>
                </a:lnTo>
                <a:lnTo>
                  <a:pt x="1848" y="1081"/>
                </a:lnTo>
                <a:lnTo>
                  <a:pt x="1861" y="1084"/>
                </a:lnTo>
                <a:lnTo>
                  <a:pt x="1873" y="1088"/>
                </a:lnTo>
                <a:lnTo>
                  <a:pt x="1886" y="1092"/>
                </a:lnTo>
                <a:lnTo>
                  <a:pt x="1898" y="1096"/>
                </a:lnTo>
                <a:lnTo>
                  <a:pt x="1911" y="1098"/>
                </a:lnTo>
                <a:lnTo>
                  <a:pt x="1924" y="1102"/>
                </a:lnTo>
                <a:lnTo>
                  <a:pt x="1936" y="1106"/>
                </a:lnTo>
                <a:lnTo>
                  <a:pt x="1949" y="1110"/>
                </a:lnTo>
                <a:lnTo>
                  <a:pt x="1962" y="1114"/>
                </a:lnTo>
                <a:lnTo>
                  <a:pt x="1974" y="1117"/>
                </a:lnTo>
                <a:lnTo>
                  <a:pt x="1987" y="1121"/>
                </a:lnTo>
                <a:lnTo>
                  <a:pt x="2000" y="1124"/>
                </a:lnTo>
                <a:lnTo>
                  <a:pt x="2012" y="1127"/>
                </a:lnTo>
                <a:lnTo>
                  <a:pt x="2025" y="1131"/>
                </a:lnTo>
                <a:lnTo>
                  <a:pt x="2038" y="1135"/>
                </a:lnTo>
                <a:lnTo>
                  <a:pt x="2050" y="1139"/>
                </a:lnTo>
                <a:lnTo>
                  <a:pt x="2063" y="1141"/>
                </a:lnTo>
                <a:lnTo>
                  <a:pt x="2075" y="1145"/>
                </a:lnTo>
                <a:lnTo>
                  <a:pt x="2088" y="1149"/>
                </a:lnTo>
                <a:lnTo>
                  <a:pt x="2101" y="1153"/>
                </a:lnTo>
                <a:lnTo>
                  <a:pt x="2113" y="1155"/>
                </a:lnTo>
                <a:lnTo>
                  <a:pt x="2126" y="1159"/>
                </a:lnTo>
                <a:lnTo>
                  <a:pt x="2139" y="1163"/>
                </a:lnTo>
                <a:lnTo>
                  <a:pt x="2151" y="1165"/>
                </a:lnTo>
                <a:lnTo>
                  <a:pt x="2164" y="1169"/>
                </a:lnTo>
                <a:lnTo>
                  <a:pt x="2177" y="1173"/>
                </a:lnTo>
                <a:lnTo>
                  <a:pt x="2189" y="1177"/>
                </a:lnTo>
                <a:lnTo>
                  <a:pt x="2202" y="1179"/>
                </a:lnTo>
                <a:lnTo>
                  <a:pt x="2215" y="1183"/>
                </a:lnTo>
                <a:lnTo>
                  <a:pt x="2227" y="1187"/>
                </a:lnTo>
                <a:lnTo>
                  <a:pt x="2240" y="1189"/>
                </a:lnTo>
                <a:lnTo>
                  <a:pt x="2253" y="1193"/>
                </a:lnTo>
                <a:lnTo>
                  <a:pt x="2265" y="1197"/>
                </a:lnTo>
                <a:lnTo>
                  <a:pt x="2278" y="1199"/>
                </a:lnTo>
                <a:lnTo>
                  <a:pt x="2290" y="1203"/>
                </a:lnTo>
                <a:lnTo>
                  <a:pt x="2303" y="1207"/>
                </a:lnTo>
                <a:lnTo>
                  <a:pt x="2316" y="1210"/>
                </a:lnTo>
                <a:lnTo>
                  <a:pt x="2328" y="1213"/>
                </a:lnTo>
                <a:lnTo>
                  <a:pt x="2341" y="1216"/>
                </a:lnTo>
                <a:lnTo>
                  <a:pt x="2354" y="1220"/>
                </a:lnTo>
                <a:lnTo>
                  <a:pt x="2366" y="1224"/>
                </a:lnTo>
                <a:lnTo>
                  <a:pt x="2380" y="1226"/>
                </a:lnTo>
                <a:lnTo>
                  <a:pt x="2393" y="1230"/>
                </a:lnTo>
                <a:lnTo>
                  <a:pt x="2406" y="1232"/>
                </a:lnTo>
                <a:lnTo>
                  <a:pt x="2418" y="1236"/>
                </a:lnTo>
                <a:lnTo>
                  <a:pt x="2431" y="1239"/>
                </a:lnTo>
                <a:lnTo>
                  <a:pt x="2443" y="1242"/>
                </a:lnTo>
                <a:lnTo>
                  <a:pt x="2456" y="1245"/>
                </a:lnTo>
                <a:lnTo>
                  <a:pt x="2469" y="1249"/>
                </a:lnTo>
                <a:lnTo>
                  <a:pt x="2481" y="1253"/>
                </a:lnTo>
                <a:lnTo>
                  <a:pt x="2494" y="1255"/>
                </a:lnTo>
                <a:lnTo>
                  <a:pt x="2507" y="1259"/>
                </a:lnTo>
                <a:lnTo>
                  <a:pt x="2519" y="1261"/>
                </a:lnTo>
                <a:lnTo>
                  <a:pt x="2532" y="1265"/>
                </a:lnTo>
                <a:lnTo>
                  <a:pt x="2545" y="1268"/>
                </a:lnTo>
                <a:lnTo>
                  <a:pt x="2557" y="1272"/>
                </a:lnTo>
                <a:lnTo>
                  <a:pt x="2570" y="1274"/>
                </a:lnTo>
                <a:lnTo>
                  <a:pt x="2583" y="1278"/>
                </a:lnTo>
                <a:lnTo>
                  <a:pt x="2595" y="1280"/>
                </a:lnTo>
                <a:lnTo>
                  <a:pt x="2608" y="1284"/>
                </a:lnTo>
                <a:lnTo>
                  <a:pt x="2621" y="1287"/>
                </a:lnTo>
                <a:lnTo>
                  <a:pt x="2633" y="1289"/>
                </a:lnTo>
                <a:lnTo>
                  <a:pt x="2646" y="1293"/>
                </a:lnTo>
                <a:lnTo>
                  <a:pt x="2658" y="1296"/>
                </a:lnTo>
                <a:lnTo>
                  <a:pt x="2671" y="1299"/>
                </a:lnTo>
                <a:lnTo>
                  <a:pt x="2684" y="1302"/>
                </a:lnTo>
                <a:lnTo>
                  <a:pt x="2696" y="1306"/>
                </a:lnTo>
                <a:lnTo>
                  <a:pt x="2709" y="1308"/>
                </a:lnTo>
                <a:lnTo>
                  <a:pt x="2722" y="1311"/>
                </a:lnTo>
                <a:lnTo>
                  <a:pt x="2734" y="1315"/>
                </a:lnTo>
                <a:lnTo>
                  <a:pt x="2747" y="1317"/>
                </a:lnTo>
                <a:lnTo>
                  <a:pt x="2760" y="1321"/>
                </a:lnTo>
                <a:lnTo>
                  <a:pt x="2772" y="1323"/>
                </a:lnTo>
                <a:lnTo>
                  <a:pt x="2785" y="1326"/>
                </a:lnTo>
                <a:lnTo>
                  <a:pt x="2798" y="1330"/>
                </a:lnTo>
                <a:lnTo>
                  <a:pt x="2810" y="1332"/>
                </a:lnTo>
                <a:lnTo>
                  <a:pt x="2823" y="1336"/>
                </a:lnTo>
                <a:lnTo>
                  <a:pt x="2835" y="1339"/>
                </a:lnTo>
                <a:lnTo>
                  <a:pt x="2848" y="1341"/>
                </a:lnTo>
                <a:lnTo>
                  <a:pt x="2861" y="1345"/>
                </a:lnTo>
                <a:lnTo>
                  <a:pt x="2873" y="1347"/>
                </a:lnTo>
                <a:lnTo>
                  <a:pt x="2886" y="1350"/>
                </a:lnTo>
                <a:lnTo>
                  <a:pt x="2899" y="1354"/>
                </a:lnTo>
                <a:lnTo>
                  <a:pt x="2911" y="1356"/>
                </a:lnTo>
                <a:lnTo>
                  <a:pt x="2924" y="1359"/>
                </a:lnTo>
                <a:lnTo>
                  <a:pt x="2937" y="1363"/>
                </a:lnTo>
                <a:lnTo>
                  <a:pt x="2949" y="1365"/>
                </a:lnTo>
                <a:lnTo>
                  <a:pt x="2962" y="1368"/>
                </a:lnTo>
                <a:lnTo>
                  <a:pt x="2975" y="1371"/>
                </a:lnTo>
                <a:lnTo>
                  <a:pt x="2987" y="1374"/>
                </a:lnTo>
                <a:lnTo>
                  <a:pt x="3000" y="1376"/>
                </a:lnTo>
                <a:lnTo>
                  <a:pt x="3013" y="1380"/>
                </a:lnTo>
                <a:lnTo>
                  <a:pt x="3025" y="1383"/>
                </a:lnTo>
                <a:lnTo>
                  <a:pt x="3038" y="1385"/>
                </a:lnTo>
                <a:lnTo>
                  <a:pt x="3050" y="1388"/>
                </a:lnTo>
                <a:lnTo>
                  <a:pt x="3063" y="1392"/>
                </a:lnTo>
                <a:lnTo>
                  <a:pt x="3076" y="1394"/>
                </a:lnTo>
                <a:lnTo>
                  <a:pt x="3088" y="1397"/>
                </a:lnTo>
                <a:lnTo>
                  <a:pt x="3101" y="1399"/>
                </a:lnTo>
                <a:lnTo>
                  <a:pt x="3114" y="1403"/>
                </a:lnTo>
                <a:lnTo>
                  <a:pt x="3126" y="1406"/>
                </a:lnTo>
                <a:lnTo>
                  <a:pt x="3139" y="1408"/>
                </a:lnTo>
                <a:lnTo>
                  <a:pt x="3152" y="1411"/>
                </a:lnTo>
                <a:lnTo>
                  <a:pt x="3164" y="141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Freeform 21"/>
          <p:cNvSpPr/>
          <p:nvPr/>
        </p:nvSpPr>
        <p:spPr>
          <a:xfrm>
            <a:off x="907920" y="1927080"/>
            <a:ext cx="5023080" cy="2246400"/>
          </a:xfrm>
          <a:custGeom>
            <a:avLst/>
            <a:gdLst/>
            <a:ahLst/>
            <a:rect l="l" t="t" r="r" b="b"/>
            <a:pathLst>
              <a:path w="3164" h="1415">
                <a:moveTo>
                  <a:pt x="0" y="0"/>
                </a:moveTo>
                <a:lnTo>
                  <a:pt x="13" y="90"/>
                </a:lnTo>
                <a:lnTo>
                  <a:pt x="26" y="127"/>
                </a:lnTo>
                <a:lnTo>
                  <a:pt x="38" y="156"/>
                </a:lnTo>
                <a:lnTo>
                  <a:pt x="51" y="180"/>
                </a:lnTo>
                <a:lnTo>
                  <a:pt x="64" y="201"/>
                </a:lnTo>
                <a:lnTo>
                  <a:pt x="76" y="220"/>
                </a:lnTo>
                <a:lnTo>
                  <a:pt x="89" y="238"/>
                </a:lnTo>
                <a:lnTo>
                  <a:pt x="102" y="255"/>
                </a:lnTo>
                <a:lnTo>
                  <a:pt x="114" y="270"/>
                </a:lnTo>
                <a:lnTo>
                  <a:pt x="127" y="284"/>
                </a:lnTo>
                <a:lnTo>
                  <a:pt x="139" y="297"/>
                </a:lnTo>
                <a:lnTo>
                  <a:pt x="152" y="311"/>
                </a:lnTo>
                <a:lnTo>
                  <a:pt x="165" y="324"/>
                </a:lnTo>
                <a:lnTo>
                  <a:pt x="177" y="335"/>
                </a:lnTo>
                <a:lnTo>
                  <a:pt x="190" y="347"/>
                </a:lnTo>
                <a:lnTo>
                  <a:pt x="203" y="358"/>
                </a:lnTo>
                <a:lnTo>
                  <a:pt x="215" y="370"/>
                </a:lnTo>
                <a:lnTo>
                  <a:pt x="228" y="381"/>
                </a:lnTo>
                <a:lnTo>
                  <a:pt x="241" y="391"/>
                </a:lnTo>
                <a:lnTo>
                  <a:pt x="253" y="401"/>
                </a:lnTo>
                <a:lnTo>
                  <a:pt x="266" y="411"/>
                </a:lnTo>
                <a:lnTo>
                  <a:pt x="279" y="420"/>
                </a:lnTo>
                <a:lnTo>
                  <a:pt x="291" y="430"/>
                </a:lnTo>
                <a:lnTo>
                  <a:pt x="304" y="439"/>
                </a:lnTo>
                <a:lnTo>
                  <a:pt x="317" y="448"/>
                </a:lnTo>
                <a:lnTo>
                  <a:pt x="329" y="457"/>
                </a:lnTo>
                <a:lnTo>
                  <a:pt x="342" y="466"/>
                </a:lnTo>
                <a:lnTo>
                  <a:pt x="354" y="474"/>
                </a:lnTo>
                <a:lnTo>
                  <a:pt x="367" y="482"/>
                </a:lnTo>
                <a:lnTo>
                  <a:pt x="380" y="491"/>
                </a:lnTo>
                <a:lnTo>
                  <a:pt x="392" y="499"/>
                </a:lnTo>
                <a:lnTo>
                  <a:pt x="405" y="507"/>
                </a:lnTo>
                <a:lnTo>
                  <a:pt x="418" y="515"/>
                </a:lnTo>
                <a:lnTo>
                  <a:pt x="430" y="523"/>
                </a:lnTo>
                <a:lnTo>
                  <a:pt x="443" y="530"/>
                </a:lnTo>
                <a:lnTo>
                  <a:pt x="456" y="538"/>
                </a:lnTo>
                <a:lnTo>
                  <a:pt x="468" y="545"/>
                </a:lnTo>
                <a:lnTo>
                  <a:pt x="481" y="553"/>
                </a:lnTo>
                <a:lnTo>
                  <a:pt x="494" y="559"/>
                </a:lnTo>
                <a:lnTo>
                  <a:pt x="506" y="567"/>
                </a:lnTo>
                <a:lnTo>
                  <a:pt x="519" y="574"/>
                </a:lnTo>
                <a:lnTo>
                  <a:pt x="531" y="581"/>
                </a:lnTo>
                <a:lnTo>
                  <a:pt x="544" y="587"/>
                </a:lnTo>
                <a:lnTo>
                  <a:pt x="557" y="595"/>
                </a:lnTo>
                <a:lnTo>
                  <a:pt x="569" y="601"/>
                </a:lnTo>
                <a:lnTo>
                  <a:pt x="582" y="607"/>
                </a:lnTo>
                <a:lnTo>
                  <a:pt x="595" y="615"/>
                </a:lnTo>
                <a:lnTo>
                  <a:pt x="607" y="621"/>
                </a:lnTo>
                <a:lnTo>
                  <a:pt x="620" y="627"/>
                </a:lnTo>
                <a:lnTo>
                  <a:pt x="633" y="634"/>
                </a:lnTo>
                <a:lnTo>
                  <a:pt x="645" y="640"/>
                </a:lnTo>
                <a:lnTo>
                  <a:pt x="658" y="646"/>
                </a:lnTo>
                <a:lnTo>
                  <a:pt x="671" y="653"/>
                </a:lnTo>
                <a:lnTo>
                  <a:pt x="683" y="658"/>
                </a:lnTo>
                <a:lnTo>
                  <a:pt x="696" y="664"/>
                </a:lnTo>
                <a:lnTo>
                  <a:pt x="709" y="670"/>
                </a:lnTo>
                <a:lnTo>
                  <a:pt x="721" y="677"/>
                </a:lnTo>
                <a:lnTo>
                  <a:pt x="734" y="682"/>
                </a:lnTo>
                <a:lnTo>
                  <a:pt x="746" y="688"/>
                </a:lnTo>
                <a:lnTo>
                  <a:pt x="759" y="694"/>
                </a:lnTo>
                <a:lnTo>
                  <a:pt x="772" y="700"/>
                </a:lnTo>
                <a:lnTo>
                  <a:pt x="784" y="706"/>
                </a:lnTo>
                <a:lnTo>
                  <a:pt x="798" y="711"/>
                </a:lnTo>
                <a:lnTo>
                  <a:pt x="811" y="717"/>
                </a:lnTo>
                <a:lnTo>
                  <a:pt x="824" y="722"/>
                </a:lnTo>
                <a:lnTo>
                  <a:pt x="836" y="727"/>
                </a:lnTo>
                <a:lnTo>
                  <a:pt x="849" y="734"/>
                </a:lnTo>
                <a:lnTo>
                  <a:pt x="862" y="739"/>
                </a:lnTo>
                <a:lnTo>
                  <a:pt x="874" y="744"/>
                </a:lnTo>
                <a:lnTo>
                  <a:pt x="887" y="749"/>
                </a:lnTo>
                <a:lnTo>
                  <a:pt x="899" y="755"/>
                </a:lnTo>
                <a:lnTo>
                  <a:pt x="912" y="760"/>
                </a:lnTo>
                <a:lnTo>
                  <a:pt x="925" y="765"/>
                </a:lnTo>
                <a:lnTo>
                  <a:pt x="937" y="770"/>
                </a:lnTo>
                <a:lnTo>
                  <a:pt x="950" y="775"/>
                </a:lnTo>
                <a:lnTo>
                  <a:pt x="963" y="780"/>
                </a:lnTo>
                <a:lnTo>
                  <a:pt x="975" y="785"/>
                </a:lnTo>
                <a:lnTo>
                  <a:pt x="988" y="791"/>
                </a:lnTo>
                <a:lnTo>
                  <a:pt x="1001" y="796"/>
                </a:lnTo>
                <a:lnTo>
                  <a:pt x="1013" y="801"/>
                </a:lnTo>
                <a:lnTo>
                  <a:pt x="1026" y="806"/>
                </a:lnTo>
                <a:lnTo>
                  <a:pt x="1039" y="811"/>
                </a:lnTo>
                <a:lnTo>
                  <a:pt x="1051" y="816"/>
                </a:lnTo>
                <a:lnTo>
                  <a:pt x="1064" y="821"/>
                </a:lnTo>
                <a:lnTo>
                  <a:pt x="1076" y="826"/>
                </a:lnTo>
                <a:lnTo>
                  <a:pt x="1089" y="831"/>
                </a:lnTo>
                <a:lnTo>
                  <a:pt x="1102" y="835"/>
                </a:lnTo>
                <a:lnTo>
                  <a:pt x="1114" y="840"/>
                </a:lnTo>
                <a:lnTo>
                  <a:pt x="1127" y="845"/>
                </a:lnTo>
                <a:lnTo>
                  <a:pt x="1140" y="850"/>
                </a:lnTo>
                <a:lnTo>
                  <a:pt x="1152" y="854"/>
                </a:lnTo>
                <a:lnTo>
                  <a:pt x="1165" y="859"/>
                </a:lnTo>
                <a:lnTo>
                  <a:pt x="1178" y="864"/>
                </a:lnTo>
                <a:lnTo>
                  <a:pt x="1190" y="869"/>
                </a:lnTo>
                <a:lnTo>
                  <a:pt x="1203" y="873"/>
                </a:lnTo>
                <a:lnTo>
                  <a:pt x="1216" y="878"/>
                </a:lnTo>
                <a:lnTo>
                  <a:pt x="1228" y="882"/>
                </a:lnTo>
                <a:lnTo>
                  <a:pt x="1241" y="887"/>
                </a:lnTo>
                <a:lnTo>
                  <a:pt x="1254" y="892"/>
                </a:lnTo>
                <a:lnTo>
                  <a:pt x="1266" y="895"/>
                </a:lnTo>
                <a:lnTo>
                  <a:pt x="1279" y="901"/>
                </a:lnTo>
                <a:lnTo>
                  <a:pt x="1291" y="904"/>
                </a:lnTo>
                <a:lnTo>
                  <a:pt x="1304" y="909"/>
                </a:lnTo>
                <a:lnTo>
                  <a:pt x="1317" y="913"/>
                </a:lnTo>
                <a:lnTo>
                  <a:pt x="1329" y="918"/>
                </a:lnTo>
                <a:lnTo>
                  <a:pt x="1342" y="922"/>
                </a:lnTo>
                <a:lnTo>
                  <a:pt x="1355" y="926"/>
                </a:lnTo>
                <a:lnTo>
                  <a:pt x="1367" y="931"/>
                </a:lnTo>
                <a:lnTo>
                  <a:pt x="1380" y="935"/>
                </a:lnTo>
                <a:lnTo>
                  <a:pt x="1393" y="940"/>
                </a:lnTo>
                <a:lnTo>
                  <a:pt x="1405" y="944"/>
                </a:lnTo>
                <a:lnTo>
                  <a:pt x="1418" y="947"/>
                </a:lnTo>
                <a:lnTo>
                  <a:pt x="1431" y="952"/>
                </a:lnTo>
                <a:lnTo>
                  <a:pt x="1443" y="956"/>
                </a:lnTo>
                <a:lnTo>
                  <a:pt x="1456" y="960"/>
                </a:lnTo>
                <a:lnTo>
                  <a:pt x="1469" y="965"/>
                </a:lnTo>
                <a:lnTo>
                  <a:pt x="1481" y="969"/>
                </a:lnTo>
                <a:lnTo>
                  <a:pt x="1494" y="973"/>
                </a:lnTo>
                <a:lnTo>
                  <a:pt x="1506" y="976"/>
                </a:lnTo>
                <a:lnTo>
                  <a:pt x="1519" y="981"/>
                </a:lnTo>
                <a:lnTo>
                  <a:pt x="1532" y="985"/>
                </a:lnTo>
                <a:lnTo>
                  <a:pt x="1544" y="989"/>
                </a:lnTo>
                <a:lnTo>
                  <a:pt x="1557" y="993"/>
                </a:lnTo>
                <a:lnTo>
                  <a:pt x="1570" y="997"/>
                </a:lnTo>
                <a:lnTo>
                  <a:pt x="1582" y="1002"/>
                </a:lnTo>
                <a:lnTo>
                  <a:pt x="1595" y="1005"/>
                </a:lnTo>
                <a:lnTo>
                  <a:pt x="1608" y="1009"/>
                </a:lnTo>
                <a:lnTo>
                  <a:pt x="1620" y="1013"/>
                </a:lnTo>
                <a:lnTo>
                  <a:pt x="1633" y="1017"/>
                </a:lnTo>
                <a:lnTo>
                  <a:pt x="1646" y="1021"/>
                </a:lnTo>
                <a:lnTo>
                  <a:pt x="1658" y="1024"/>
                </a:lnTo>
                <a:lnTo>
                  <a:pt x="1671" y="1028"/>
                </a:lnTo>
                <a:lnTo>
                  <a:pt x="1683" y="1033"/>
                </a:lnTo>
                <a:lnTo>
                  <a:pt x="1696" y="1037"/>
                </a:lnTo>
                <a:lnTo>
                  <a:pt x="1709" y="1041"/>
                </a:lnTo>
                <a:lnTo>
                  <a:pt x="1721" y="1045"/>
                </a:lnTo>
                <a:lnTo>
                  <a:pt x="1734" y="1048"/>
                </a:lnTo>
                <a:lnTo>
                  <a:pt x="1747" y="1052"/>
                </a:lnTo>
                <a:lnTo>
                  <a:pt x="1759" y="1056"/>
                </a:lnTo>
                <a:lnTo>
                  <a:pt x="1772" y="1060"/>
                </a:lnTo>
                <a:lnTo>
                  <a:pt x="1785" y="1064"/>
                </a:lnTo>
                <a:lnTo>
                  <a:pt x="1797" y="1067"/>
                </a:lnTo>
                <a:lnTo>
                  <a:pt x="1810" y="1071"/>
                </a:lnTo>
                <a:lnTo>
                  <a:pt x="1823" y="1075"/>
                </a:lnTo>
                <a:lnTo>
                  <a:pt x="1835" y="1079"/>
                </a:lnTo>
                <a:lnTo>
                  <a:pt x="1848" y="1081"/>
                </a:lnTo>
                <a:lnTo>
                  <a:pt x="1861" y="1085"/>
                </a:lnTo>
                <a:lnTo>
                  <a:pt x="1873" y="1089"/>
                </a:lnTo>
                <a:lnTo>
                  <a:pt x="1886" y="1093"/>
                </a:lnTo>
                <a:lnTo>
                  <a:pt x="1898" y="1096"/>
                </a:lnTo>
                <a:lnTo>
                  <a:pt x="1911" y="1100"/>
                </a:lnTo>
                <a:lnTo>
                  <a:pt x="1924" y="1104"/>
                </a:lnTo>
                <a:lnTo>
                  <a:pt x="1936" y="1108"/>
                </a:lnTo>
                <a:lnTo>
                  <a:pt x="1949" y="1112"/>
                </a:lnTo>
                <a:lnTo>
                  <a:pt x="1962" y="1114"/>
                </a:lnTo>
                <a:lnTo>
                  <a:pt x="1974" y="1118"/>
                </a:lnTo>
                <a:lnTo>
                  <a:pt x="1987" y="1122"/>
                </a:lnTo>
                <a:lnTo>
                  <a:pt x="2000" y="1126"/>
                </a:lnTo>
                <a:lnTo>
                  <a:pt x="2012" y="1129"/>
                </a:lnTo>
                <a:lnTo>
                  <a:pt x="2025" y="1133"/>
                </a:lnTo>
                <a:lnTo>
                  <a:pt x="2038" y="1136"/>
                </a:lnTo>
                <a:lnTo>
                  <a:pt x="2050" y="1139"/>
                </a:lnTo>
                <a:lnTo>
                  <a:pt x="2063" y="1143"/>
                </a:lnTo>
                <a:lnTo>
                  <a:pt x="2075" y="1147"/>
                </a:lnTo>
                <a:lnTo>
                  <a:pt x="2088" y="1150"/>
                </a:lnTo>
                <a:lnTo>
                  <a:pt x="2101" y="1153"/>
                </a:lnTo>
                <a:lnTo>
                  <a:pt x="2113" y="1157"/>
                </a:lnTo>
                <a:lnTo>
                  <a:pt x="2126" y="1161"/>
                </a:lnTo>
                <a:lnTo>
                  <a:pt x="2139" y="1163"/>
                </a:lnTo>
                <a:lnTo>
                  <a:pt x="2151" y="1167"/>
                </a:lnTo>
                <a:lnTo>
                  <a:pt x="2164" y="1171"/>
                </a:lnTo>
                <a:lnTo>
                  <a:pt x="2177" y="1175"/>
                </a:lnTo>
                <a:lnTo>
                  <a:pt x="2189" y="1177"/>
                </a:lnTo>
                <a:lnTo>
                  <a:pt x="2202" y="1181"/>
                </a:lnTo>
                <a:lnTo>
                  <a:pt x="2215" y="1185"/>
                </a:lnTo>
                <a:lnTo>
                  <a:pt x="2227" y="1187"/>
                </a:lnTo>
                <a:lnTo>
                  <a:pt x="2240" y="1191"/>
                </a:lnTo>
                <a:lnTo>
                  <a:pt x="2253" y="1195"/>
                </a:lnTo>
                <a:lnTo>
                  <a:pt x="2265" y="1198"/>
                </a:lnTo>
                <a:lnTo>
                  <a:pt x="2278" y="1201"/>
                </a:lnTo>
                <a:lnTo>
                  <a:pt x="2290" y="1204"/>
                </a:lnTo>
                <a:lnTo>
                  <a:pt x="2303" y="1208"/>
                </a:lnTo>
                <a:lnTo>
                  <a:pt x="2316" y="1212"/>
                </a:lnTo>
                <a:lnTo>
                  <a:pt x="2328" y="1214"/>
                </a:lnTo>
                <a:lnTo>
                  <a:pt x="2341" y="1218"/>
                </a:lnTo>
                <a:lnTo>
                  <a:pt x="2354" y="1222"/>
                </a:lnTo>
                <a:lnTo>
                  <a:pt x="2366" y="1224"/>
                </a:lnTo>
                <a:lnTo>
                  <a:pt x="2380" y="1228"/>
                </a:lnTo>
                <a:lnTo>
                  <a:pt x="2393" y="1230"/>
                </a:lnTo>
                <a:lnTo>
                  <a:pt x="2406" y="1234"/>
                </a:lnTo>
                <a:lnTo>
                  <a:pt x="2418" y="1237"/>
                </a:lnTo>
                <a:lnTo>
                  <a:pt x="2431" y="1241"/>
                </a:lnTo>
                <a:lnTo>
                  <a:pt x="2443" y="1244"/>
                </a:lnTo>
                <a:lnTo>
                  <a:pt x="2456" y="1247"/>
                </a:lnTo>
                <a:lnTo>
                  <a:pt x="2469" y="1251"/>
                </a:lnTo>
                <a:lnTo>
                  <a:pt x="2481" y="1253"/>
                </a:lnTo>
                <a:lnTo>
                  <a:pt x="2494" y="1257"/>
                </a:lnTo>
                <a:lnTo>
                  <a:pt x="2507" y="1260"/>
                </a:lnTo>
                <a:lnTo>
                  <a:pt x="2519" y="1263"/>
                </a:lnTo>
                <a:lnTo>
                  <a:pt x="2532" y="1266"/>
                </a:lnTo>
                <a:lnTo>
                  <a:pt x="2545" y="1270"/>
                </a:lnTo>
                <a:lnTo>
                  <a:pt x="2557" y="1272"/>
                </a:lnTo>
                <a:lnTo>
                  <a:pt x="2570" y="1276"/>
                </a:lnTo>
                <a:lnTo>
                  <a:pt x="2583" y="1279"/>
                </a:lnTo>
                <a:lnTo>
                  <a:pt x="2595" y="1282"/>
                </a:lnTo>
                <a:lnTo>
                  <a:pt x="2608" y="1285"/>
                </a:lnTo>
                <a:lnTo>
                  <a:pt x="2621" y="1289"/>
                </a:lnTo>
                <a:lnTo>
                  <a:pt x="2633" y="1291"/>
                </a:lnTo>
                <a:lnTo>
                  <a:pt x="2646" y="1294"/>
                </a:lnTo>
                <a:lnTo>
                  <a:pt x="2658" y="1297"/>
                </a:lnTo>
                <a:lnTo>
                  <a:pt x="2671" y="1300"/>
                </a:lnTo>
                <a:lnTo>
                  <a:pt x="2684" y="1304"/>
                </a:lnTo>
                <a:lnTo>
                  <a:pt x="2696" y="1306"/>
                </a:lnTo>
                <a:lnTo>
                  <a:pt x="2709" y="1310"/>
                </a:lnTo>
                <a:lnTo>
                  <a:pt x="2722" y="1313"/>
                </a:lnTo>
                <a:lnTo>
                  <a:pt x="2734" y="1315"/>
                </a:lnTo>
                <a:lnTo>
                  <a:pt x="2747" y="1319"/>
                </a:lnTo>
                <a:lnTo>
                  <a:pt x="2760" y="1321"/>
                </a:lnTo>
                <a:lnTo>
                  <a:pt x="2772" y="1325"/>
                </a:lnTo>
                <a:lnTo>
                  <a:pt x="2785" y="1328"/>
                </a:lnTo>
                <a:lnTo>
                  <a:pt x="2798" y="1330"/>
                </a:lnTo>
                <a:lnTo>
                  <a:pt x="2810" y="1334"/>
                </a:lnTo>
                <a:lnTo>
                  <a:pt x="2823" y="1337"/>
                </a:lnTo>
                <a:lnTo>
                  <a:pt x="2835" y="1340"/>
                </a:lnTo>
                <a:lnTo>
                  <a:pt x="2848" y="1343"/>
                </a:lnTo>
                <a:lnTo>
                  <a:pt x="2861" y="1346"/>
                </a:lnTo>
                <a:lnTo>
                  <a:pt x="2873" y="1349"/>
                </a:lnTo>
                <a:lnTo>
                  <a:pt x="2886" y="1352"/>
                </a:lnTo>
                <a:lnTo>
                  <a:pt x="2899" y="1354"/>
                </a:lnTo>
                <a:lnTo>
                  <a:pt x="2911" y="1358"/>
                </a:lnTo>
                <a:lnTo>
                  <a:pt x="2924" y="1361"/>
                </a:lnTo>
                <a:lnTo>
                  <a:pt x="2937" y="1363"/>
                </a:lnTo>
                <a:lnTo>
                  <a:pt x="2949" y="1367"/>
                </a:lnTo>
                <a:lnTo>
                  <a:pt x="2962" y="1370"/>
                </a:lnTo>
                <a:lnTo>
                  <a:pt x="2975" y="1372"/>
                </a:lnTo>
                <a:lnTo>
                  <a:pt x="2987" y="1376"/>
                </a:lnTo>
                <a:lnTo>
                  <a:pt x="3000" y="1378"/>
                </a:lnTo>
                <a:lnTo>
                  <a:pt x="3013" y="1381"/>
                </a:lnTo>
                <a:lnTo>
                  <a:pt x="3025" y="1383"/>
                </a:lnTo>
                <a:lnTo>
                  <a:pt x="3038" y="1387"/>
                </a:lnTo>
                <a:lnTo>
                  <a:pt x="3050" y="1390"/>
                </a:lnTo>
                <a:lnTo>
                  <a:pt x="3063" y="1392"/>
                </a:lnTo>
                <a:lnTo>
                  <a:pt x="3076" y="1396"/>
                </a:lnTo>
                <a:lnTo>
                  <a:pt x="3088" y="1399"/>
                </a:lnTo>
                <a:lnTo>
                  <a:pt x="3101" y="1401"/>
                </a:lnTo>
                <a:lnTo>
                  <a:pt x="3114" y="1404"/>
                </a:lnTo>
                <a:lnTo>
                  <a:pt x="3126" y="1407"/>
                </a:lnTo>
                <a:lnTo>
                  <a:pt x="3139" y="1410"/>
                </a:lnTo>
                <a:lnTo>
                  <a:pt x="3152" y="1413"/>
                </a:lnTo>
                <a:lnTo>
                  <a:pt x="3164" y="1415"/>
                </a:ln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5"/>
          <p:cNvSpPr/>
          <p:nvPr/>
        </p:nvSpPr>
        <p:spPr>
          <a:xfrm flipV="1">
            <a:off x="905040" y="1571760"/>
            <a:ext cx="0" cy="435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67920" y="120816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6106680" y="587520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8"/>
          <p:cNvSpPr/>
          <p:nvPr/>
        </p:nvSpPr>
        <p:spPr>
          <a:xfrm>
            <a:off x="1523880" y="2738520"/>
            <a:ext cx="0" cy="32050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9"/>
          <p:cNvSpPr/>
          <p:nvPr/>
        </p:nvSpPr>
        <p:spPr>
          <a:xfrm>
            <a:off x="1033560" y="4400640"/>
            <a:ext cx="1095120" cy="69048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"/>
          <p:cNvSpPr/>
          <p:nvPr/>
        </p:nvSpPr>
        <p:spPr>
          <a:xfrm>
            <a:off x="1095480" y="3476520"/>
            <a:ext cx="1095120" cy="69084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1"/>
          <p:cNvSpPr/>
          <p:nvPr/>
        </p:nvSpPr>
        <p:spPr>
          <a:xfrm>
            <a:off x="1071720" y="2452680"/>
            <a:ext cx="1095120" cy="69048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2"/>
          <p:cNvSpPr/>
          <p:nvPr/>
        </p:nvSpPr>
        <p:spPr>
          <a:xfrm>
            <a:off x="3124080" y="3405240"/>
            <a:ext cx="0" cy="25383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3"/>
          <p:cNvSpPr/>
          <p:nvPr/>
        </p:nvSpPr>
        <p:spPr>
          <a:xfrm>
            <a:off x="2452680" y="5110200"/>
            <a:ext cx="1357200" cy="44136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4"/>
          <p:cNvSpPr/>
          <p:nvPr/>
        </p:nvSpPr>
        <p:spPr>
          <a:xfrm>
            <a:off x="2476440" y="4262400"/>
            <a:ext cx="1357200" cy="44136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5"/>
          <p:cNvSpPr/>
          <p:nvPr/>
        </p:nvSpPr>
        <p:spPr>
          <a:xfrm>
            <a:off x="2476440" y="3262320"/>
            <a:ext cx="1357200" cy="44136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6"/>
          <p:cNvSpPr/>
          <p:nvPr/>
        </p:nvSpPr>
        <p:spPr>
          <a:xfrm>
            <a:off x="2846520" y="2160720"/>
            <a:ext cx="62974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ждая из кривых безразличия есть вертикальный сдвиг другой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22"/>
          <p:cNvSpPr/>
          <p:nvPr/>
        </p:nvSpPr>
        <p:spPr>
          <a:xfrm>
            <a:off x="914400" y="5905440"/>
            <a:ext cx="5334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 специального вида и их кривые безразлич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714320"/>
            <a:ext cx="8115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ункция вида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U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b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гда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&gt; 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 &gt; 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называется функцией полезности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Кобба-Дугласа (Cobb-Douglas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пример, U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= b = 1/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V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=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 = 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Кривые безразличия функции Кобба-Дугласа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98" name="Picture 3" descr=""/>
          <p:cNvPicPr/>
          <p:nvPr/>
        </p:nvPicPr>
        <p:blipFill>
          <a:blip r:embed="rId1"/>
          <a:stretch/>
        </p:blipFill>
        <p:spPr>
          <a:xfrm>
            <a:off x="642960" y="507960"/>
            <a:ext cx="7916760" cy="5975280"/>
          </a:xfrm>
          <a:prstGeom prst="rect">
            <a:avLst/>
          </a:prstGeom>
          <a:ln w="0">
            <a:noFill/>
          </a:ln>
        </p:spPr>
      </p:pic>
      <p:sp>
        <p:nvSpPr>
          <p:cNvPr id="399" name="Line 4"/>
          <p:cNvSpPr/>
          <p:nvPr/>
        </p:nvSpPr>
        <p:spPr>
          <a:xfrm flipV="1">
            <a:off x="1847880" y="990360"/>
            <a:ext cx="0" cy="4591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1172880" y="77004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6240240" y="543708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3246480" y="1736640"/>
            <a:ext cx="58975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ждая кривая безразличия - гипербола, ассимптотически прибл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ающаяся к осям координат, 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есекающая их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едельная полезность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62956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рмин предельный понимается как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малый”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дельная полезность продукта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есть прирост полезности набора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получаемый при изменении в нем количества продукта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 одну достаточно малую единицу при сохранении неизменными объемов других благ, т.е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4"/>
              <p:cNvSpPr txBox="1"/>
              <p:nvPr/>
            </p:nvSpPr>
            <p:spPr>
              <a:xfrm>
                <a:off x="3046320" y="4983120"/>
                <a:ext cx="323388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714320"/>
            <a:ext cx="811548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дем говорить, что функция полезност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(x)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писывает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ношение предпочтения </a:t>
            </a:r>
            <a:r>
              <a:rPr b="1" lang="en-US" sz="2800" spc="-1" strike="noStrike">
                <a:solidFill>
                  <a:srgbClr val="ffffff"/>
                </a:solidFill>
                <a:latin typeface="Math B"/>
                <a:ea typeface="Math B"/>
              </a:rPr>
              <a:t>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гда и только тогда, когда для любых двух наборов благ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’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x”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ерны следующие соотношени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x’ </a:t>
            </a:r>
            <a:r>
              <a:rPr b="1" lang="en-US" sz="2800" spc="-1" strike="noStrike">
                <a:solidFill>
                  <a:srgbClr val="ffffff"/>
                </a:solidFill>
                <a:latin typeface="Math B"/>
                <a:ea typeface="Math B"/>
              </a:rPr>
              <a:t>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x”                   U(x’) &gt; U(x”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x’ </a:t>
            </a:r>
            <a:r>
              <a:rPr b="1" lang="en-US" sz="2800" spc="-1" strike="noStrike">
                <a:solidFill>
                  <a:srgbClr val="ffffff"/>
                </a:solidFill>
                <a:latin typeface="Math B"/>
                <a:ea typeface="Math B"/>
              </a:rPr>
              <a:t>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x”                   U(x’) &lt; U(x”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x’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x”                   U(x’) = U(x”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6"/>
          <p:cNvGrpSpPr/>
          <p:nvPr/>
        </p:nvGrpSpPr>
        <p:grpSpPr>
          <a:xfrm>
            <a:off x="3454560" y="3782880"/>
            <a:ext cx="1054080" cy="406440"/>
            <a:chOff x="3454560" y="3782880"/>
            <a:chExt cx="1054080" cy="406440"/>
          </a:xfrm>
        </p:grpSpPr>
        <p:sp>
          <p:nvSpPr>
            <p:cNvPr id="129" name="AutoShape 4"/>
            <p:cNvSpPr/>
            <p:nvPr/>
          </p:nvSpPr>
          <p:spPr>
            <a:xfrm>
              <a:off x="3988080" y="3782880"/>
              <a:ext cx="520560" cy="406440"/>
            </a:xfrm>
            <a:prstGeom prst="rightArrow">
              <a:avLst>
                <a:gd name="adj1" fmla="val 50000"/>
                <a:gd name="adj2" fmla="val 64044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5"/>
            <p:cNvSpPr/>
            <p:nvPr/>
          </p:nvSpPr>
          <p:spPr>
            <a:xfrm>
              <a:off x="3454560" y="3782880"/>
              <a:ext cx="520920" cy="406440"/>
            </a:xfrm>
            <a:prstGeom prst="leftArrow">
              <a:avLst>
                <a:gd name="adj1" fmla="val 50000"/>
                <a:gd name="adj2" fmla="val 6407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Group 9"/>
          <p:cNvGrpSpPr/>
          <p:nvPr/>
        </p:nvGrpSpPr>
        <p:grpSpPr>
          <a:xfrm>
            <a:off x="3459240" y="4440240"/>
            <a:ext cx="1053720" cy="406440"/>
            <a:chOff x="3459240" y="4440240"/>
            <a:chExt cx="1053720" cy="406440"/>
          </a:xfrm>
        </p:grpSpPr>
        <p:sp>
          <p:nvSpPr>
            <p:cNvPr id="132" name="AutoShape 7"/>
            <p:cNvSpPr/>
            <p:nvPr/>
          </p:nvSpPr>
          <p:spPr>
            <a:xfrm>
              <a:off x="3992400" y="4440240"/>
              <a:ext cx="520560" cy="406440"/>
            </a:xfrm>
            <a:prstGeom prst="rightArrow">
              <a:avLst>
                <a:gd name="adj1" fmla="val 50000"/>
                <a:gd name="adj2" fmla="val 64044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AutoShape 8"/>
            <p:cNvSpPr/>
            <p:nvPr/>
          </p:nvSpPr>
          <p:spPr>
            <a:xfrm>
              <a:off x="3459240" y="4440240"/>
              <a:ext cx="520560" cy="406440"/>
            </a:xfrm>
            <a:prstGeom prst="leftArrow">
              <a:avLst>
                <a:gd name="adj1" fmla="val 50000"/>
                <a:gd name="adj2" fmla="val 64033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12"/>
          <p:cNvGrpSpPr/>
          <p:nvPr/>
        </p:nvGrpSpPr>
        <p:grpSpPr>
          <a:xfrm>
            <a:off x="3449520" y="5130720"/>
            <a:ext cx="1054080" cy="378000"/>
            <a:chOff x="3449520" y="5130720"/>
            <a:chExt cx="1054080" cy="378000"/>
          </a:xfrm>
        </p:grpSpPr>
        <p:sp>
          <p:nvSpPr>
            <p:cNvPr id="135" name="AutoShape 10"/>
            <p:cNvSpPr/>
            <p:nvPr/>
          </p:nvSpPr>
          <p:spPr>
            <a:xfrm>
              <a:off x="3983040" y="5130720"/>
              <a:ext cx="520560" cy="378000"/>
            </a:xfrm>
            <a:prstGeom prst="rightArrow">
              <a:avLst>
                <a:gd name="adj1" fmla="val 50000"/>
                <a:gd name="adj2" fmla="val 68863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AutoShape 11"/>
            <p:cNvSpPr/>
            <p:nvPr/>
          </p:nvSpPr>
          <p:spPr>
            <a:xfrm>
              <a:off x="3449520" y="5130720"/>
              <a:ext cx="520920" cy="378000"/>
            </a:xfrm>
            <a:prstGeom prst="leftArrow">
              <a:avLst>
                <a:gd name="adj1" fmla="val 50000"/>
                <a:gd name="adj2" fmla="val 68898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едельная полезность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пример, если U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/2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т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4"/>
              <p:cNvSpPr txBox="1"/>
              <p:nvPr/>
            </p:nvSpPr>
            <p:spPr>
              <a:xfrm>
                <a:off x="2225520" y="2825640"/>
                <a:ext cx="417852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¶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bSup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едельная полезность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520" y="165744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пример, если U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/2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т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4"/>
              <p:cNvSpPr txBox="1"/>
              <p:nvPr/>
            </p:nvSpPr>
            <p:spPr>
              <a:xfrm>
                <a:off x="1940040" y="3130560"/>
                <a:ext cx="40161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¶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bSup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2" name="Rectangle 5"/>
          <p:cNvSpPr/>
          <p:nvPr/>
        </p:nvSpPr>
        <p:spPr>
          <a:xfrm>
            <a:off x="5526000" y="3216240"/>
            <a:ext cx="615960" cy="82080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6273720" y="1563840"/>
            <a:ext cx="511200" cy="7729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едельная полезность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пример, если U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/2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т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4"/>
              <p:cNvSpPr txBox="1"/>
              <p:nvPr/>
            </p:nvSpPr>
            <p:spPr>
              <a:xfrm>
                <a:off x="2416320" y="2476440"/>
                <a:ext cx="4178160" cy="17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¶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едельная полезность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714320"/>
            <a:ext cx="7962840" cy="207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пример, U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/2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т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4"/>
              <p:cNvSpPr txBox="1"/>
              <p:nvPr/>
            </p:nvSpPr>
            <p:spPr>
              <a:xfrm>
                <a:off x="1940040" y="2781360"/>
                <a:ext cx="4178160" cy="17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¶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0" name="Rectangle 5"/>
          <p:cNvSpPr/>
          <p:nvPr/>
        </p:nvSpPr>
        <p:spPr>
          <a:xfrm>
            <a:off x="4692600" y="1697040"/>
            <a:ext cx="820800" cy="58248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4888080" y="3554280"/>
            <a:ext cx="749160" cy="70164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едельная полезность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.о., если U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/2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т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4"/>
              <p:cNvSpPr txBox="1"/>
              <p:nvPr/>
            </p:nvSpPr>
            <p:spPr>
              <a:xfrm>
                <a:off x="1940040" y="2543040"/>
                <a:ext cx="41878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¶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¶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1680" y="123480"/>
            <a:ext cx="80388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едельная полезност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и предельная норма замены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57040" y="1300320"/>
            <a:ext cx="8677440" cy="47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бщее уравнение кривой безразличия функции полезности U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имеет вид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нная константа,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&gt;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данном случае кривая безразличия есть ничто иное, как линия уровня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функции полезности, то есть множество всех возможных наборов потребительских благ, полезность которых равна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лный дифференциал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выражения U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выглядит следующим образом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4"/>
              <p:cNvSpPr txBox="1"/>
              <p:nvPr/>
            </p:nvSpPr>
            <p:spPr>
              <a:xfrm>
                <a:off x="2687760" y="5781600"/>
                <a:ext cx="40924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¶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¶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едельная полезност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и предельная норма замены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2106720" y="1590840"/>
                <a:ext cx="41688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¶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¶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4"/>
              <p:cNvSpPr txBox="1"/>
              <p:nvPr/>
            </p:nvSpPr>
            <p:spPr>
              <a:xfrm>
                <a:off x="2214720" y="3801960"/>
                <a:ext cx="388620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¶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¶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1" name="Rectangle 5"/>
          <p:cNvSpPr/>
          <p:nvPr/>
        </p:nvSpPr>
        <p:spPr>
          <a:xfrm>
            <a:off x="986760" y="3137040"/>
            <a:ext cx="72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образовав это выражение, получи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едельная полезност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и предельная норма замены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3"/>
              <p:cNvSpPr txBox="1"/>
              <p:nvPr/>
            </p:nvSpPr>
            <p:spPr>
              <a:xfrm>
                <a:off x="2452680" y="1920960"/>
                <a:ext cx="388620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¶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¶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4" name="Rectangle 4"/>
          <p:cNvSpPr/>
          <p:nvPr/>
        </p:nvSpPr>
        <p:spPr>
          <a:xfrm>
            <a:off x="1800" y="3236760"/>
            <a:ext cx="3074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дставим как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1800" y="1703520"/>
            <a:ext cx="2239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раже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6"/>
              <p:cNvSpPr txBox="1"/>
              <p:nvPr/>
            </p:nvSpPr>
            <p:spPr>
              <a:xfrm>
                <a:off x="2543040" y="3825720"/>
                <a:ext cx="35910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t xml:space="preserve">¶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¶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¶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¶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Rectangle 7"/>
          <p:cNvSpPr/>
          <p:nvPr/>
        </p:nvSpPr>
        <p:spPr>
          <a:xfrm>
            <a:off x="0" y="4970520"/>
            <a:ext cx="9144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трудно видеть, что это есть предельная норма замены MR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едельная полезност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и предельная норма замены: пример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опустим, что U(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 Tогда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2500200" y="2225520"/>
                <a:ext cx="3648240" cy="253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¶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¶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5"/>
              <p:cNvSpPr txBox="1"/>
              <p:nvPr/>
            </p:nvSpPr>
            <p:spPr>
              <a:xfrm>
                <a:off x="1461960" y="4859280"/>
                <a:ext cx="659304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t xml:space="preserve">¶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¶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¶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¶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426600" y="5132520"/>
            <a:ext cx="91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.о.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едельная полезност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и предельная норма замены: пример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Freeform 4"/>
          <p:cNvSpPr/>
          <p:nvPr/>
        </p:nvSpPr>
        <p:spPr>
          <a:xfrm>
            <a:off x="2049480" y="1812960"/>
            <a:ext cx="3573360" cy="4017960"/>
          </a:xfrm>
          <a:custGeom>
            <a:avLst/>
            <a:gdLst/>
            <a:ahLst/>
            <a:rect l="l" t="t" r="r" b="b"/>
            <a:pathLst>
              <a:path w="2251" h="2531">
                <a:moveTo>
                  <a:pt x="0" y="0"/>
                </a:moveTo>
                <a:lnTo>
                  <a:pt x="10" y="199"/>
                </a:lnTo>
                <a:lnTo>
                  <a:pt x="22" y="389"/>
                </a:lnTo>
                <a:lnTo>
                  <a:pt x="34" y="552"/>
                </a:lnTo>
                <a:lnTo>
                  <a:pt x="47" y="695"/>
                </a:lnTo>
                <a:lnTo>
                  <a:pt x="58" y="819"/>
                </a:lnTo>
                <a:lnTo>
                  <a:pt x="70" y="928"/>
                </a:lnTo>
                <a:lnTo>
                  <a:pt x="82" y="1025"/>
                </a:lnTo>
                <a:lnTo>
                  <a:pt x="94" y="1112"/>
                </a:lnTo>
                <a:lnTo>
                  <a:pt x="106" y="1191"/>
                </a:lnTo>
                <a:lnTo>
                  <a:pt x="117" y="1262"/>
                </a:lnTo>
                <a:lnTo>
                  <a:pt x="130" y="1326"/>
                </a:lnTo>
                <a:lnTo>
                  <a:pt x="142" y="1385"/>
                </a:lnTo>
                <a:lnTo>
                  <a:pt x="154" y="1438"/>
                </a:lnTo>
                <a:lnTo>
                  <a:pt x="165" y="1488"/>
                </a:lnTo>
                <a:lnTo>
                  <a:pt x="177" y="1534"/>
                </a:lnTo>
                <a:lnTo>
                  <a:pt x="189" y="1576"/>
                </a:lnTo>
                <a:lnTo>
                  <a:pt x="201" y="1616"/>
                </a:lnTo>
                <a:lnTo>
                  <a:pt x="214" y="1653"/>
                </a:lnTo>
                <a:lnTo>
                  <a:pt x="225" y="1687"/>
                </a:lnTo>
                <a:lnTo>
                  <a:pt x="237" y="1719"/>
                </a:lnTo>
                <a:lnTo>
                  <a:pt x="249" y="1749"/>
                </a:lnTo>
                <a:lnTo>
                  <a:pt x="261" y="1777"/>
                </a:lnTo>
                <a:lnTo>
                  <a:pt x="272" y="1804"/>
                </a:lnTo>
                <a:lnTo>
                  <a:pt x="284" y="1828"/>
                </a:lnTo>
                <a:lnTo>
                  <a:pt x="296" y="1853"/>
                </a:lnTo>
                <a:lnTo>
                  <a:pt x="309" y="1875"/>
                </a:lnTo>
                <a:lnTo>
                  <a:pt x="321" y="1896"/>
                </a:lnTo>
                <a:lnTo>
                  <a:pt x="332" y="1916"/>
                </a:lnTo>
                <a:lnTo>
                  <a:pt x="344" y="1934"/>
                </a:lnTo>
                <a:lnTo>
                  <a:pt x="356" y="1953"/>
                </a:lnTo>
                <a:lnTo>
                  <a:pt x="368" y="1970"/>
                </a:lnTo>
                <a:lnTo>
                  <a:pt x="379" y="1986"/>
                </a:lnTo>
                <a:lnTo>
                  <a:pt x="391" y="2003"/>
                </a:lnTo>
                <a:lnTo>
                  <a:pt x="404" y="2017"/>
                </a:lnTo>
                <a:lnTo>
                  <a:pt x="416" y="2032"/>
                </a:lnTo>
                <a:lnTo>
                  <a:pt x="428" y="2046"/>
                </a:lnTo>
                <a:lnTo>
                  <a:pt x="439" y="2059"/>
                </a:lnTo>
                <a:lnTo>
                  <a:pt x="451" y="2071"/>
                </a:lnTo>
                <a:lnTo>
                  <a:pt x="463" y="2083"/>
                </a:lnTo>
                <a:lnTo>
                  <a:pt x="475" y="2096"/>
                </a:lnTo>
                <a:lnTo>
                  <a:pt x="486" y="2107"/>
                </a:lnTo>
                <a:lnTo>
                  <a:pt x="499" y="2118"/>
                </a:lnTo>
                <a:lnTo>
                  <a:pt x="511" y="2128"/>
                </a:lnTo>
                <a:lnTo>
                  <a:pt x="523" y="2138"/>
                </a:lnTo>
                <a:lnTo>
                  <a:pt x="535" y="2148"/>
                </a:lnTo>
                <a:lnTo>
                  <a:pt x="546" y="2156"/>
                </a:lnTo>
                <a:lnTo>
                  <a:pt x="558" y="2165"/>
                </a:lnTo>
                <a:lnTo>
                  <a:pt x="570" y="2174"/>
                </a:lnTo>
                <a:lnTo>
                  <a:pt x="583" y="2183"/>
                </a:lnTo>
                <a:lnTo>
                  <a:pt x="594" y="2191"/>
                </a:lnTo>
                <a:lnTo>
                  <a:pt x="606" y="2198"/>
                </a:lnTo>
                <a:lnTo>
                  <a:pt x="618" y="2206"/>
                </a:lnTo>
                <a:lnTo>
                  <a:pt x="630" y="2214"/>
                </a:lnTo>
                <a:lnTo>
                  <a:pt x="642" y="2220"/>
                </a:lnTo>
                <a:lnTo>
                  <a:pt x="653" y="2228"/>
                </a:lnTo>
                <a:lnTo>
                  <a:pt x="665" y="2235"/>
                </a:lnTo>
                <a:lnTo>
                  <a:pt x="678" y="2241"/>
                </a:lnTo>
                <a:lnTo>
                  <a:pt x="690" y="2248"/>
                </a:lnTo>
                <a:lnTo>
                  <a:pt x="701" y="2254"/>
                </a:lnTo>
                <a:lnTo>
                  <a:pt x="713" y="2260"/>
                </a:lnTo>
                <a:lnTo>
                  <a:pt x="725" y="2266"/>
                </a:lnTo>
                <a:lnTo>
                  <a:pt x="737" y="2271"/>
                </a:lnTo>
                <a:lnTo>
                  <a:pt x="749" y="2277"/>
                </a:lnTo>
                <a:lnTo>
                  <a:pt x="760" y="2282"/>
                </a:lnTo>
                <a:lnTo>
                  <a:pt x="773" y="2287"/>
                </a:lnTo>
                <a:lnTo>
                  <a:pt x="785" y="2292"/>
                </a:lnTo>
                <a:lnTo>
                  <a:pt x="797" y="2298"/>
                </a:lnTo>
                <a:lnTo>
                  <a:pt x="808" y="2302"/>
                </a:lnTo>
                <a:lnTo>
                  <a:pt x="820" y="2307"/>
                </a:lnTo>
                <a:lnTo>
                  <a:pt x="832" y="2311"/>
                </a:lnTo>
                <a:lnTo>
                  <a:pt x="844" y="2315"/>
                </a:lnTo>
                <a:lnTo>
                  <a:pt x="857" y="2320"/>
                </a:lnTo>
                <a:lnTo>
                  <a:pt x="868" y="2324"/>
                </a:lnTo>
                <a:lnTo>
                  <a:pt x="880" y="2329"/>
                </a:lnTo>
                <a:lnTo>
                  <a:pt x="892" y="2333"/>
                </a:lnTo>
                <a:lnTo>
                  <a:pt x="904" y="2336"/>
                </a:lnTo>
                <a:lnTo>
                  <a:pt x="915" y="2341"/>
                </a:lnTo>
                <a:lnTo>
                  <a:pt x="927" y="2344"/>
                </a:lnTo>
                <a:lnTo>
                  <a:pt x="940" y="2349"/>
                </a:lnTo>
                <a:lnTo>
                  <a:pt x="952" y="2352"/>
                </a:lnTo>
                <a:lnTo>
                  <a:pt x="964" y="2355"/>
                </a:lnTo>
                <a:lnTo>
                  <a:pt x="975" y="2359"/>
                </a:lnTo>
                <a:lnTo>
                  <a:pt x="987" y="2362"/>
                </a:lnTo>
                <a:lnTo>
                  <a:pt x="999" y="2365"/>
                </a:lnTo>
                <a:lnTo>
                  <a:pt x="1011" y="2368"/>
                </a:lnTo>
                <a:lnTo>
                  <a:pt x="1022" y="2372"/>
                </a:lnTo>
                <a:lnTo>
                  <a:pt x="1035" y="2375"/>
                </a:lnTo>
                <a:lnTo>
                  <a:pt x="1047" y="2378"/>
                </a:lnTo>
                <a:lnTo>
                  <a:pt x="1059" y="2382"/>
                </a:lnTo>
                <a:lnTo>
                  <a:pt x="1071" y="2384"/>
                </a:lnTo>
                <a:lnTo>
                  <a:pt x="1082" y="2387"/>
                </a:lnTo>
                <a:lnTo>
                  <a:pt x="1094" y="2389"/>
                </a:lnTo>
                <a:lnTo>
                  <a:pt x="1106" y="2393"/>
                </a:lnTo>
                <a:lnTo>
                  <a:pt x="1119" y="2395"/>
                </a:lnTo>
                <a:lnTo>
                  <a:pt x="1130" y="2398"/>
                </a:lnTo>
                <a:lnTo>
                  <a:pt x="1142" y="2400"/>
                </a:lnTo>
                <a:lnTo>
                  <a:pt x="1154" y="2404"/>
                </a:lnTo>
                <a:lnTo>
                  <a:pt x="1166" y="2406"/>
                </a:lnTo>
                <a:lnTo>
                  <a:pt x="1178" y="2408"/>
                </a:lnTo>
                <a:lnTo>
                  <a:pt x="1189" y="2410"/>
                </a:lnTo>
                <a:lnTo>
                  <a:pt x="1201" y="2413"/>
                </a:lnTo>
                <a:lnTo>
                  <a:pt x="1214" y="2416"/>
                </a:lnTo>
                <a:lnTo>
                  <a:pt x="1226" y="2418"/>
                </a:lnTo>
                <a:lnTo>
                  <a:pt x="1237" y="2420"/>
                </a:lnTo>
                <a:lnTo>
                  <a:pt x="1249" y="2423"/>
                </a:lnTo>
                <a:lnTo>
                  <a:pt x="1261" y="2425"/>
                </a:lnTo>
                <a:lnTo>
                  <a:pt x="1273" y="2427"/>
                </a:lnTo>
                <a:lnTo>
                  <a:pt x="1285" y="2429"/>
                </a:lnTo>
                <a:lnTo>
                  <a:pt x="1296" y="2430"/>
                </a:lnTo>
                <a:lnTo>
                  <a:pt x="1309" y="2433"/>
                </a:lnTo>
                <a:lnTo>
                  <a:pt x="1321" y="2435"/>
                </a:lnTo>
                <a:lnTo>
                  <a:pt x="1333" y="2437"/>
                </a:lnTo>
                <a:lnTo>
                  <a:pt x="1344" y="2439"/>
                </a:lnTo>
                <a:lnTo>
                  <a:pt x="1356" y="2440"/>
                </a:lnTo>
                <a:lnTo>
                  <a:pt x="1368" y="2442"/>
                </a:lnTo>
                <a:lnTo>
                  <a:pt x="1380" y="2445"/>
                </a:lnTo>
                <a:lnTo>
                  <a:pt x="1393" y="2446"/>
                </a:lnTo>
                <a:lnTo>
                  <a:pt x="1404" y="2448"/>
                </a:lnTo>
                <a:lnTo>
                  <a:pt x="1416" y="2450"/>
                </a:lnTo>
                <a:lnTo>
                  <a:pt x="1428" y="2451"/>
                </a:lnTo>
                <a:lnTo>
                  <a:pt x="1440" y="2454"/>
                </a:lnTo>
                <a:lnTo>
                  <a:pt x="1451" y="2455"/>
                </a:lnTo>
                <a:lnTo>
                  <a:pt x="1463" y="2457"/>
                </a:lnTo>
                <a:lnTo>
                  <a:pt x="1475" y="2458"/>
                </a:lnTo>
                <a:lnTo>
                  <a:pt x="1488" y="2460"/>
                </a:lnTo>
                <a:lnTo>
                  <a:pt x="1500" y="2461"/>
                </a:lnTo>
                <a:lnTo>
                  <a:pt x="1511" y="2463"/>
                </a:lnTo>
                <a:lnTo>
                  <a:pt x="1523" y="2465"/>
                </a:lnTo>
                <a:lnTo>
                  <a:pt x="1535" y="2467"/>
                </a:lnTo>
                <a:lnTo>
                  <a:pt x="1547" y="2468"/>
                </a:lnTo>
                <a:lnTo>
                  <a:pt x="1558" y="2469"/>
                </a:lnTo>
                <a:lnTo>
                  <a:pt x="1570" y="2471"/>
                </a:lnTo>
                <a:lnTo>
                  <a:pt x="1583" y="2472"/>
                </a:lnTo>
                <a:lnTo>
                  <a:pt x="1595" y="2473"/>
                </a:lnTo>
                <a:lnTo>
                  <a:pt x="1607" y="2475"/>
                </a:lnTo>
                <a:lnTo>
                  <a:pt x="1618" y="2477"/>
                </a:lnTo>
                <a:lnTo>
                  <a:pt x="1630" y="2478"/>
                </a:lnTo>
                <a:lnTo>
                  <a:pt x="1642" y="2479"/>
                </a:lnTo>
                <a:lnTo>
                  <a:pt x="1654" y="2480"/>
                </a:lnTo>
                <a:lnTo>
                  <a:pt x="1666" y="2482"/>
                </a:lnTo>
                <a:lnTo>
                  <a:pt x="1678" y="2483"/>
                </a:lnTo>
                <a:lnTo>
                  <a:pt x="1690" y="2484"/>
                </a:lnTo>
                <a:lnTo>
                  <a:pt x="1702" y="2486"/>
                </a:lnTo>
                <a:lnTo>
                  <a:pt x="1714" y="2487"/>
                </a:lnTo>
                <a:lnTo>
                  <a:pt x="1725" y="2488"/>
                </a:lnTo>
                <a:lnTo>
                  <a:pt x="1737" y="2489"/>
                </a:lnTo>
                <a:lnTo>
                  <a:pt x="1749" y="2490"/>
                </a:lnTo>
                <a:lnTo>
                  <a:pt x="1762" y="2492"/>
                </a:lnTo>
                <a:lnTo>
                  <a:pt x="1773" y="2493"/>
                </a:lnTo>
                <a:lnTo>
                  <a:pt x="1785" y="2494"/>
                </a:lnTo>
                <a:lnTo>
                  <a:pt x="1797" y="2495"/>
                </a:lnTo>
                <a:lnTo>
                  <a:pt x="1809" y="2497"/>
                </a:lnTo>
                <a:lnTo>
                  <a:pt x="1821" y="2498"/>
                </a:lnTo>
                <a:lnTo>
                  <a:pt x="1832" y="2499"/>
                </a:lnTo>
                <a:lnTo>
                  <a:pt x="1845" y="2500"/>
                </a:lnTo>
                <a:lnTo>
                  <a:pt x="1857" y="2501"/>
                </a:lnTo>
                <a:lnTo>
                  <a:pt x="1869" y="2502"/>
                </a:lnTo>
                <a:lnTo>
                  <a:pt x="1880" y="2503"/>
                </a:lnTo>
                <a:lnTo>
                  <a:pt x="1892" y="2504"/>
                </a:lnTo>
                <a:lnTo>
                  <a:pt x="1904" y="2504"/>
                </a:lnTo>
                <a:lnTo>
                  <a:pt x="1916" y="2505"/>
                </a:lnTo>
                <a:lnTo>
                  <a:pt x="1929" y="2507"/>
                </a:lnTo>
                <a:lnTo>
                  <a:pt x="1940" y="2508"/>
                </a:lnTo>
                <a:lnTo>
                  <a:pt x="1952" y="2509"/>
                </a:lnTo>
                <a:lnTo>
                  <a:pt x="1964" y="2510"/>
                </a:lnTo>
                <a:lnTo>
                  <a:pt x="1976" y="2511"/>
                </a:lnTo>
                <a:lnTo>
                  <a:pt x="1987" y="2512"/>
                </a:lnTo>
                <a:lnTo>
                  <a:pt x="1999" y="2512"/>
                </a:lnTo>
                <a:lnTo>
                  <a:pt x="2011" y="2513"/>
                </a:lnTo>
                <a:lnTo>
                  <a:pt x="2024" y="2514"/>
                </a:lnTo>
                <a:lnTo>
                  <a:pt x="2036" y="2515"/>
                </a:lnTo>
                <a:lnTo>
                  <a:pt x="2047" y="2516"/>
                </a:lnTo>
                <a:lnTo>
                  <a:pt x="2059" y="2518"/>
                </a:lnTo>
                <a:lnTo>
                  <a:pt x="2071" y="2518"/>
                </a:lnTo>
                <a:lnTo>
                  <a:pt x="2083" y="2519"/>
                </a:lnTo>
                <a:lnTo>
                  <a:pt x="2094" y="2520"/>
                </a:lnTo>
                <a:lnTo>
                  <a:pt x="2106" y="2521"/>
                </a:lnTo>
                <a:lnTo>
                  <a:pt x="2119" y="2521"/>
                </a:lnTo>
                <a:lnTo>
                  <a:pt x="2131" y="2522"/>
                </a:lnTo>
                <a:lnTo>
                  <a:pt x="2143" y="2523"/>
                </a:lnTo>
                <a:lnTo>
                  <a:pt x="2154" y="2524"/>
                </a:lnTo>
                <a:lnTo>
                  <a:pt x="2166" y="2524"/>
                </a:lnTo>
                <a:lnTo>
                  <a:pt x="2178" y="2525"/>
                </a:lnTo>
                <a:lnTo>
                  <a:pt x="2190" y="2526"/>
                </a:lnTo>
                <a:lnTo>
                  <a:pt x="2201" y="2528"/>
                </a:lnTo>
                <a:lnTo>
                  <a:pt x="2214" y="2528"/>
                </a:lnTo>
                <a:lnTo>
                  <a:pt x="2226" y="2529"/>
                </a:lnTo>
                <a:lnTo>
                  <a:pt x="2238" y="2530"/>
                </a:lnTo>
                <a:lnTo>
                  <a:pt x="2250" y="2530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Freeform 5"/>
          <p:cNvSpPr/>
          <p:nvPr/>
        </p:nvSpPr>
        <p:spPr>
          <a:xfrm>
            <a:off x="2678040" y="1812960"/>
            <a:ext cx="2944800" cy="3308400"/>
          </a:xfrm>
          <a:custGeom>
            <a:avLst/>
            <a:gdLst/>
            <a:ahLst/>
            <a:rect l="l" t="t" r="r" b="b"/>
            <a:pathLst>
              <a:path w="1855" h="2084">
                <a:moveTo>
                  <a:pt x="0" y="0"/>
                </a:moveTo>
                <a:lnTo>
                  <a:pt x="8" y="33"/>
                </a:lnTo>
                <a:lnTo>
                  <a:pt x="20" y="91"/>
                </a:lnTo>
                <a:lnTo>
                  <a:pt x="32" y="146"/>
                </a:lnTo>
                <a:lnTo>
                  <a:pt x="43" y="199"/>
                </a:lnTo>
                <a:lnTo>
                  <a:pt x="55" y="249"/>
                </a:lnTo>
                <a:lnTo>
                  <a:pt x="67" y="297"/>
                </a:lnTo>
                <a:lnTo>
                  <a:pt x="79" y="345"/>
                </a:lnTo>
                <a:lnTo>
                  <a:pt x="90" y="389"/>
                </a:lnTo>
                <a:lnTo>
                  <a:pt x="103" y="432"/>
                </a:lnTo>
                <a:lnTo>
                  <a:pt x="115" y="474"/>
                </a:lnTo>
                <a:lnTo>
                  <a:pt x="127" y="514"/>
                </a:lnTo>
                <a:lnTo>
                  <a:pt x="139" y="552"/>
                </a:lnTo>
                <a:lnTo>
                  <a:pt x="150" y="590"/>
                </a:lnTo>
                <a:lnTo>
                  <a:pt x="162" y="626"/>
                </a:lnTo>
                <a:lnTo>
                  <a:pt x="174" y="661"/>
                </a:lnTo>
                <a:lnTo>
                  <a:pt x="187" y="695"/>
                </a:lnTo>
                <a:lnTo>
                  <a:pt x="198" y="727"/>
                </a:lnTo>
                <a:lnTo>
                  <a:pt x="210" y="759"/>
                </a:lnTo>
                <a:lnTo>
                  <a:pt x="222" y="789"/>
                </a:lnTo>
                <a:lnTo>
                  <a:pt x="234" y="819"/>
                </a:lnTo>
                <a:lnTo>
                  <a:pt x="246" y="847"/>
                </a:lnTo>
                <a:lnTo>
                  <a:pt x="257" y="875"/>
                </a:lnTo>
                <a:lnTo>
                  <a:pt x="269" y="902"/>
                </a:lnTo>
                <a:lnTo>
                  <a:pt x="282" y="928"/>
                </a:lnTo>
                <a:lnTo>
                  <a:pt x="294" y="953"/>
                </a:lnTo>
                <a:lnTo>
                  <a:pt x="305" y="978"/>
                </a:lnTo>
                <a:lnTo>
                  <a:pt x="317" y="1002"/>
                </a:lnTo>
                <a:lnTo>
                  <a:pt x="329" y="1025"/>
                </a:lnTo>
                <a:lnTo>
                  <a:pt x="341" y="1048"/>
                </a:lnTo>
                <a:lnTo>
                  <a:pt x="353" y="1071"/>
                </a:lnTo>
                <a:lnTo>
                  <a:pt x="364" y="1092"/>
                </a:lnTo>
                <a:lnTo>
                  <a:pt x="377" y="1112"/>
                </a:lnTo>
                <a:lnTo>
                  <a:pt x="389" y="1132"/>
                </a:lnTo>
                <a:lnTo>
                  <a:pt x="401" y="1152"/>
                </a:lnTo>
                <a:lnTo>
                  <a:pt x="412" y="1172"/>
                </a:lnTo>
                <a:lnTo>
                  <a:pt x="424" y="1191"/>
                </a:lnTo>
                <a:lnTo>
                  <a:pt x="436" y="1209"/>
                </a:lnTo>
                <a:lnTo>
                  <a:pt x="448" y="1227"/>
                </a:lnTo>
                <a:lnTo>
                  <a:pt x="461" y="1244"/>
                </a:lnTo>
                <a:lnTo>
                  <a:pt x="472" y="1262"/>
                </a:lnTo>
                <a:lnTo>
                  <a:pt x="484" y="1278"/>
                </a:lnTo>
                <a:lnTo>
                  <a:pt x="496" y="1295"/>
                </a:lnTo>
                <a:lnTo>
                  <a:pt x="508" y="1310"/>
                </a:lnTo>
                <a:lnTo>
                  <a:pt x="519" y="1326"/>
                </a:lnTo>
                <a:lnTo>
                  <a:pt x="531" y="1341"/>
                </a:lnTo>
                <a:lnTo>
                  <a:pt x="544" y="1356"/>
                </a:lnTo>
                <a:lnTo>
                  <a:pt x="556" y="1371"/>
                </a:lnTo>
                <a:lnTo>
                  <a:pt x="568" y="1385"/>
                </a:lnTo>
                <a:lnTo>
                  <a:pt x="579" y="1399"/>
                </a:lnTo>
                <a:lnTo>
                  <a:pt x="591" y="1412"/>
                </a:lnTo>
                <a:lnTo>
                  <a:pt x="603" y="1425"/>
                </a:lnTo>
                <a:lnTo>
                  <a:pt x="615" y="1438"/>
                </a:lnTo>
                <a:lnTo>
                  <a:pt x="626" y="1452"/>
                </a:lnTo>
                <a:lnTo>
                  <a:pt x="639" y="1464"/>
                </a:lnTo>
                <a:lnTo>
                  <a:pt x="651" y="1476"/>
                </a:lnTo>
                <a:lnTo>
                  <a:pt x="663" y="1488"/>
                </a:lnTo>
                <a:lnTo>
                  <a:pt x="675" y="1500"/>
                </a:lnTo>
                <a:lnTo>
                  <a:pt x="686" y="1511"/>
                </a:lnTo>
                <a:lnTo>
                  <a:pt x="698" y="1523"/>
                </a:lnTo>
                <a:lnTo>
                  <a:pt x="710" y="1534"/>
                </a:lnTo>
                <a:lnTo>
                  <a:pt x="723" y="1546"/>
                </a:lnTo>
                <a:lnTo>
                  <a:pt x="734" y="1555"/>
                </a:lnTo>
                <a:lnTo>
                  <a:pt x="746" y="1566"/>
                </a:lnTo>
                <a:lnTo>
                  <a:pt x="758" y="1576"/>
                </a:lnTo>
                <a:lnTo>
                  <a:pt x="770" y="1586"/>
                </a:lnTo>
                <a:lnTo>
                  <a:pt x="782" y="1596"/>
                </a:lnTo>
                <a:lnTo>
                  <a:pt x="793" y="1606"/>
                </a:lnTo>
                <a:lnTo>
                  <a:pt x="805" y="1616"/>
                </a:lnTo>
                <a:lnTo>
                  <a:pt x="818" y="1625"/>
                </a:lnTo>
                <a:lnTo>
                  <a:pt x="830" y="1635"/>
                </a:lnTo>
                <a:lnTo>
                  <a:pt x="841" y="1644"/>
                </a:lnTo>
                <a:lnTo>
                  <a:pt x="853" y="1653"/>
                </a:lnTo>
                <a:lnTo>
                  <a:pt x="865" y="1661"/>
                </a:lnTo>
                <a:lnTo>
                  <a:pt x="877" y="1670"/>
                </a:lnTo>
                <a:lnTo>
                  <a:pt x="889" y="1678"/>
                </a:lnTo>
                <a:lnTo>
                  <a:pt x="900" y="1687"/>
                </a:lnTo>
                <a:lnTo>
                  <a:pt x="913" y="1695"/>
                </a:lnTo>
                <a:lnTo>
                  <a:pt x="925" y="1703"/>
                </a:lnTo>
                <a:lnTo>
                  <a:pt x="937" y="1711"/>
                </a:lnTo>
                <a:lnTo>
                  <a:pt x="948" y="1719"/>
                </a:lnTo>
                <a:lnTo>
                  <a:pt x="960" y="1727"/>
                </a:lnTo>
                <a:lnTo>
                  <a:pt x="972" y="1734"/>
                </a:lnTo>
                <a:lnTo>
                  <a:pt x="984" y="1741"/>
                </a:lnTo>
                <a:lnTo>
                  <a:pt x="997" y="1749"/>
                </a:lnTo>
                <a:lnTo>
                  <a:pt x="1008" y="1756"/>
                </a:lnTo>
                <a:lnTo>
                  <a:pt x="1020" y="1763"/>
                </a:lnTo>
                <a:lnTo>
                  <a:pt x="1032" y="1770"/>
                </a:lnTo>
                <a:lnTo>
                  <a:pt x="1044" y="1777"/>
                </a:lnTo>
                <a:lnTo>
                  <a:pt x="1055" y="1784"/>
                </a:lnTo>
                <a:lnTo>
                  <a:pt x="1067" y="1791"/>
                </a:lnTo>
                <a:lnTo>
                  <a:pt x="1079" y="1797"/>
                </a:lnTo>
                <a:lnTo>
                  <a:pt x="1092" y="1804"/>
                </a:lnTo>
                <a:lnTo>
                  <a:pt x="1104" y="1810"/>
                </a:lnTo>
                <a:lnTo>
                  <a:pt x="1115" y="1816"/>
                </a:lnTo>
                <a:lnTo>
                  <a:pt x="1127" y="1823"/>
                </a:lnTo>
                <a:lnTo>
                  <a:pt x="1139" y="1828"/>
                </a:lnTo>
                <a:lnTo>
                  <a:pt x="1151" y="1835"/>
                </a:lnTo>
                <a:lnTo>
                  <a:pt x="1162" y="1840"/>
                </a:lnTo>
                <a:lnTo>
                  <a:pt x="1174" y="1846"/>
                </a:lnTo>
                <a:lnTo>
                  <a:pt x="1187" y="1853"/>
                </a:lnTo>
                <a:lnTo>
                  <a:pt x="1199" y="1858"/>
                </a:lnTo>
                <a:lnTo>
                  <a:pt x="1211" y="1864"/>
                </a:lnTo>
                <a:lnTo>
                  <a:pt x="1222" y="1869"/>
                </a:lnTo>
                <a:lnTo>
                  <a:pt x="1234" y="1875"/>
                </a:lnTo>
                <a:lnTo>
                  <a:pt x="1246" y="1880"/>
                </a:lnTo>
                <a:lnTo>
                  <a:pt x="1258" y="1885"/>
                </a:lnTo>
                <a:lnTo>
                  <a:pt x="1270" y="1890"/>
                </a:lnTo>
                <a:lnTo>
                  <a:pt x="1282" y="1896"/>
                </a:lnTo>
                <a:lnTo>
                  <a:pt x="1294" y="1901"/>
                </a:lnTo>
                <a:lnTo>
                  <a:pt x="1306" y="1906"/>
                </a:lnTo>
                <a:lnTo>
                  <a:pt x="1318" y="1911"/>
                </a:lnTo>
                <a:lnTo>
                  <a:pt x="1329" y="1916"/>
                </a:lnTo>
                <a:lnTo>
                  <a:pt x="1341" y="1921"/>
                </a:lnTo>
                <a:lnTo>
                  <a:pt x="1353" y="1926"/>
                </a:lnTo>
                <a:lnTo>
                  <a:pt x="1366" y="1930"/>
                </a:lnTo>
                <a:lnTo>
                  <a:pt x="1377" y="1934"/>
                </a:lnTo>
                <a:lnTo>
                  <a:pt x="1389" y="1940"/>
                </a:lnTo>
                <a:lnTo>
                  <a:pt x="1401" y="1944"/>
                </a:lnTo>
                <a:lnTo>
                  <a:pt x="1413" y="1949"/>
                </a:lnTo>
                <a:lnTo>
                  <a:pt x="1425" y="1953"/>
                </a:lnTo>
                <a:lnTo>
                  <a:pt x="1436" y="1958"/>
                </a:lnTo>
                <a:lnTo>
                  <a:pt x="1449" y="1962"/>
                </a:lnTo>
                <a:lnTo>
                  <a:pt x="1461" y="1966"/>
                </a:lnTo>
                <a:lnTo>
                  <a:pt x="1473" y="1970"/>
                </a:lnTo>
                <a:lnTo>
                  <a:pt x="1484" y="1974"/>
                </a:lnTo>
                <a:lnTo>
                  <a:pt x="1496" y="1979"/>
                </a:lnTo>
                <a:lnTo>
                  <a:pt x="1508" y="1983"/>
                </a:lnTo>
                <a:lnTo>
                  <a:pt x="1520" y="1986"/>
                </a:lnTo>
                <a:lnTo>
                  <a:pt x="1533" y="1991"/>
                </a:lnTo>
                <a:lnTo>
                  <a:pt x="1544" y="1995"/>
                </a:lnTo>
                <a:lnTo>
                  <a:pt x="1556" y="1998"/>
                </a:lnTo>
                <a:lnTo>
                  <a:pt x="1568" y="2003"/>
                </a:lnTo>
                <a:lnTo>
                  <a:pt x="1580" y="2006"/>
                </a:lnTo>
                <a:lnTo>
                  <a:pt x="1591" y="2011"/>
                </a:lnTo>
                <a:lnTo>
                  <a:pt x="1603" y="2014"/>
                </a:lnTo>
                <a:lnTo>
                  <a:pt x="1615" y="2017"/>
                </a:lnTo>
                <a:lnTo>
                  <a:pt x="1628" y="2022"/>
                </a:lnTo>
                <a:lnTo>
                  <a:pt x="1640" y="2025"/>
                </a:lnTo>
                <a:lnTo>
                  <a:pt x="1651" y="2028"/>
                </a:lnTo>
                <a:lnTo>
                  <a:pt x="1663" y="2032"/>
                </a:lnTo>
                <a:lnTo>
                  <a:pt x="1675" y="2035"/>
                </a:lnTo>
                <a:lnTo>
                  <a:pt x="1687" y="2039"/>
                </a:lnTo>
                <a:lnTo>
                  <a:pt x="1698" y="2043"/>
                </a:lnTo>
                <a:lnTo>
                  <a:pt x="1710" y="2046"/>
                </a:lnTo>
                <a:lnTo>
                  <a:pt x="1723" y="2049"/>
                </a:lnTo>
                <a:lnTo>
                  <a:pt x="1735" y="2053"/>
                </a:lnTo>
                <a:lnTo>
                  <a:pt x="1747" y="2056"/>
                </a:lnTo>
                <a:lnTo>
                  <a:pt x="1758" y="2059"/>
                </a:lnTo>
                <a:lnTo>
                  <a:pt x="1770" y="2062"/>
                </a:lnTo>
                <a:lnTo>
                  <a:pt x="1782" y="2065"/>
                </a:lnTo>
                <a:lnTo>
                  <a:pt x="1794" y="2068"/>
                </a:lnTo>
                <a:lnTo>
                  <a:pt x="1805" y="2071"/>
                </a:lnTo>
                <a:lnTo>
                  <a:pt x="1818" y="2075"/>
                </a:lnTo>
                <a:lnTo>
                  <a:pt x="1830" y="2078"/>
                </a:lnTo>
                <a:lnTo>
                  <a:pt x="1842" y="2080"/>
                </a:lnTo>
                <a:lnTo>
                  <a:pt x="1854" y="208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6"/>
              <p:cNvSpPr txBox="1"/>
              <p:nvPr/>
            </p:nvSpPr>
            <p:spPr>
              <a:xfrm>
                <a:off x="5761080" y="1596960"/>
                <a:ext cx="24606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S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7" name="Rectangle 7"/>
          <p:cNvSpPr/>
          <p:nvPr/>
        </p:nvSpPr>
        <p:spPr>
          <a:xfrm>
            <a:off x="3930120" y="3141720"/>
            <a:ext cx="47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RS(1,8) = - 8/1 = -8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MRS(6,6) = - 6/6 = -1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5997240" y="598500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753840" y="202716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Line 10"/>
          <p:cNvSpPr/>
          <p:nvPr/>
        </p:nvSpPr>
        <p:spPr>
          <a:xfrm>
            <a:off x="2147760" y="3238560"/>
            <a:ext cx="0" cy="281952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Line 11"/>
          <p:cNvSpPr/>
          <p:nvPr/>
        </p:nvSpPr>
        <p:spPr>
          <a:xfrm flipH="1">
            <a:off x="1859040" y="3238560"/>
            <a:ext cx="28872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12"/>
          <p:cNvSpPr/>
          <p:nvPr/>
        </p:nvSpPr>
        <p:spPr>
          <a:xfrm>
            <a:off x="3638520" y="4071960"/>
            <a:ext cx="0" cy="19764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Line 13"/>
          <p:cNvSpPr/>
          <p:nvPr/>
        </p:nvSpPr>
        <p:spPr>
          <a:xfrm flipH="1">
            <a:off x="1858680" y="4071960"/>
            <a:ext cx="177948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14"/>
          <p:cNvSpPr/>
          <p:nvPr/>
        </p:nvSpPr>
        <p:spPr>
          <a:xfrm>
            <a:off x="1369440" y="297504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15"/>
          <p:cNvSpPr/>
          <p:nvPr/>
        </p:nvSpPr>
        <p:spPr>
          <a:xfrm>
            <a:off x="1383840" y="38178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16"/>
          <p:cNvSpPr/>
          <p:nvPr/>
        </p:nvSpPr>
        <p:spPr>
          <a:xfrm>
            <a:off x="1907640" y="604692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17"/>
          <p:cNvSpPr/>
          <p:nvPr/>
        </p:nvSpPr>
        <p:spPr>
          <a:xfrm>
            <a:off x="3417480" y="604692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18"/>
          <p:cNvSpPr/>
          <p:nvPr/>
        </p:nvSpPr>
        <p:spPr>
          <a:xfrm>
            <a:off x="5584320" y="5551560"/>
            <a:ext cx="116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 = 8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19"/>
          <p:cNvSpPr/>
          <p:nvPr/>
        </p:nvSpPr>
        <p:spPr>
          <a:xfrm>
            <a:off x="5593680" y="4875120"/>
            <a:ext cx="1393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Arial"/>
              </a:rPr>
              <a:t>U = 3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20"/>
          <p:cNvSpPr/>
          <p:nvPr/>
        </p:nvSpPr>
        <p:spPr>
          <a:xfrm flipV="1">
            <a:off x="1857240" y="1785960"/>
            <a:ext cx="0" cy="42624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21"/>
          <p:cNvSpPr/>
          <p:nvPr/>
        </p:nvSpPr>
        <p:spPr>
          <a:xfrm flipH="1" flipV="1">
            <a:off x="2286000" y="3257280"/>
            <a:ext cx="2209680" cy="152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Line 22"/>
          <p:cNvSpPr/>
          <p:nvPr/>
        </p:nvSpPr>
        <p:spPr>
          <a:xfrm flipH="1">
            <a:off x="3676680" y="3905280"/>
            <a:ext cx="781200" cy="133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Line 23"/>
          <p:cNvSpPr/>
          <p:nvPr/>
        </p:nvSpPr>
        <p:spPr>
          <a:xfrm>
            <a:off x="2019240" y="2324160"/>
            <a:ext cx="266760" cy="219060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24"/>
          <p:cNvSpPr/>
          <p:nvPr/>
        </p:nvSpPr>
        <p:spPr>
          <a:xfrm>
            <a:off x="2048040" y="3124080"/>
            <a:ext cx="228600" cy="22860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25"/>
          <p:cNvSpPr/>
          <p:nvPr/>
        </p:nvSpPr>
        <p:spPr>
          <a:xfrm>
            <a:off x="3514680" y="3962520"/>
            <a:ext cx="228600" cy="22860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26"/>
          <p:cNvSpPr/>
          <p:nvPr/>
        </p:nvSpPr>
        <p:spPr>
          <a:xfrm>
            <a:off x="3029040" y="3486240"/>
            <a:ext cx="1162080" cy="121896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27"/>
          <p:cNvSpPr/>
          <p:nvPr/>
        </p:nvSpPr>
        <p:spPr>
          <a:xfrm>
            <a:off x="2812680" y="1828800"/>
            <a:ext cx="2888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(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= 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28"/>
          <p:cNvSpPr/>
          <p:nvPr/>
        </p:nvSpPr>
        <p:spPr>
          <a:xfrm>
            <a:off x="1857240" y="6039000"/>
            <a:ext cx="4210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Функции полезности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7680" y="1714320"/>
            <a:ext cx="860112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ункцией полезности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любая скалярная (имеющая числовые значения) функция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заданная на множестве наборов благ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=(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i="1" lang="en-US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…,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i="1" lang="en-US" sz="24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i="1" lang="en-US" sz="2400" spc="-1" strike="noStrike" baseline="30000">
                <a:solidFill>
                  <a:srgbClr val="ffff00"/>
                </a:solidFill>
                <a:latin typeface="Arial"/>
              </a:rPr>
              <a:t>n+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удовлетворяющая следующему свойству: для любых двух наборов товаров (благ)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i="1" lang="en-US" sz="2400" spc="-1" strike="noStrike" baseline="30000">
                <a:solidFill>
                  <a:srgbClr val="ffff00"/>
                </a:solidFill>
                <a:latin typeface="Arial"/>
              </a:rPr>
              <a:t>n+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i="1" lang="en-US" sz="2400" spc="-1" strike="noStrike" baseline="30000">
                <a:solidFill>
                  <a:srgbClr val="ffff00"/>
                </a:solidFill>
                <a:latin typeface="Arial"/>
              </a:rPr>
              <a:t>n+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оотношение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U(x)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U(y)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полнено тогда и только тогда, когда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ffff00"/>
                </a:solidFill>
                <a:latin typeface="Math B"/>
                <a:ea typeface="Math B"/>
              </a:rPr>
              <a:t>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(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почтительнее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едельная норма замены для квазилинейной функции полезности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вазилинейная функция полезности имеет вид U(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f(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+ 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-360" y="4503600"/>
            <a:ext cx="91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.о.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5"/>
              <p:cNvSpPr txBox="1"/>
              <p:nvPr/>
            </p:nvSpPr>
            <p:spPr>
              <a:xfrm>
                <a:off x="1190520" y="2854440"/>
                <a:ext cx="250524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¶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6"/>
              <p:cNvSpPr txBox="1"/>
              <p:nvPr/>
            </p:nvSpPr>
            <p:spPr>
              <a:xfrm>
                <a:off x="5145120" y="2901960"/>
                <a:ext cx="144468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¶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7"/>
              <p:cNvSpPr txBox="1"/>
              <p:nvPr/>
            </p:nvSpPr>
            <p:spPr>
              <a:xfrm>
                <a:off x="1100160" y="4240080"/>
                <a:ext cx="73072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S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f>
                          <m:num>
                            <m:r>
                              <m:t xml:space="preserve">¶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¶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¶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- {</m:t>
                        </m:r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едельная норма замены для квазилинейной функции полезности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90600" y="1562040"/>
            <a:ext cx="84866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RS = - f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 не зависит от 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. Поэтому наклон кривых безразличия квазилинейной функции полезности является постоянным во всех точках с фиксированным значен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м 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т.е. вдоль вертикальной линии, исходящей из точки (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0) ). Карта кривых безразличия для квазилинейной функции полезности графически выглядит следующим образом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2550960" y="1619280"/>
            <a:ext cx="3708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2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едельная норма замены для квазилинейной функции полезности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Line 4"/>
          <p:cNvSpPr/>
          <p:nvPr/>
        </p:nvSpPr>
        <p:spPr>
          <a:xfrm>
            <a:off x="6000840" y="4786200"/>
            <a:ext cx="23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5"/>
          <p:cNvSpPr/>
          <p:nvPr/>
        </p:nvSpPr>
        <p:spPr>
          <a:xfrm flipV="1">
            <a:off x="905040" y="1571760"/>
            <a:ext cx="0" cy="435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367920" y="120816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6106680" y="5875200"/>
            <a:ext cx="541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8"/>
          <p:cNvSpPr/>
          <p:nvPr/>
        </p:nvSpPr>
        <p:spPr>
          <a:xfrm>
            <a:off x="1523880" y="2738520"/>
            <a:ext cx="0" cy="32050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9"/>
          <p:cNvSpPr/>
          <p:nvPr/>
        </p:nvSpPr>
        <p:spPr>
          <a:xfrm>
            <a:off x="1071720" y="4476600"/>
            <a:ext cx="1095120" cy="69084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10"/>
          <p:cNvSpPr/>
          <p:nvPr/>
        </p:nvSpPr>
        <p:spPr>
          <a:xfrm>
            <a:off x="1095480" y="3476520"/>
            <a:ext cx="1095120" cy="69084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11"/>
          <p:cNvSpPr/>
          <p:nvPr/>
        </p:nvSpPr>
        <p:spPr>
          <a:xfrm>
            <a:off x="1071720" y="2452680"/>
            <a:ext cx="1095120" cy="69048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12"/>
          <p:cNvSpPr/>
          <p:nvPr/>
        </p:nvSpPr>
        <p:spPr>
          <a:xfrm>
            <a:off x="3124080" y="3405240"/>
            <a:ext cx="0" cy="25383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13"/>
          <p:cNvSpPr/>
          <p:nvPr/>
        </p:nvSpPr>
        <p:spPr>
          <a:xfrm>
            <a:off x="2452680" y="5262480"/>
            <a:ext cx="1357200" cy="44136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14"/>
          <p:cNvSpPr/>
          <p:nvPr/>
        </p:nvSpPr>
        <p:spPr>
          <a:xfrm>
            <a:off x="2476440" y="4262400"/>
            <a:ext cx="1357200" cy="44136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15"/>
          <p:cNvSpPr/>
          <p:nvPr/>
        </p:nvSpPr>
        <p:spPr>
          <a:xfrm>
            <a:off x="2476440" y="3262320"/>
            <a:ext cx="1357200" cy="44136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16"/>
          <p:cNvSpPr/>
          <p:nvPr/>
        </p:nvSpPr>
        <p:spPr>
          <a:xfrm>
            <a:off x="4727520" y="1650960"/>
            <a:ext cx="4416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ждая кривая есть парал-лельный сдвиг другой по вертикальной оси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17"/>
          <p:cNvSpPr/>
          <p:nvPr/>
        </p:nvSpPr>
        <p:spPr>
          <a:xfrm>
            <a:off x="6084720" y="3089160"/>
            <a:ext cx="305928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RS имеет посто-янное значение на вертикальной линии, исходящей из точки (x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0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18"/>
          <p:cNvSpPr/>
          <p:nvPr/>
        </p:nvSpPr>
        <p:spPr>
          <a:xfrm>
            <a:off x="1238040" y="1584360"/>
            <a:ext cx="15354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RS =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f ’(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’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19"/>
          <p:cNvSpPr/>
          <p:nvPr/>
        </p:nvSpPr>
        <p:spPr>
          <a:xfrm>
            <a:off x="2466360" y="2736720"/>
            <a:ext cx="29937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RS = - f ’(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20"/>
          <p:cNvSpPr/>
          <p:nvPr/>
        </p:nvSpPr>
        <p:spPr>
          <a:xfrm>
            <a:off x="1265040" y="5913360"/>
            <a:ext cx="654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21"/>
          <p:cNvSpPr/>
          <p:nvPr/>
        </p:nvSpPr>
        <p:spPr>
          <a:xfrm>
            <a:off x="2815560" y="5925960"/>
            <a:ext cx="745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266760"/>
            <a:ext cx="9144000" cy="96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Монотонное преобразование функции полезности и M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42720" y="1599840"/>
            <a:ext cx="8677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нотонно возрастающее преобразование  функции полезности,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редставл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ющей некоторое отношение предпочтения, имеет своим результатом иную функцию полезн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и, описывающую тоже самое отношение предпочтения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то происходит с предельной нормой зам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ы благ при замене некоторой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сходной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функции полезности ее монотонно возрастающим преобразованием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857232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Монотонное преобразование функции полезности и M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0" y="1518840"/>
            <a:ext cx="914400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ля функции U(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имеем MRS = - 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образуем ее следующим образом: V = U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т.е. V(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 Каково значение предельной нормы замены MRS для функции V?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ученное значени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предельной нормы замены совпадает с MRS для U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4"/>
              <p:cNvSpPr txBox="1"/>
              <p:nvPr/>
            </p:nvSpPr>
            <p:spPr>
              <a:xfrm>
                <a:off x="954000" y="3502080"/>
                <a:ext cx="72104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S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t xml:space="preserve">¶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¶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¶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¶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85840" y="228240"/>
            <a:ext cx="8572320" cy="10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Монотонное преобразование функции п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лезности и M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24000" y="1714680"/>
            <a:ext cx="88200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общем случае, если V = f(U), где f является строго возрастающей функцией, имеем, что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4"/>
              <p:cNvSpPr txBox="1"/>
              <p:nvPr/>
            </p:nvSpPr>
            <p:spPr>
              <a:xfrm>
                <a:off x="569880" y="2786040"/>
                <a:ext cx="795816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S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t xml:space="preserve">¶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¶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¶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¶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´</m:t>
                        </m:r>
                        <m:r>
                          <m:t xml:space="preserve">¶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¶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´</m:t>
                        </m:r>
                        <m:r>
                          <m:t xml:space="preserve">¶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¶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5"/>
              <p:cNvSpPr txBox="1"/>
              <p:nvPr/>
            </p:nvSpPr>
            <p:spPr>
              <a:xfrm>
                <a:off x="1706400" y="3986280"/>
                <a:ext cx="27417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t xml:space="preserve">¶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¶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¶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¶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Rectangle 6"/>
          <p:cNvSpPr/>
          <p:nvPr/>
        </p:nvSpPr>
        <p:spPr>
          <a:xfrm>
            <a:off x="304920" y="5165640"/>
            <a:ext cx="85532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.o., MRS инвариантно относительно любого монотонно возрастающего преобразования функции полезност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и полезности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360" y="1352520"/>
            <a:ext cx="8191440" cy="53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прерывно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монотонно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растающее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циональное (т.е. полное, рефлексивное и транз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ное) отношение предпочте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может быть представлено непрерывной функцией полезност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прерывность отношения предпочтения означает, что малые изменения набора потребительских благ влекут за собой малые изменения в уровне предпочти-тельности набора благ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Функция полезности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езность является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рядковым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e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ющим упорядочени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пример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л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U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6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U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= 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то тогда набо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ого предпочтительнее (лучше) набор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о при этом нельзя утверждать, что набо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три раза предпочтительнее набора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75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75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10:28Z</dcterms:created>
  <dc:creator>LSA Media Services, PC-69</dc:creator>
  <dc:description/>
  <dc:language>en-US</dc:language>
  <cp:lastModifiedBy>Admin</cp:lastModifiedBy>
  <dcterms:modified xsi:type="dcterms:W3CDTF">2015-10-18T20:43:00Z</dcterms:modified>
  <cp:revision>172</cp:revision>
  <dc:subject/>
  <dc:title>Chapter Four</dc:title>
</cp:coreProperties>
</file>