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6D0B-ACCE-47E4-A592-496A1624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616-1752-465D-8E8D-2866B2AC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D544-9597-4BA4-800D-34A275E5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7FB0-7A68-4034-BE08-6C52F8F5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9DE6-CB6D-45BC-86AD-ACF7D39D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9F43-F2FF-4D88-8097-768350B7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CAB3-2041-4812-AB9A-9357C3C4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A49C-121A-403F-AEFA-7A8B15BF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6CC6-F330-4672-BC6F-C6097B7F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2E96-532A-44A3-AF68-3F89F378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BBD3-6BB6-45E3-BDEB-E4C8E92F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F8F1-764A-4BBD-AF8A-52CF7C18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EB04-AB5D-42DE-ABB0-D8D4BFEDD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Лекция № 1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сновы физиологии крови (функции крови, состав крови, плазма крови, форменные элементы крови)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лектрофореграмма сыворотки крови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Белковые фракции плазмы крови и их 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РИТРОЦИТЫ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– количество в крови мужчин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,5-5,1х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/ л; у женщин 4,0-4,5х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/ л. У детей максимальное количество наблюдается в первые часы после рождения (до 4,5-7,5х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/ л), а затем снижается к 12 дню достигая нормативных значений характерных в целом для взрослого человека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,5-5,0х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/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71294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33072" b="139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Формула подсчета эритроцит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х 4000 х 2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=  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количество эритроцитов в 1 мм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кров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  -   количество   эритроцитов   в   5   больших   квадратах   (в   80 квадратиках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 - разведение кров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80 - количество маленьких квадратиков,   в которых производился подсчет клет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/ 4000 мм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- объем жидкости над каждым квадратиком сетки Горя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перевода результата в систему единиц СИ необходимо умножить полученное количество эритроцитов в 1 мм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106. В этом случае результат будет определен как количество эритроцитов в литре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Лейкоциты</a:t>
            </a:r>
            <a:br>
              <a:rPr sz="40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число 4-9х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/л у взрослого человека; у детей максимальное количество в первые дни после рождения - 10-20х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/л, затем их количество уменьшается к 7 суткам достигая верхних границ нормы характерных для взрослого - 8-11х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/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Лейкоцитарная формула у детей 1-го года жизни характеризуется рядом особенносте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1) нарастанием числа лим­фоцитов и снижением числа нейтрофил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2) значительным количеством юных форм лейкоци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3) структурной незре­лостью и хрупкостью лейкоци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 моменту рождения у количество нейтрофилов составляет 65—66%, а количество лимфоцитов—20-30%. После рождения наблюдается снижение числа нейтрофилов и нарастание числа лимфоцитов. На 4—6 день возникает перекрест кривой падения нейтрофилов и кривой подъема количества лимфоцитов («первый перекрест»). В этот период содержание в крови нейтрофилов и лимфоцитов одинаковое и составляет 43—44%. К концу первого месяца после рождения число нейтрофилов в крови понижается до 25—30%, а число лимфоцитов возрастает до 55—60%. После 3—4 месяцев жизни число нейтрофилов начинает постепенно увеличиваться, а число лимфоцитов уменьшается, так что между 4 и 6 годами жизни у ребенка возникает «второй перекрест» кривых содержания нейтрофилов и лимфоци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Изменения   содержания   в крови нейтрофилов   и лимфоцитов у детей в различные возрасты. Первый и второй перекрест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Разновидности лейкоцитов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ранулоци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 нейтрофильные гранулоци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юные, палочкоядерные, сегментоядер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 эозинофильные гранулоци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 базофильные гранулоци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оноци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имфоци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13949" r="13229" b="2510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Формула подсчета лейкоци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х 4000 х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= 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количество лейкоцитов в 1мм</a:t>
            </a:r>
            <a:r>
              <a:rPr b="1" lang="ru-RU" sz="18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ови; В - количество лейкоцитов в 400 маленьких (25 больших) квадрат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 - разведение кров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00 - количество маленьких квадратиков, в которых производился подсчет клет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/ 4000 мм</a:t>
            </a:r>
            <a:r>
              <a:rPr b="1" lang="ru-RU" sz="18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- объем жидкости над каждым маленьким квадратиком сетки Горя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перевода результата в систему единиц СИ необходимо умножить полученное количество лейкоцитов в 1 мм</a:t>
            </a:r>
            <a:r>
              <a:rPr b="1" lang="ru-RU" sz="1800" spc="-1" strike="noStrike" baseline="30000">
                <a:solidFill>
                  <a:srgbClr val="ffffff"/>
                </a:solidFill>
                <a:latin typeface="Arial"/>
              </a:rPr>
              <a:t>3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106. В этом случае результат будет выражать количество лейкоцитов в 1 литре кро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Общие функции крови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ранспортна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Гомеостатическа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егуля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Тромбоцит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омбоциты представляют собой безъядерные клеточные элементы в форме двояковогнутого диска с диаметром 2-4 мкм и толщиной 0,6-1,2 мкм, объем их составляет 6-9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рмальное число тромбоцитов в крови 150-400 х 10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/л крови. Тромбоциты образуются в красном костном мозге из мегакариоцитов, продолжительность их жизни в циркулирующей крови 8-10 дней. Примерно одна треть поступающих в кровь из красного костного мозга тромбоцитов задерживается в селезе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личество кровяных пластинок в крови у новорожденных в первые дни колеблется в широких пределах от 150 до 400 х 10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/л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детей в возрасте 7— 9 дней количество кровяных пластинок снижается в среднем до 164—178 х 10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/л, а к концу второй недели повышается до первоначальной величины. В дальнейшем у детей от 1 года содержание кровяных пластинок становится довольно стаби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Гранулы тромбоцитов и их содержимо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плотных гранулах находятся АДФ, серотонин и ионы 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ьфа-гранулы содержат белковые вещества: фибриноген, фактор Виллебранда, плазменный фактор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 антигепариновый фактор (пластиночный фактор 4 ),бета-тромбоглобулин, тромбоспондин и пластиночный фактор ро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Основные и наиболее общие функции тромбоцит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астие в процессах гемостаза. Благодаря многоклеточной агрегации и прилипанию к белковым нитям в месте повреждения сосуда, они формируют первичный тромб, который представляет физический барьер для прекращения кровотечения). Фосфолипиды на мембранах тромбоцитов активируют ферменты и тромбин, которые вызывают каскад реакций, завершающихся свертыванием крови. Тромбоциты содержат многочисленные гранулы с веществами. необходимыми для ускорения свертывания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офическая функция в отношении эндотелия сосудов и самой сосудистой стенки. Регуляция степени проницаемости микрососу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Объем кров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ее количество крови по отношению к массе тела у новорожденных больше, чем у взрослого человека, и составляет 15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 детей одного года общее количество крови составляет 11%, а у взрослых—7—8% от массы тела. У взрослого это соответствует 4-6 л крови (нормоволемия). Повышение общего объема крови называют гиперволемией, а снижение гиповолем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Гематокри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ематокритом называется часть объема крови, приходящаяся на долю форменных элементов крови (преимущественно эритроцит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норме у взрослого мужчины гематокрит равен 0,44-0,46, а у женщины-0,41-0,4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 новорожденных гематокрит приблизительно на 20% выше, а у маленьких детей - примерно на 10% ниже, чем у женщ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Физико-химические свойства кров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вет - крас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принять вязкость воды за 1, то средняя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носительная вязкость кров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здорового взрослого человека составит 4,5 (3,5-5,4), а вязкость плазм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,2 (1.9-2,6). Относительная вязкость крови у новорожденного повышена из-за большого содержания эритроцитов и равна 10,0—14,8, а к концу первого месяца снижается до 4,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дельный вес крови у новорожденных несколько выше (1.060—1.080) и достигает величин взрослого (1.052—1.063) в первые месяцы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Н незначительно колеблется в пределах 7,37-7,43, составляя в среднем (в артериальной крови) около 7,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мотическое давление – 7,6 ат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– 37-40 градусов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Плазма крови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 л плазмы человека содержится 900-910 г воды, 65-80 г белка и 20 г низкомолекулярных соедин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мотическое давление плазмы крови в норме составляет 7,3 атм (5600 мм рт. ст., или 745 кПа), что соответствует температуре замерзания, равной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0,54 °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Химический состав плазмы кр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9395" r="41671" b="0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Функции белков плаз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Пит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Транспор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Белки плазмы – неспецифические переносч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Создают коллоидно-осмотического давления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Буферная   функ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Предупреждение    кровопотер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Основные белки плазмы кров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be0e3"/>
                </a:solidFill>
                <a:latin typeface="Arial"/>
              </a:rPr>
              <a:t>Альбум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be0e3"/>
                </a:solidFill>
                <a:latin typeface="Arial"/>
              </a:rPr>
              <a:t>Глобул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bbe0e3"/>
                </a:solidFill>
                <a:latin typeface="Arial"/>
              </a:rPr>
              <a:t>- альфа-глобули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bbe0e3"/>
                </a:solidFill>
                <a:latin typeface="Arial"/>
              </a:rPr>
              <a:t>(альфа-1 и альфа-2 фракци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bbe0e3"/>
                </a:solidFill>
                <a:latin typeface="Arial"/>
              </a:rPr>
              <a:t>- бета-глобул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bbe0e3"/>
                </a:solidFill>
                <a:latin typeface="Arial"/>
              </a:rPr>
              <a:t>- гамма-глобул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be0e3"/>
                </a:solidFill>
                <a:latin typeface="Arial"/>
              </a:rPr>
              <a:t>Фибриног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6:11:37Z</dcterms:created>
  <dc:creator>И.В. Филиппов</dc:creator>
  <dc:description/>
  <dc:language>en-US</dc:language>
  <cp:lastModifiedBy>И.В. Филиппов</cp:lastModifiedBy>
  <dcterms:modified xsi:type="dcterms:W3CDTF">2008-11-02T16:25:16Z</dcterms:modified>
  <cp:revision>22</cp:revision>
  <dc:subject/>
  <dc:title>Функции крови </dc:title>
</cp:coreProperties>
</file>