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7453-1110-4C2D-BA28-1D395CB44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80B6-504D-4173-A87B-8CA2F49B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D6F3-2EEC-49BB-9ECF-237467D52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2658-D6C5-492C-A301-EE2FC8B9D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9D25-09B0-4577-8423-1F2C7E2C0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AE8F-3C09-4120-8B2F-8ECDB0CB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E85D-5B13-4351-89AF-EB71400C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3B6D-C736-437F-8E48-831D6E10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6AF5-3B92-4286-8301-790EF224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FF5F-EC8B-4019-81B7-5EACFD43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BEC6-7DEF-40BC-B408-2A36B272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EBA1-D3CE-4D65-8A8E-212256BD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FAD3-A57D-4D24-9856-5B368384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389F-0E28-4447-A14D-D5E4028C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28F6-B692-427A-861F-FF855341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C4C6-8212-48B1-8264-644FBB2D7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9DA4-1C6C-4E57-AB37-7C5B67373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786CD-11F6-46FE-8312-AB02B8497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DBCAC-339A-40C5-A722-C53C2959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194D1-5C13-4DC6-8F0D-34BAC3D9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4FF05-97F4-48BA-A94B-DC52F493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D1F76-5C65-4D3A-8A2D-9F5B4DDA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813D-FDF9-439E-A382-C94E0413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F5710-C176-436C-85D9-EE3F6481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54AA7-FFF2-4E22-93DD-E70BEC49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A531B-F45A-4B0F-935B-1BFA4810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21491-A1D6-4F84-9421-4BF28E2E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55429-1760-4B7D-BE27-0401FDDB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0B8F0-122F-4033-84E1-AD85F4958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FAF58-AA5B-4C5D-9928-A47A4FA20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7E2BD-D8C0-40AF-9AC3-E4A0A81A4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9B61E-6BFB-49A7-A3EF-CC421079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38E74-82F4-4D34-B656-D038475F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289D-5586-4CC7-AD43-553672DB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65EDB-0B3B-420B-B3E1-A6844E7F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818FA-EE83-4C67-AE8B-07EECE73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94478-AA79-4B11-8F6D-C1E9C1E5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6DC22-BE54-41AE-8C3B-6AC486EE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672E5-BEA7-4727-80B1-5A478C01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D50E9-26F9-4684-97A6-F21495B4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DF86D-1ADE-43D8-AEE5-3F9F3951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6E619-11BC-4864-8F0C-B6061CB2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22745-5D1C-4A12-861D-122AB596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C425-9390-4905-BA0C-968A7D01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58BD-E71B-4684-8AD7-3A7C5F69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2FE9-8923-405D-B17E-ABE73806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A919-0089-4D46-AF12-D21C8E80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CE73-2576-465D-9711-B8F0EA3F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57B9-8F0A-4B64-AB8B-6E39AFF1127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6647-739A-4217-9444-EFACE31C4D2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F4B9-3F91-4E02-B0F4-CBE9AD04D59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9A5E-21B2-4F6A-9C13-8AED96E603C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влияния на культуру организации и основные ценности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571680" y="1428840"/>
            <a:ext cx="8072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яды – это стандартные и повторяющиеся мероприятия коллектива, проводимые 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ное время и по специальному поводу для оказания влияния на поведение и понимание работниками организационного окружения». Сила обряда в его эмоционально- психологическом воздействии на людей. В обряде происходит не только рациональное усвоение тех или иных норм, ценностей и идеалов, но и сопереживание им участниками обрядового действия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уалы представляют собой систему обрядов. Даже определённы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ческие решения могут становиться организационными обрядами, которые работники интерпретируют как часть организационной культуры. Такие обряды выступают как организованные и спланированные действия, имеющие важное “культурное” значение». Соблюдение ритуалов, обрядов и церемоний усиливает самоопределение работников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642960" y="642960"/>
          <a:ext cx="8001000" cy="5108400"/>
        </p:xfrm>
        <a:graphic>
          <a:graphicData uri="http://schemas.openxmlformats.org/drawingml/2006/table">
            <a:tbl>
              <a:tblPr/>
              <a:tblGrid>
                <a:gridCol w="1393920"/>
                <a:gridCol w="3652560"/>
                <a:gridCol w="2954520"/>
              </a:tblGrid>
              <a:tr h="2458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обря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 (обряд по поводу..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послед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я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ви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завершения базового обучени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одготовки и т. 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оржественное вручение диплом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вхождение в нов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; минимизирует различ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ыполняемых рол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яд ух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увольнения или понижения в должности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е (объявление на доск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кращает власть и статус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тверждает необходим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уемого п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яд уси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выявления лучшего поведения (конкурсы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ревнова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иливает власть и статус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зывает на цен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ьного п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я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но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развития социальных отношений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я их эффективности (объяв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заседании о делегировании полномочи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е стиля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руково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8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я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еш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фли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достижения договорённости, компромисса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ие конфликта в законные рам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объявление на пресс-конференции о нача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конце переговор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ие начала переговоров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ижение напряжённости 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ектив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яд ед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признания существующего по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влетворительным (празднование юбиле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рабочем мест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держивает чувство общности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единяющее работников вмес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оугольник 1"/>
          <p:cNvSpPr/>
          <p:nvPr/>
        </p:nvSpPr>
        <p:spPr>
          <a:xfrm>
            <a:off x="857160" y="1028880"/>
            <a:ext cx="778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ойчивая и сильная организационная культура сама по себе уже является ценностью для организации. Внешние условия, численный состав компании, первоначальная цель организации и даже виды её деятельности могут меняться. Но при этом организация сможет продолжить своё успешное существование, если внутри была создана сильная корпоративная культура. В этом случае, что бы ни происходило с фирмой за всё время её существования люди будут продолжать двигаться к достижению целей организации только за счёт объединяющих их корпоративных ценностей и традиций человеческих взаимодействи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1"/>
          <p:cNvSpPr/>
          <p:nvPr/>
        </p:nvSpPr>
        <p:spPr>
          <a:xfrm>
            <a:off x="500040" y="714240"/>
            <a:ext cx="8001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формирования организационной культур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формирования организационной культуры, в общем, отражают особенности организации, отрасли и т. п., но также основные свойства и характеристики и желаемые параметры формируемой организационной культур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я организационную культуру, следует руководствоваться следующими принципами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культура должна отражать основные идеи существования организаци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эти идеи должны нести положительный эмоциональный заряд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разработанные элементы и мероприятия должны гармонировать между собой, подтверждаться поведением и отношением к ним руководства (поведение руководство не должно противоречить провозглашаемым ценностям и нормам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формируемая культура должна соответствовать типу, размеру и характерны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ям организации, а также условиям её существования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нельзя отрицать накопленный предшествующими поколениями культурный опыт, можно постепенно видоизменять или использовать его как основу, плацдарм для новой культур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1"/>
          <p:cNvSpPr/>
          <p:nvPr/>
        </p:nvSpPr>
        <p:spPr>
          <a:xfrm>
            <a:off x="428760" y="928800"/>
            <a:ext cx="8358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формирования организационной культур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формирования организационной культуры, которая поддерживала бы стратегию развития организации, руководство должно предпринять ряд шагов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выделить следующи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этап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боты по формированию эффективной организационной культур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ыбор миссии организации, определение стратегии, основных целей и ценностей (приоритетов, принципов, подходов, норм и желательных образцов поведения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зучение сложившейся организационной культуры. Определение степен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ия сложившейся оргкультуры выработанной руководством стратегии развития организации, выявление позитивных и негативных ценносте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зработка организационных мероприятий, направленных на формирование, развитие или закрепление желательных ценностей и образцов поведен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Целенаправленные воздействия на организационную культуру с целью изжить негативные ценности и развить установки, способствующие реализации разработанной стратеги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ценка успешности воздействий на организационную культуру и внесени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ых коррективо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642960" y="784080"/>
            <a:ext cx="82868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го чтобы в соответствии с требованиями стратегии фирмы изменять и развивать организационную культуру, её надо глубоко изучить. Прежде, чем вносить какие-либо изменения, необходимо ответить на два вопрос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Что из себя представляет сегодняшняя организационная культура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ой должна быть организационная культура, чтобы поддерживать выбранную руководством стратегию организации? Иными словами: какова должна быть эффективная организационная культура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в желательное (идеальное) состояние организационной культуры и определив её сегодняшнее (фактическое) состояние, можно принять решение о тех действиях, которые позволят перейти из сегодняшнего состояния в желательно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"/>
          <p:cNvSpPr/>
          <p:nvPr/>
        </p:nvSpPr>
        <p:spPr>
          <a:xfrm>
            <a:off x="500040" y="1000080"/>
            <a:ext cx="7500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ть культуру можно разными способами, среди которых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ью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устного фольклора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документов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сложившихся в организации правил, традиций, церемоний и ритуалов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сложившейся практики управления персоналом, прежде всего, стиля управлени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1"/>
          <p:cNvSpPr/>
          <p:nvPr/>
        </p:nvSpPr>
        <p:spPr>
          <a:xfrm>
            <a:off x="357120" y="1357200"/>
            <a:ext cx="84297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 лидера в формировании организационной культуры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ами организационной культуры являются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гляды, ценности и представления основателей организации;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ый опыт, полученный при создании 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и организаци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новые взгляды, ценности и представления, привнесённые новыми членами организации и руководителя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642960" y="571680"/>
          <a:ext cx="8143920" cy="5684760"/>
        </p:xfrm>
        <a:graphic>
          <a:graphicData uri="http://schemas.openxmlformats.org/drawingml/2006/table">
            <a:tbl>
              <a:tblPr/>
              <a:tblGrid>
                <a:gridCol w="3643200"/>
                <a:gridCol w="4500720"/>
              </a:tblGrid>
              <a:tr h="56016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ые механизмы внедр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ных осн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ичные механизмы чёт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овки и закрепления осн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63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что обращают внимание, что оценивают и что контролирую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 и устройство организации (к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ределяются задачи и функции межд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ями и отдельными сотрудниками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колько широко практикуется делегир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моч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лидеры ведут себя в критических случаях и при организационных кризис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передачи информ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ые системы и процед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ивные критерии распреде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фицитных ресур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ые обычаи и ритуа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нательное ролевое моделирование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ие и наставни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зайн физического пространства, фаса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зд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ивные критерии определения уровня вознаграждения и статуса работ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и, легенды и мифы об определё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х и событи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ивные критерии при найме, отборе, продвижении, переводе и увольнении работников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ициальное провозглашение организацион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ософии, ценностей и убежд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"/>
          <p:cNvSpPr/>
          <p:nvPr/>
        </p:nvSpPr>
        <p:spPr>
          <a:xfrm>
            <a:off x="428760" y="928800"/>
            <a:ext cx="8572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мероприятия по формированию организационной культуры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ение руководител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стимулирования и мотиваци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тбора в организацию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персонал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е традиции и порядк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ия, призывы, декларации руководств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ое внедрение корпоративной символик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1"/>
          <p:cNvSpPr/>
          <p:nvPr/>
        </p:nvSpPr>
        <p:spPr>
          <a:xfrm>
            <a:off x="428760" y="714240"/>
            <a:ext cx="8429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ПОДДЕРЖАНИЯ ОРГАНИЗАЦИОННОЙ КУЛЬТУРЫ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ы и предметы внимания, оценки, контроля со стороны менеджер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я руководства на критические ситуации и организационные кризис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рование ролей, обучение и трениров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пределения вознаграждений и статусо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принятия на работу, продвижения и увольне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Организационные символы и обрядность.(Многие верования и ценности, лежащие в основе культуры организации, выражаются не только через легенды и саги, становящиеся частью организационного фольклора, но также через различные ритуалы, обряды, традиции и церемонии, называемые образцами поведения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2T11:06:12Z</dcterms:created>
  <dc:creator>User</dc:creator>
  <dc:description/>
  <dc:language>en-US</dc:language>
  <cp:lastModifiedBy>1</cp:lastModifiedBy>
  <dcterms:modified xsi:type="dcterms:W3CDTF">2015-12-22T19:11:55Z</dcterms:modified>
  <cp:revision>7</cp:revision>
  <dc:subject/>
  <dc:title>Способы влияния на культуру организации. Основные ценности корпортивной культуры</dc:title>
</cp:coreProperties>
</file>