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EA7-9757-4807-996F-BF5927AC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640-C651-419F-8CAA-B8EC47B0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778-E87D-43C6-B1B7-E5BAC2E4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15B5-D95F-4E94-8F40-9277B443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EA72-0402-473D-AF2E-5ED1CAF0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6B71-DA42-4CC0-B874-F9D2B8A9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0C3D-B7EC-4851-B210-8D7C1569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EEBE-C8D0-4D15-8980-C31E87A9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C623-92BF-4B74-8C96-5E5E4721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BDFA-1BE9-4607-BE34-0E35E486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EF41-8D75-4F28-A1E8-37DE0D7F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223-22E2-48C8-A10F-9B8E7DB9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FD07-3C8D-4DD3-89FE-AF73D0D1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3416-E3F0-4F9E-9688-59B569CC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AD4D-0519-46B2-B393-6A8ADF22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5005-B444-4D5D-AACA-91F2BC59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3C47-9AA3-4B78-886C-E7C72224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D3E-74D2-47DE-8F96-5017681F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2A3-4283-409A-B155-F11A81F4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AEA-9486-4826-923E-E2D2AB63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B551-6EA5-41B4-9AAC-64E8B49C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722-660F-4572-B700-60AD6426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8ED5-04D8-4F09-B600-907FF656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D7A5-2CDC-43CE-A644-60EFB550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668C-CC57-4941-A6C5-B08256FDF7A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DD37-A1C1-4402-B8B5-EBE0B19240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Живопись и скульптуры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одготовила презентаци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Ученица 6 клас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о истории средних век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Голубева Дарь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упол собо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1912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Готический собо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191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«Готическая манера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отический собор вмещает в себя весь мир средневекового города, становится его энциклопеди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иль готики темперамент и драмотичен, как и напряжённая жизнь средневекового гор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готическом искусстве выразило себя третье сословие с его мечтами и страданиями, отчаянием и надежд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Живопись в готическом стил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стенах готических соборов мало оставалось места для живописных изображений. Огромные окна снизу доверху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итраж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картины или узоры из кусков прозрачного цветного стекла, скреплёнными изогнутыми свинцовыми обод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4788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обор в Амье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итра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43210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Химеры на собор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19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5:21:19Z</dcterms:created>
  <dc:creator>4 группа</dc:creator>
  <dc:description/>
  <dc:language>en-US</dc:language>
  <cp:lastModifiedBy>4 группа</cp:lastModifiedBy>
  <dcterms:modified xsi:type="dcterms:W3CDTF">2012-12-13T16:16:33Z</dcterms:modified>
  <cp:revision>2</cp:revision>
  <dc:subject/>
  <dc:title>Живопись</dc:title>
</cp:coreProperties>
</file>