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8801-411A-4546-8C1D-A5DA50CFB6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F0DB-C533-4979-8F77-A110029ED9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480-B7BA-4604-8FEE-263C3E68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EF8-7A50-4F5C-A9E0-F91E3AA7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C3F-503C-4908-97F5-0FB71F2A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F3F-A055-42DD-84D3-B5BEBFB3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894-035A-4345-A5F1-7DB57F5D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51E-9187-4351-B594-16C7F570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3DC-FD6A-4E58-B1BA-21527BCB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7CF-A74E-4875-BAEB-874DA924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50A-4BE5-4287-BD4B-B9618FCC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5B2-1363-4DAA-817C-5FE1FF22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F29-06EB-4D91-B2EE-27A1CCF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75D-7F68-43B4-9AA3-4504D6C1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75FD-2D66-4869-A630-F5767527C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Железноводск. Краткая характеристика курорта и основные достопримечатель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2840" y="3357360"/>
            <a:ext cx="564516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Железноводск - самый динамично развивающийся курорт Кавминвод. В 2003 году ему присвоено звание "Лучший город России" среди малых городов. Самый чистый город Кавказских Минеральных вод. В 2010 году Железноводску исполнилось 200 лет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Coat_of_Arms_of_Zheleznovodsk_(Stavropol_kray).png"/>
          <p:cNvPicPr/>
          <p:nvPr/>
        </p:nvPicPr>
        <p:blipFill>
          <a:blip r:embed="rId1"/>
          <a:stretch/>
        </p:blipFill>
        <p:spPr>
          <a:xfrm>
            <a:off x="468360" y="2997360"/>
            <a:ext cx="223200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ортный пар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b05.jpg"/>
          <p:cNvPicPr/>
          <p:nvPr/>
        </p:nvPicPr>
        <p:blipFill>
          <a:blip r:embed="rId1"/>
          <a:stretch/>
        </p:blipFill>
        <p:spPr>
          <a:xfrm>
            <a:off x="826920" y="1125360"/>
            <a:ext cx="7201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орец эмира Бухарс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13.jpg"/>
          <p:cNvPicPr/>
          <p:nvPr/>
        </p:nvPicPr>
        <p:blipFill>
          <a:blip r:embed="rId1"/>
          <a:stretch/>
        </p:blipFill>
        <p:spPr>
          <a:xfrm>
            <a:off x="395280" y="1341360"/>
            <a:ext cx="84009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ерея Смирновских источ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geleznovodsk_smirnovskiy_istochnik.jpg"/>
          <p:cNvPicPr/>
          <p:nvPr/>
        </p:nvPicPr>
        <p:blipFill>
          <a:blip r:embed="rId1"/>
          <a:stretch/>
        </p:blipFill>
        <p:spPr>
          <a:xfrm>
            <a:off x="826920" y="1413000"/>
            <a:ext cx="70581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оложение достопримечатель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karta-zheleznovodska.jpg"/>
          <p:cNvPicPr/>
          <p:nvPr/>
        </p:nvPicPr>
        <p:blipFill>
          <a:blip r:embed="rId1"/>
          <a:stretch/>
        </p:blipFill>
        <p:spPr>
          <a:xfrm>
            <a:off x="250920" y="692280"/>
            <a:ext cx="103172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5" descr="dedd05ac01fdcbab761c36a0fe28838d.jpg"/>
          <p:cNvPicPr/>
          <p:nvPr/>
        </p:nvPicPr>
        <p:blipFill>
          <a:blip r:embed="rId1"/>
          <a:stretch/>
        </p:blipFill>
        <p:spPr>
          <a:xfrm>
            <a:off x="539640" y="1268280"/>
            <a:ext cx="80805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положение, как добра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Илья\Desktop\geleznovodsk1_karta.JPG"/>
          <p:cNvPicPr/>
          <p:nvPr/>
        </p:nvPicPr>
        <p:blipFill>
          <a:blip r:embed="rId1"/>
          <a:stretch/>
        </p:blipFill>
        <p:spPr>
          <a:xfrm>
            <a:off x="179280" y="836640"/>
            <a:ext cx="5034240" cy="5829120"/>
          </a:xfrm>
          <a:prstGeom prst="rect">
            <a:avLst/>
          </a:prstGeom>
          <a:ln w="0">
            <a:noFill/>
          </a:ln>
        </p:spPr>
      </p:pic>
      <p:sp>
        <p:nvSpPr>
          <p:cNvPr id="53" name="Подзаголовок 2"/>
          <p:cNvSpPr/>
          <p:nvPr/>
        </p:nvSpPr>
        <p:spPr>
          <a:xfrm>
            <a:off x="5759280" y="1341360"/>
            <a:ext cx="338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амолетом до Минеральных вод, оттуда маршрутом №1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Железной дорогой до Бештау, оттуда маршрутом №1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Железной дорогой до Пятигорска, оттуда маршрутом №21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втомобилем по автотрассам М29 и А15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ещение, сана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В Железноводске - 20 здравниц и 3 гостниц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анаторий «им. 30-ти летия Победы»  - санаторий высокого уровня на берегу озера. От 2050 руб. в сутки с челове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анаторий «Дубрава» - лидер продаж в 2010 году. От 1520 руб. в сутки с челове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анаторий «Машук Аква-Терм» - современный санаторий с полной лечебной базой. От 2429 руб. в сутки с челове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анаторий «имени Э.Тельмана» - лучшее соотношение цена/качество. От 1550 руб. в сутки с челове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анаторий "Горный Воздух«. От 3500 руб. в сутки с челове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неральные 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3933720"/>
            <a:ext cx="8362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Главные лечебные факторы – минеральные воды. Около 20 источников, основные бюветы – Славяновский, Смирновский, Западный, Лермонтовский. Вода углекислая сульфатно-гидрокарбонатная натриево-кальциевая. Лечение заболеваний органов пищеварения, печени, желчевыводящих путей, почек, мочеполовой системы, нарушения обмена вещест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b03.jpg"/>
          <p:cNvPicPr/>
          <p:nvPr/>
        </p:nvPicPr>
        <p:blipFill>
          <a:blip r:embed="rId1"/>
          <a:stretch/>
        </p:blipFill>
        <p:spPr>
          <a:xfrm>
            <a:off x="0" y="333360"/>
            <a:ext cx="4224240" cy="3166920"/>
          </a:xfrm>
          <a:prstGeom prst="rect">
            <a:avLst/>
          </a:prstGeom>
          <a:ln w="0">
            <a:noFill/>
          </a:ln>
        </p:spPr>
      </p:pic>
      <p:sp>
        <p:nvSpPr>
          <p:cNvPr id="59" name="Подзаголовок 2"/>
          <p:cNvSpPr/>
          <p:nvPr/>
        </p:nvSpPr>
        <p:spPr>
          <a:xfrm>
            <a:off x="4427640" y="1341360"/>
            <a:ext cx="5771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лавяновский бю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1810 г. – обнаружены 2 источника на склоне горы Желез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1812 г. – приезжают первые боль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50-е гг. 19 века – первая улица, появился омнибу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1917 г. – статус гор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1921 г. – первые санатор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1934 г. – Железноводск перешел на круглогодичный прием отдыхающи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К 1975 г. количество отдыхающих ежегодно превысило 100 тысяч челове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3d1d398f0422.jpg"/>
          <p:cNvPicPr/>
          <p:nvPr/>
        </p:nvPicPr>
        <p:blipFill>
          <a:blip r:embed="rId1"/>
          <a:stretch/>
        </p:blipFill>
        <p:spPr>
          <a:xfrm>
            <a:off x="395280" y="189000"/>
            <a:ext cx="2857680" cy="13618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070132163f07.jpg"/>
          <p:cNvPicPr/>
          <p:nvPr/>
        </p:nvPicPr>
        <p:blipFill>
          <a:blip r:embed="rId2"/>
          <a:stretch/>
        </p:blipFill>
        <p:spPr>
          <a:xfrm>
            <a:off x="900000" y="4653000"/>
            <a:ext cx="2857680" cy="1762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1fd08c9ce008.jpg"/>
          <p:cNvPicPr/>
          <p:nvPr/>
        </p:nvPicPr>
        <p:blipFill>
          <a:blip r:embed="rId3"/>
          <a:stretch/>
        </p:blipFill>
        <p:spPr>
          <a:xfrm>
            <a:off x="4788000" y="4724280"/>
            <a:ext cx="2857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стопримечательности. Ванны Островск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6_zheleznovodsk.jpg"/>
          <p:cNvPicPr/>
          <p:nvPr/>
        </p:nvPicPr>
        <p:blipFill>
          <a:blip r:embed="rId1"/>
          <a:stretch/>
        </p:blipFill>
        <p:spPr>
          <a:xfrm>
            <a:off x="324000" y="1197000"/>
            <a:ext cx="8503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шкинская галер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Pushkinskaya_galereya.jpg"/>
          <p:cNvPicPr/>
          <p:nvPr/>
        </p:nvPicPr>
        <p:blipFill>
          <a:blip r:embed="rId1"/>
          <a:stretch/>
        </p:blipFill>
        <p:spPr>
          <a:xfrm>
            <a:off x="179280" y="1052640"/>
            <a:ext cx="87076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а Желез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750846.jpg"/>
          <p:cNvPicPr/>
          <p:nvPr/>
        </p:nvPicPr>
        <p:blipFill>
          <a:blip r:embed="rId1"/>
          <a:stretch/>
        </p:blipFill>
        <p:spPr>
          <a:xfrm>
            <a:off x="611280" y="981000"/>
            <a:ext cx="7837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скадная лест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52956.jpg"/>
          <p:cNvPicPr/>
          <p:nvPr/>
        </p:nvPicPr>
        <p:blipFill>
          <a:blip r:embed="rId1"/>
          <a:stretch/>
        </p:blipFill>
        <p:spPr>
          <a:xfrm>
            <a:off x="395280" y="692280"/>
            <a:ext cx="82202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2:30:22Z</dcterms:created>
  <dc:creator>Илья</dc:creator>
  <dc:description/>
  <dc:language>en-US</dc:language>
  <cp:lastModifiedBy>Илья</cp:lastModifiedBy>
  <dcterms:modified xsi:type="dcterms:W3CDTF">2012-04-05T13:28:47Z</dcterms:modified>
  <cp:revision>6</cp:revision>
  <dc:subject/>
  <dc:title>Железноводск. Краткая характеристика курорта и основные достопримечательности.</dc:title>
</cp:coreProperties>
</file>