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13.png" ContentType="image/png"/>
  <Override PartName="/ppt/media/image12.jpeg" ContentType="image/jpeg"/>
  <Override PartName="/ppt/media/image4.gif" ContentType="image/gif"/>
  <Override PartName="/ppt/media/image1.jpeg" ContentType="image/jpeg"/>
  <Override PartName="/ppt/media/image27.gif" ContentType="image/gif"/>
  <Override PartName="/ppt/media/image3.gif" ContentType="image/gif"/>
  <Override PartName="/ppt/media/image6.png" ContentType="image/png"/>
  <Override PartName="/ppt/media/image25.jpeg" ContentType="image/jpeg"/>
  <Override PartName="/ppt/media/image24.jpeg" ContentType="image/jpeg"/>
  <Override PartName="/ppt/media/image11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28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47D-3256-4F19-BDA9-3D971AC8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F0DF-0B33-453E-8EFB-6700E34E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1CE-8B16-4E59-A7CE-87CEB3CF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DDC-A749-4209-AB5B-C8CA8F1B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FB5-292D-4B37-A6B1-B49CC889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2ED-C142-4794-BE49-FFA3FB6B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DCA-B380-4D79-B873-BC6FB7F7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27D-57CD-4C82-903B-A36EA282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0CD-6F61-4289-BA61-C1A7ABE6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0B6A-DCE5-4A51-AEC4-AE4980AD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162-BD13-465A-B2D2-F7BC8D26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9F5-B8DB-462D-8530-B31B013A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A994-8E83-4947-AA84-B66BFA6E4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21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zdr.ru/news/2009/10/05/gaz-radon-vtoraja-prichina-raka-legkogo/for-print.html" TargetMode="External"/><Relationship Id="rId3" Type="http://schemas.openxmlformats.org/officeDocument/2006/relationships/hyperlink" Target="http://www.zdr.ru/news/2009/10/05/gaz-radon-vtoraja-prichina-raka-legkogo/for-print.html" TargetMode="External"/><Relationship Id="rId4" Type="http://schemas.openxmlformats.org/officeDocument/2006/relationships/hyperlink" Target="http://photoshop-masteru.ru/tag/dyimnyiy-obraz/" TargetMode="External"/><Relationship Id="rId5" Type="http://schemas.openxmlformats.org/officeDocument/2006/relationships/hyperlink" Target="http://www.uzy.ru/index/page8/" TargetMode="External"/><Relationship Id="rId6" Type="http://schemas.openxmlformats.org/officeDocument/2006/relationships/hyperlink" Target="http://www.russianalliance.com/index.php?option=com_content&amp;view=article&amp;id=1522:2010-12-02-03-56-00&amp;catid=50:2010-01-16-16-24-17&amp;Itemid=112" TargetMode="External"/><Relationship Id="rId7" Type="http://schemas.openxmlformats.org/officeDocument/2006/relationships/hyperlink" Target="http://soymino.wordpress.com/tag/salud/" TargetMode="External"/><Relationship Id="rId8" Type="http://schemas.openxmlformats.org/officeDocument/2006/relationships/hyperlink" Target="http://www.oknaidveri.ru/?page=archivnews&amp;id=5878" TargetMode="External"/><Relationship Id="rId9" Type="http://schemas.openxmlformats.org/officeDocument/2006/relationships/hyperlink" Target="http://www.ekradon.ru/Risk_ot_Radona.html" TargetMode="Externa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Arial"/>
              </a:rPr>
              <a:t>Естественная радиоактив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втор: Соловьева Людмила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подаватель-организатор ОБ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У СОШ №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ода Калининг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619280" y="19162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171440" cy="2170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84360" y="4941720"/>
            <a:ext cx="158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067280" y="260280"/>
            <a:ext cx="5076720" cy="340992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40672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Земле существует 5 мест, где естественный радиационный фон существенно повыш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Франция, Бразилия, Индия, Египет, остров Ниуэ в Тихом оке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067280" y="3716280"/>
            <a:ext cx="5076720" cy="314172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7524720" y="2276640"/>
            <a:ext cx="142920" cy="122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0" y="47628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0" y="314172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44956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еление, проживающее в этих районах, тщательно обследовалось, однако никакой связи между повышенным фоном уровня радиации и ростом биологических нарушений не обнаруж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означает, что человеческий организм достаточно устойчив к радиационному воздействию при уровне доз 0,1-1 бэр в год, или 7-70бэр за всю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56000" y="1700280"/>
            <a:ext cx="4541760" cy="314172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Источником внутреннего облучения для человека являются изотопы, попадающие в организм с продуктами питания, водой и возду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495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онуклиды попадают в организм главным образом через легкие и желудочно-кишечный тра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поврежденная кожа является непреодолимым барьером для большинства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творимые же нуклиды всасываются через повреждения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558960" cy="2284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148360" y="3789360"/>
            <a:ext cx="3527280" cy="2879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155736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0" y="3429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0" y="530064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Из многих естественных источников радиации, встречающихся в окружающей среде, наиболее опасен радон-222, радиоактивный газ без цвета, вкуса и запаха, образующийся при распаде урана-23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0384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он и торон(изотоп радона-222) с другими продуктами распада урана-238 ответственны за ½ -3/4 годовой индивидуальной эффективной дозы облучения человека от всех естественных источников рад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43280" y="2421000"/>
            <a:ext cx="4038840" cy="2949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50920" y="220500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Беспощадный убийца, незаметно проникающий в наши дома, газ-убийца, крадущийся из-под земли…» - писали зарубежные газеты о природном радиоактивном газе радо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4029120" cy="416268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4768560" y="4745160"/>
            <a:ext cx="45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ст-комплект для определения уров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я рад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Газ радон – вторая после курения причина рака легкого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ыяснили румынские и испанские уче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543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тот радиоактивный газ выделяется из почвы, его максимальная концентрация наблюдается в подвалах и нижних этажах зд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еные обследовали 91 дом в пригороде Мадрида и нескольких населенных пунктах Румынии и обнаружили, что предельно допустимая концентрация радиоактивного газа (ПДК) превышена  почти в половине помещ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тем исследователи  сравнили заболеваемость раком легкого в регионах с различной концентрацией радона.  Оказалось, что она выше в тех районах, где из почвы выделяется особенно много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76720" y="2060640"/>
            <a:ext cx="4397400" cy="263376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1413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2421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0" y="443700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начительно уменьшить воздействие радона можно постоянной  хорошей вентиляцией  помещ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ще их проветривайте, особенно зи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rcRect l="0" t="0" r="0" b="24591"/>
          <a:stretch/>
        </p:blipFill>
        <p:spPr>
          <a:xfrm>
            <a:off x="5364000" y="1557360"/>
            <a:ext cx="3610080" cy="45370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68360" y="4869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68360" y="170028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рящим необходимо помнить о том, что сочетание радона и сигаретного дыма значительно увеличивает вероятность рака лег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292720" y="2133720"/>
            <a:ext cx="3598920" cy="452592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564000" y="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68360" y="177336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ованн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ы безопасности жизнедеятельности:8кл.: учеб. Для общеобразоват. Учреждений/ М.П. Фролов, Е.Н. Литвинов, А.Т. Смирнов и др.; под ред. Ю.Л. Воробьева.-2-е изд.,испр. и доп. М.:АСТ: Астрель,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www.zdr.ru/news/2009/10/05/gaz-radon-vtoraja-prichina-raka-legkogo/for-print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photoshop-masteru.ru/tag/dyimnyiy-obra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uzy.ru/index/page8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russianalliance.com/index.php?option=com_content&amp;view=article&amp;id=1522:2010-12-02-03-56-00&amp;catid=50:2010-01-16-16-24-17&amp;Itemid=1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soymino.wordpress.com/tag/salu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oknaidveri.ru/?page=archivnews&amp;id=58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ekradon.ru/Risk_ot_Radon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468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машнее задание: п. 4.3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ы и задания на стр.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332000" y="2349360"/>
            <a:ext cx="7056360" cy="1584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619280" y="2602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476280"/>
            <a:ext cx="36720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 живое на Земле подвержено воздействию ионизирующего излучения , т.е. естественного радиационного фона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ловек в естественных условиях облучается от источников как внешних, так и внутрен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56000" y="981000"/>
            <a:ext cx="5688000" cy="3890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211640" y="488952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авнительное воздействие на чело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личных источников ради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.Г.Зеленков,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62064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33130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источникам внешнего облучения относят космическое излучение, образующееся при звездных взрывах в Галактике и солнечных вспыш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419640" y="907920"/>
            <a:ext cx="5940360" cy="4537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0920" y="62064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тенсивность космического излучения меняется с географической широтой и с высотой над уровнем моря: на экваторе она на 10% ниже, чем в умеренных шир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м выше над уровнем моря, тем меньше защитные слои воздуха и сильнее облу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27640" y="404640"/>
            <a:ext cx="4560840" cy="4673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94360" y="5105520"/>
            <a:ext cx="476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тмосфера защищает поверхность Зем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 солнечной ради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60" y="414972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95280" y="83664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181080" y="333000"/>
            <a:ext cx="51847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им источником внешнего обучения являются радиоактивные вещества, находящиеся в поверхностном слое земной к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ироде существ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. 50 естественных радиоактивных изотоп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радионуклидов) различных элементо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5111" r="0" b="0"/>
          <a:stretch/>
        </p:blipFill>
        <p:spPr>
          <a:xfrm>
            <a:off x="5003640" y="333360"/>
            <a:ext cx="4140360" cy="6191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-166680" y="47628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-166680" y="314172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год в результате естественного радиационного распада, происходящего в земной коре, в окружающую среду попадает столько же радионуклидов, сколько при взрыве атомной бомбы, по мощности равной той, что уничтожила Хироси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84720" y="1052640"/>
            <a:ext cx="4402080" cy="41814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357800" y="544500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иросима, сожжённая дот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68360" y="54936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620280"/>
            <a:ext cx="399564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большинстве районов Земли естественный радиационный фон составляет 4-12 мкР/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довая доза облучения в этих районах составляет 30-100 мбэр(0,03-0,1 бэ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51280" y="1700280"/>
            <a:ext cx="5292720" cy="280836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76500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следования естественного радиационного фона показали, что доза излучения, которой подвергается человек и все живое зависит 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ности, в которой он жив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ы, которую он пь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ов, из которых построен его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8360" y="76500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68360" y="422100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68360" y="494172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4427640" y="1268280"/>
            <a:ext cx="4537080" cy="340200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дом деревянный – уровень радиоактивности в нем в среднем такой же, как в лесу, в поле(50 мрад в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кирпичный, каменный, бетонный, то в зависимости от материала – от 80 до 170 мрад в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00720" y="1341360"/>
            <a:ext cx="4325760" cy="324504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8360" y="54936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68360" y="371628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8:09:18Z</dcterms:created>
  <dc:creator>Соловьёва</dc:creator>
  <dc:description/>
  <dc:language>en-US</dc:language>
  <cp:lastModifiedBy>Соловьёва</cp:lastModifiedBy>
  <dcterms:modified xsi:type="dcterms:W3CDTF">2011-01-29T19:24:37Z</dcterms:modified>
  <cp:revision>4</cp:revision>
  <dc:subject/>
  <dc:title>Естественная радиоактивность</dc:title>
</cp:coreProperties>
</file>