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445-E07B-4C32-AF0E-7E119B5C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8E8-1381-47AF-859B-7B1C9CDF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E65-069D-43E9-AAC5-4D83F4EF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5CA-4214-4D20-8E61-9185F0AC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A7E-E4AE-4C37-AC32-220276F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632-BB4F-48B2-B23C-F4EC57DA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A8F-0389-4778-A3CC-22B6AB2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58-BBF8-4293-9ED9-81579DF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2B0-5C73-436E-8BA2-4DA949E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DAE-0F57-49D6-A32E-5AC5EBA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615-9335-4828-8EF9-B53573F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519-6E1D-47A1-BE48-1F2B744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DC6F-5FF9-4156-BF55-16F065CD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ция 9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Ы ТЕОРИИ ТЕРМИЧЕСКОЙ ОБРАБОТКИ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иды термической обработки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евращения, протекающие в структуре стали при нагреве и охла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зование  аустенита (первое основное превра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ост аустенитн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я при       более устойчивой фазой является перлит, но работа для образования мартенсита из аустенита меньше, чем для образования перлита; поэтому ниже       образование феррито – карбидной смеси из аустенита может произойти только путем превращения аустенита в мартенсит, а затем уже мартенсита в перли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Таким образом, аустенитно – мартенситное превращение в данном случае является промежуточным в процессе перехода аустенита в перл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твертое  основное превра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превращение мартенсита в перлит, точнее в феррито – карбидную смес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при всех температурах, так как при всех температурах свободная энергия мартенсита больше свободной энергии перли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Схема изменений свободных энергий основных структур показывает, что выше       возможно превращение мартенсита в аустенит.  Однако это превращение экспериментально не было обнаружено, т.к. раньше успевает произойти превращение мартенсит – перлит (распад мартенси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69920" y="404640"/>
                <a:ext cx="3272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932360" y="98100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203640" y="3789360"/>
                <a:ext cx="252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76720" y="5300640"/>
                <a:ext cx="315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3. Образование  аустени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рвое основное превращ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рев стали при ТО в большинстве случаев имеет целью получение структуры аусте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щение основано на диффузии углерода, сопровождается полиморфным превращением                    , а так же растворением цементита в аустен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сследования процессов строят диаграммы изотермического образования аустенита (рис. 9.2). Для этого образцы нагревают до температуры выше       выдерживают, фиксируя начало и конец пре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величением перегрева и скорости нагрева продолжительность превращения со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щение начинаются с зарождения центров аустенитных зерен на поверхности раздела феррит – цементит, кристаллическая решетка        перестраивается в решетку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720" y="2492280"/>
                <a:ext cx="1225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2000" y="3789360"/>
                <a:ext cx="393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95640" y="5734080"/>
                <a:ext cx="50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812000" y="5724360"/>
                <a:ext cx="505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. 9.2 – Диаграмма изотермического образования аустенит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начало образования аустенита; 2 – конец преобразования перлита в аустенит; 3 – полное растворение цемен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588" t="4185" r="6588" b="10907"/>
          <a:stretch/>
        </p:blipFill>
        <p:spPr>
          <a:xfrm>
            <a:off x="685800" y="1839960"/>
            <a:ext cx="77072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я превращения зависит от температуры, так как с увеличением степени перегрева уменьшается размер критического зародыша аустенита, увеличиваются скорость возникновения зародышей и скорость их рост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Образующиеся зерна аустенита имеют вначале такую же концентрацию углерода, как и феррит. Затем в аустените начинает растворяться вторая фаза перлита – цементит, следовательно, концентрация углерода увеличиваетс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Превращение          в          идет быстрее. После того, как весь цементит растворится, аустенит неоднороден по химическому составу: там, где находились пластинки цементита концентрация углерода более высока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Для завершения процесса перераспределения углерода в аустените требуется дополнительный нагрев или выдерж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Величина образовавшегося зерна аустенита оказывает влияние на свойства с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417840"/>
                <a:ext cx="50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503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.4. Рост аустенитного з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щиеся зерна аустенита получаются мелкими (начальное зерно) рис. 9.4. При повышении температуры или выдержке происходит рост зерна аустенита. Движущей силой роста является разность свободных энергий мелкозернистой (большая энергия) и крупнозернистой (малая энергия) структуры аусте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и различают по склонности к росту зерна аустенита. Если зерно аустенита начинает быстро расти даже при незначительном нагреве выше температуры      , то сталь наследственно крупнозернистая. Если зерно растет только при большом перегреве, то сталь наследственно мелкозернис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ность к росту аустенитного зерна является плавочной характеристикой. Стали одной марки, но разных плавок могут различаться, так как содержат неодинаковое количество неметаллических включений, которые затрудняют рост аустенитн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адий, титан, молибден, вольфрам, алюминий – уменьшают склонность к росту зерна аустенита, а марганец и фосфор – увеличивают ее. Заэвтектоидные стали менее склонны к росту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00720" y="3068640"/>
                <a:ext cx="393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. 9.4 – Схема роста зерна в наследственно крупнозернистой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и  мелкозернистой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ста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следующем охлаждении зерна аустенита не измельчаются – рис. 9.5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ледует учитывать при назначении режимов термической обработки, так как от размера зерна зависят механические сво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е зерно снижает сопротивление отрыву, ударную вязкость, повышает порог хладоломк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величину зерна наследственного и действительног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ределения величины наследственного зерна, образцы нагревают до 930С и затем определяют размер зер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тельная величина зерна – размер зерна при обычных температурах, полученный после той или иной термической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9.5 – Схема изменения размера зерна перлита в зависимости от нагрева в аустенит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903" t="220" r="4553" b="8150"/>
          <a:stretch/>
        </p:blipFill>
        <p:spPr>
          <a:xfrm>
            <a:off x="684360" y="1700280"/>
            <a:ext cx="7775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1. Виды термической обработки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(тепловая) обработка – один из самых распространенных в современной технике способов изменения свойств метал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мической обработк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зывается совокупность операций нагрева, выдержки и охлаждения металлических сплавов, находящихся в твердом состоянии, с целью изменения их структуры и создания у них необходимых свойств – прочности, твердости, износостойкости, обрабатываемости или особых химических и физических свойств, а также изменения у них напряжен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термической обработки разработал Чернов Д.К.. В дальнейшем они развивались в работах Бочвара А.А., Курдюмова Г.В., Гуляева А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рмическая обработка представляет собой совокупность операций нагрева, выдержки и охлаждения, выполняемых в определенной последовательности при определенных режимах, с целью изменения внутреннего строения сплава и получения нужных свойств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Представляется в виде графика в осях температура – время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ают следующие виды термической обработки:</a:t>
            </a:r>
            <a:br>
              <a:rPr sz="18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жиг 1 р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озможен для любых металлов и сплавов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Термическая обработка, заключающаяся в нагреве металла, который в результате какой – то предшествующей обработки получил неустойчивое состояние, и приводящая его в более устойчивое состояние называется ОТЖИГОМ ПЕРВОГО РОД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проведение не обусловлено фазовыми превращениями в твердом состоянии. Нагрев, при отжиге первого рода, повышая подвижность атомов, частично или полностью устраняет химическую неоднородность, уменьшает внутреннее напряжения. Основное значение имеет температура нагрева и время выдержки. Характерным является медленное охла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видностями отжига первого рода являютс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иффузионный;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кристаллизационный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жиг для снятия напряжения после ковки, сварки, литья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Отжиг II 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жиг металлов и сплавов, испытывающих фазовые превращения в твердом состоянии при нагреве и охлажден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роводится для сплавов, в которых имеются полиморфные или эвтектоидные превращения, а также переменная растворимость компонентов в тверд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роводят отжиг второго рода с целью получения более равновесной структуры и подготовки ее к дальнейшей обработке. В результате отжига измельчается зерно, повышаются пластичность и вязкость, снижаются прочность и твердость, улучшается обрабатываемость резани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 выше критических и очень медленным охлаждением, как правило, вместе с пе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обенность этой обработки – нагрев выше температуры фазового превращения и охлаждение с малой скоростью, приводящее сплав к структурному равновеси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ал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водится для сплавов, испытывающих фазовые, с целью повышение твердости и прочности путем превращения в твердом состоянии при нагреве и охлаждении образования неравновесных структур (сорбит, троостит, мартенсит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 выше критических и высокими скоростями охлажд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пус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водится с целью снятия внутренних напряжений, снижения твердости и увеличения пластичности и вязкости закаленных ста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ы ниже критической      . Скорость охлаждения роли не игр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ят превращения, уменьшающие степень неравновесности структуры закаленной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244000" y="5084640"/>
                <a:ext cx="43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ческую обработку подразделяют на предварительную и окончательную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Предваритель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рименяется для подготовки структуры и свойств материала для последующих технологических операций (для обработки давлением, улучшения обрабатываемости резанием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Окончатель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ует свойство готового изде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2. Превращения, протекающие в структуре стали при нагреве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и охла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труктурные превращения в стали,  должны знать, что три структуры являются основными, а переход их из одной в другую характеризует основные превращения. Этими структура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устенит – твердый раствор углерода в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ртенсит – твердый раствор углерод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лит – эвтектоидная смесь из одновременно образовавшихся феррита и цемент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ах термической обработки стали наблюдаются четыре основных превращения в основе которых лежат стремления системы к минимуму свободной энергии (рис. 9.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88000" y="3141720"/>
                <a:ext cx="1944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;  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77080" y="3494160"/>
                <a:ext cx="1871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; 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88000" y="4149720"/>
                <a:ext cx="1584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 9.1 – Изменение свободной энергии аустенит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мартенсит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перлит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 изменением темп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90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ое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есть превращение перлита в аустенит: протекающее выше т.         , т.е. выше температуры стабильного равновесия аустенит – перлит. При этих температурах аустенит обладает минимальной свободной энергией (рис. 9.1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ое 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есть превращение аустенита в перлит, протекающее ниже т.      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тье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устенита в мартенсит протекающее ниже температуры метастабильного равновесия аустенит – мартенсит    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32720" y="1413000"/>
                <a:ext cx="431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87640" y="3933720"/>
                <a:ext cx="2735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659640" y="3645000"/>
                <a:ext cx="431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59280" y="2852640"/>
                <a:ext cx="28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956720" y="5084640"/>
                <a:ext cx="37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08360" y="5589720"/>
                <a:ext cx="1655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1:05:22Z</dcterms:created>
  <dc:creator>Admin</dc:creator>
  <dc:description/>
  <dc:language>en-US</dc:language>
  <cp:lastModifiedBy>Admin</cp:lastModifiedBy>
  <dcterms:modified xsi:type="dcterms:W3CDTF">2012-01-16T10:01:39Z</dcterms:modified>
  <cp:revision>5</cp:revision>
  <dc:subject/>
  <dc:title>Лекция 9.     ОСНОВЫ ТЕОРИИ ТЕРМИЧЕСКОЙ ОБРАБОТКИ МЕТАЛЛОВ</dc:title>
</cp:coreProperties>
</file>