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DA9-97A4-4D91-A774-3458151D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2BB-4C64-4630-A43A-5D845F96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8D5-51BA-4FF1-8F1D-98EAEAFD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C70-D657-4724-B9F3-E8797FCF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9DA-D3E1-4C4C-AE1D-0D95078A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BF6-9C6E-4C30-878D-20B8D230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774-B31B-48E5-9083-ADD8BBC2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DDB-AEFC-4F99-8356-5F397F08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47A-D3E6-4694-B686-37A68D29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501-B198-4BFD-90F3-F0240861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BEE-99D8-45F7-A3C4-7193A8E8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3E4-9F6B-4719-8EB5-A28035C9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2A02-67F0-4E21-882A-D3CECF97D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екция №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18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сновы физиологии промежуточного мозга и мозже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Ядра гипоталаму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преоптическая группа имеет выраженные связи с конечным мозгом и делится на медиальное и латеральное преоптические я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ередняя группа, в состав которой входят супраоптическое, паравентрикулярные я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средняя группа состоит из нижнемедиального и верхнемедиального я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наружная группа включает в себя латеральное гипоталамическое поле и серобугорные я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задняя группа сформирована из медиальных и латеральных ядер сосцевидных тел и заднего гипоталамического я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Ядра гипоталамуса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 – преоптическое, 2 – паравентрикулярное, 3 –супраоптическое, 4 – переднее, 5 – инфундибулярное, 6 –вентромедиально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– дорсомедиальное, 8 – задн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42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11280" y="0"/>
            <a:ext cx="79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Схема головного мозга человек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6"/>
          <p:cNvGraphicFramePr/>
          <p:nvPr/>
        </p:nvGraphicFramePr>
        <p:xfrm>
          <a:off x="250920" y="836640"/>
          <a:ext cx="403380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403380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тделы мозже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211640" y="907920"/>
            <a:ext cx="47433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Администратор\Desktop\Снимок1.PNG"/>
          <p:cNvPicPr/>
          <p:nvPr/>
        </p:nvPicPr>
        <p:blipFill>
          <a:blip r:embed="rId1"/>
          <a:stretch/>
        </p:blipFill>
        <p:spPr>
          <a:xfrm>
            <a:off x="179280" y="663480"/>
            <a:ext cx="4608720" cy="604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4822920" y="785880"/>
          <a:ext cx="4141800" cy="5883120"/>
        </p:xfrm>
        <a:graphic>
          <a:graphicData uri="http://schemas.openxmlformats.org/drawingml/2006/table">
            <a:tbl>
              <a:tblPr/>
              <a:tblGrid>
                <a:gridCol w="4141800"/>
              </a:tblGrid>
              <a:tr h="5883120">
                <a:tc>
                  <a:txBody>
                    <a:bodyPr lIns="25560" rIns="25560" tIns="0" bIns="0" anchor="t">
                      <a:noAutofit/>
                    </a:bodyPr>
                    <a:p>
                      <a:pPr marL="38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нная организация коры мозжечка. Вверху слева: схема поперечного среза через листок. Показаны молекулярный слой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C)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й клеток Пуркинье (СП) и гранулярный слой (ГС); видны мощные дендритные ветвления клеток Пуркинье. От клетки Пуркинье (ПК) в белое вещество мозжечка идет аксон (ПА), посылающий обратные коллатерали (КПА). Клетки Пуркинье располагаются правильными рядами как поперек, так и вдоль листка. У клеток-зерен (КЗ) с синаптическими входами от мшистых волокон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B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Т-образные аксоны, идущие вдоль листка в виде параллельных волокон (ПВ) и образующие множество синаптических контактов с дендритами клеток Гольджи (ДКГ), корзинчатых клеток (ДКК) и клеток Пуркинье (ДПК). Эти контакты с шипиками дендритов показаны увеличенными вверху справа. Внизу: главные синаптические контакты в листке. Входные сигналы поступают через мшистые волокна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B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ядер моста (ЯМ), параллельные волокна (ПВ), лиановидные волокна (ЛВ) от нижней оливы (НО), серотонинергические волокна от ядер шва (ЯШ) и норадренергические волокна от голубого пятна (ГП). Клетки Пуркинье (ПК)-единственные выходные элементы коры мозжечка. Звездчатые клетки (ЗК), корзинчатые клетки (КК) и клетки Гольджи (КГ) представляют собой местные интернейроны. Черным показаны ГАМКергические тормозные клетки. Возбуждающими медиаторами служат аспартат (Асп) и, возможно, гпутамат (Глу). В коре мозжечка много также серотонина (5-НТ) и норадреналина (НА). Нейроны-мишени клеток Пуркинье находятся в ядрах мозжечка и в комплексе вестибулярных ядер (В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3" name="Прямоугольник 5"/>
          <p:cNvSpPr/>
          <p:nvPr/>
        </p:nvSpPr>
        <p:spPr>
          <a:xfrm>
            <a:off x="1557000" y="189000"/>
            <a:ext cx="59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роение коры мозже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фферентные связи мозжечк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 вестибулярных ядер от рецепторов лабиринта, которые сигнализируют о положении тела в пространстве и об ускорениях, возникающих при его дви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з спинного мозга от проприорецепторов мышц, сухожилий и суставов по двум спинно-мозжечковым путям (вентральному и дорсальном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 коры больших полушарий в мозжечок передаются копии команд, которые она посылает на двигательные ядра ствола и спинного мозга и планы двигательных реакций из ассоциативных зон к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 ретикулярной формации идут диффузные влияния на нейроны коры мозже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вязи вестибулоцеребеллю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1801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вязи спиноцеребеллю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5962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Схема головного мозга человек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вязи неоцеребеллю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056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зжечок как компар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991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Основные функции мозжечк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Участие в координации дви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Поддержание равнове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Участие в реализации и программировании баллистических дви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Участие в регуляции вегетативных функ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Торм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И другие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имптомы поражения мозжеч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а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стазия/аб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тенционный трем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ст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ст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диадохокин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смет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сине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зэквилиб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зар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с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Отделы промежуточного мозг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межуточный мозг образует стенки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желудочка. Главными структурами промежуточного мозга являютс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аламу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 или зрительный бугор,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питаламу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включает шишковидное тело, поводки и треугольники поводков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таталаму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медиальное и латеральное коленчатые тела) и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поталаму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 или подбугровая область. Ядра таламуса расположены главным образом в области боковой стенки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желудочка; ядра гипоталамуса образуют его нижнюю и нижнебоковую стенки. Верхняя часть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желудочка образована сводом и эпифизом  (эпиталамус). В глубине мозговой ткани промежуточного мозга расположены ядра наружных и внутренних коленчатых тел. Наружная граница промежуточного мозга проходит латеральнее коленчатых тел и образована белым веществом внутренней капсулы, отделяющей промежуточный мозг от подкорковых ядер конечного   моз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Ядра таламу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ецифические ядра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ереднее вентральное, медиальное, вентролатеральное, постеролатеральное, постеромедиальное, латеральное и медиальное коленчатые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Ассоциативные ядра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ереднее, медиодорсальное, латеральное дорсальное ядро и под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Неспецифические ядра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рединный центр, парацентральное ядро, центральное медиальное и латеральное, субмедиальное, вентральное переднее, парафасцикулярный комплекс, ретикулярное ядро, перивентрикулярное и центральная серая м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Функции ядер таламуса (начало)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218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Специфические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сновной функциональной единицей специфических таламических ядер являются «релейные» нейроны, у которых мало дендритов и длинный аксон; их функция заключается в переключении информации, идущей в кору большого мозга от рецепторов. От специфических ядер информация о характере сенсорных стимулов поступает в строго определенные участки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слоев коры большого мозга (соматотопическая локализация). 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Латеральное коленчатое тело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– подкорковый зрительный центр. М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едиальное коленчатое тело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подкорковый слуховой цен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Функции ядер таламуса (продолжение)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Неспецифические ядра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аламуса являются филогенетическим древними и рассматриваются как производные (дериваты) ретикулярной формации среднего мозга. Аксоны нейронов поднимаются в кору большого мозга и контактируют со всеми ее слоями, образуя не локальные, а диффузные связи. К неспецифическим ядрам поступают связи из ретикулярной формации ствола мозга, гипоталамуса, лимбической системы, базальных ганглиев, специфических ядер таламуса. Ядра этой группы получают волокна от стволовой ретикулярной формации, гипоталамуса, лимбической системы и базальных ганглиев. Основная функция - модуляция уровня возбудимости нейронов коры больших полушарий, регуляция цикла бодрствование-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Функции ядер таламуса (окончание)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Ассоциативные ядра: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ереднее связано с лимбической корой (поясной извилиной), медиодорсальное – с лобной долей коры, латеральное дорсальное – с теменной, подушка – с ассоциативными зонами теменной и височной долями коры большого мозга. Нейроны этих ядер являются полисенсорными. Их аксоны направляются в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слои проекционных и ассоциативных полей коры, отдавая  коллатерали, образующие аксосоматические  синапсы с пирамидными нейронами этих слоев. Основная функция - полисенсорная интеграция стимулов различных модальностей и направление интегрированного сигнала в ассоциативные области коры больших полушарий, также отвечают за обеспечение последовательности взаимодействий специфических и неспецифических яд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имптомы поражения ядер талам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620640"/>
          <a:ext cx="9144000" cy="6004080"/>
        </p:xfrm>
        <a:graphic>
          <a:graphicData uri="http://schemas.openxmlformats.org/drawingml/2006/table">
            <a:tbl>
              <a:tblPr/>
              <a:tblGrid>
                <a:gridCol w="2571840"/>
                <a:gridCol w="6572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Times New Roman"/>
                        </a:rPr>
                        <a:t>Основные группы симпто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Times New Roman"/>
                        </a:rPr>
                        <a:t>Основные пр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здражение неспецифических яд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здражение специфических яд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падение функций неспецифических яд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падение функций специфических яд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здражительность, эмоциональная лабильность, плаксивость либо безудержный смех, циклические колебания настроения. Нарушение цикла бодрствование-сон (бессонница, сменяющаяся непреодолимой сонливостью). Вегетативные дис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еперэстезия, гипералгезия (таламические боли), возникновение различных галлюцинаций сенсорного характера. В некоторых случаях гиперэмоциональность. Возможны вегетативно-эндокринные расстр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Эмоциональная “тупость”, снижение уровня внимания и бодрствования, апатия, сонливость. В тяжелых случаях вплоть до коматозного состояния (“летаргический сон”). Вегетативные нару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ипэстезия, гипалгезия. Снижение (вплоть до полного отсутствия) восприятия различных сенсорных стимулов. В некоторых случая гипоэмоциональность. Возможны нарушения вегетативных фун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Схема головного мозга человек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9:41:43Z</dcterms:created>
  <dc:creator>И.В. Филиппов</dc:creator>
  <dc:description/>
  <dc:language>en-US</dc:language>
  <cp:lastModifiedBy>Пользователь Windows</cp:lastModifiedBy>
  <dcterms:modified xsi:type="dcterms:W3CDTF">2012-10-17T07:02:46Z</dcterms:modified>
  <cp:revision>17</cp:revision>
  <dc:subject>Основы физиологии промежуточного мозга и мозжечка</dc:subject>
  <dc:title>Лекция № 9</dc:title>
</cp:coreProperties>
</file>