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6EB-97A6-4BF0-9EE0-EE28BEE9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3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7840" y="4377960"/>
            <a:ext cx="9543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1B8-228B-4A01-89DC-F8CBDD4F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7840" y="437796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8440" y="437796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64F-CD22-4654-8141-6B037FD9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4880" y="107928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21920" y="107928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7840" y="437796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4880" y="437796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21920" y="437796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E6F-EC82-488E-8FF0-FF33D28B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7840" y="1079280"/>
            <a:ext cx="95439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39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20720" y="-125280"/>
            <a:ext cx="899496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7840" y="437796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7840" y="1079280"/>
            <a:ext cx="95439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3A6-4FF3-46CC-B5A2-AA6A3E8B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8440" y="437796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7840" y="4377960"/>
            <a:ext cx="9543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3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7840" y="4377960"/>
            <a:ext cx="9543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7840" y="437796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8440" y="437796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4880" y="107928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21920" y="107928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67840" y="437796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4880" y="437796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21920" y="437796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7840" y="1079280"/>
            <a:ext cx="95439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39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39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75D-055C-4D0D-AFFD-EB16032D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20720" y="-125280"/>
            <a:ext cx="899496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7840" y="437796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58440" y="437796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7840" y="4377960"/>
            <a:ext cx="9543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3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7840" y="4377960"/>
            <a:ext cx="9543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7840" y="437796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58440" y="437796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494880" y="107928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721920" y="107928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7840" y="437796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494880" y="437796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721920" y="4377960"/>
            <a:ext cx="3072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D26-60C6-42D5-84D0-EB0848DF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FF0-A3D9-4707-95A2-1E3CF04B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-125280"/>
            <a:ext cx="899496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61F-8F97-48F8-85A6-9C2146E9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7840" y="437796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52B-BAF9-4A98-999F-D7AA94F5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8440" y="437796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74A-AA14-4F47-927E-6D45311A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8440" y="1079280"/>
            <a:ext cx="465732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7840" y="4377960"/>
            <a:ext cx="9543960" cy="301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78F-3DF0-4393-9067-0F811859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87437B-1ACA-4CF0-B45E-3610D7C7E8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>
              <a:gd name="textAreaLeft" fmla="*/ 0 w 900360"/>
              <a:gd name="textAreaRight" fmla="*/ 900720 w 90036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0720" y="-125280"/>
            <a:ext cx="89949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67840" y="1079280"/>
            <a:ext cx="95439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 rot="21000000">
            <a:off x="9237240" y="7079760"/>
            <a:ext cx="86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074CA-1082-450B-97FB-C64CFC6FB0F8}" type="slidenum">
              <a:rPr b="0" lang="de-DE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"/>
          <p:cNvSpPr/>
          <p:nvPr/>
        </p:nvSpPr>
        <p:spPr>
          <a:xfrm rot="5400000">
            <a:off x="7689600" y="4744800"/>
            <a:ext cx="3527640" cy="126072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0181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 rot="5400000">
            <a:off x="4843440" y="232380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705636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 rot="5400000">
            <a:off x="3239280" y="-3229920"/>
            <a:ext cx="3611520" cy="10080720"/>
          </a:xfrm>
          <a:custGeom>
            <a:avLst/>
            <a:gdLst>
              <a:gd name="textAreaLeft" fmla="*/ 360 w 3611520"/>
              <a:gd name="textAreaRight" fmla="*/ 3611160 w 361152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60288">
                <a:moveTo>
                  <a:pt x="9" y="0"/>
                </a:moveTo>
                <a:arcTo wR="9" hR="9" stAng="16200000" swAng="-5400000"/>
                <a:lnTo>
                  <a:pt x="0" y="60279"/>
                </a:lnTo>
                <a:arcTo wR="9" hR="9" stAng="10800000" swAng="-5400000"/>
                <a:lnTo>
                  <a:pt x="21591" y="60288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0" y="3780000"/>
            <a:ext cx="8375760" cy="1872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0" y="38638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0" y="3946680"/>
            <a:ext cx="8375760" cy="1872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 rot="16200000">
            <a:off x="8800920" y="587952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 rot="16200000">
            <a:off x="8800920" y="529236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 rot="16200000">
            <a:off x="8800920" y="470340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 rot="16200000">
            <a:off x="8800920" y="411588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 rot="16200000">
            <a:off x="8800920" y="352836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3"/>
          <p:cNvSpPr/>
          <p:nvPr/>
        </p:nvSpPr>
        <p:spPr>
          <a:xfrm rot="16200000">
            <a:off x="8800920" y="293940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4"/>
          <p:cNvSpPr/>
          <p:nvPr/>
        </p:nvSpPr>
        <p:spPr>
          <a:xfrm rot="16200000">
            <a:off x="8800920" y="235224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800" y="617040"/>
            <a:ext cx="8602560" cy="12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1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2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3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4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5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  <a:p>
            <a:pPr lvl="6" marL="343080" indent="-343080">
              <a:lnSpc>
                <a:spcPct val="97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5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1871640" y="2900520"/>
            <a:ext cx="6120000" cy="4659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719280" y="2266920"/>
            <a:ext cx="849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700" spc="-1" strike="noStrike">
                <a:solidFill>
                  <a:srgbClr val="ffffff"/>
                </a:solidFill>
                <a:latin typeface="Times New Roman"/>
              </a:rPr>
              <a:t>Экзогенный аллергический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700" spc="-1" strike="noStrike">
                <a:solidFill>
                  <a:srgbClr val="ffffff"/>
                </a:solidFill>
                <a:latin typeface="Times New Roman"/>
              </a:rPr>
              <a:t>альвеолит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952720" y="6948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sdp.net.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576360" y="0"/>
            <a:ext cx="1065708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У «КГМУ ИМ. С.И.ГЕОРГИЕВСКОГО»</a:t>
            </a: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внутренней медицины № 3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едующий кафедрой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оф. Хренов Александр Андреевич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подавател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доц. Кушнир Сергей Петрович 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 501-Л группы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го медицинского факульте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исельч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Клиническая картина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86920" y="755280"/>
            <a:ext cx="9549000" cy="645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ыделяют три типа течения заболевания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стрый ЭА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вивается после массивной экспозиции известного антигена в домашних, производственных или окружающих условиях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мптомы появляются через 4-12 ч. и включают в себя лихорадку, озноб, слабость, тяжесть в грудной клетке, кашель, одышку, боли в мышцах и суставах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астым симптомом также являются фронтальные головные бол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осмотре пациента часто выявляют цианоз, при аускультации легки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крепитацию, более выраженную в базальных отделах, иногда могут присутствовать и свистящие хрип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095640" y="722304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Клиническая картина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000" spc="-1" strike="noStrike">
                <a:solidFill>
                  <a:srgbClr val="000000"/>
                </a:solidFill>
                <a:latin typeface="Arial"/>
              </a:rPr>
              <a:t>Подострый ЭА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форма развивается при менее интенсивной хронической экспозиции "виновных" антигенов, что чаще происходит в домашних условиях. Характерным примером является ЭАА, связанный с контактом с домашними птицами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основными симптомами являются одышка при физической нагрузке, быстрая утомляемость, кашель со слизистой мокротой, иногда лихорадка в дебюте заболев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в легких, обычно в базальных отделах, выслушивается мягкая крепитац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024360" y="6978600"/>
            <a:ext cx="38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doctorprofessor.com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Клиническая картина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Хронический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ЭА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вивается в том случае, если ингаляция пыли происходит длительное время и доза ингалируемого антигена невысока. Нераспознанный или нелеченый подострый ЭАА также может перейти в хроническую форм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арактерным симптомом хронического альвеолита является прогрессирующая одышка при физическом напряжении, временами сопровождающаяся анорексией и выраженным снижением массы тела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скором времени у пациентов развиваются интерстициальный фиброз, легочное сердце, дыхательная и сердечная недостаточ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024360" y="6978600"/>
            <a:ext cx="38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doctorprofessor.com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Диагностика (рентгенологическая картина)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зменения на рентгенограммах легких могут варьировать от нормальной картины в случае острых и подострых клинических форм до картины выраженного пневмосклероза и "сотового легкого"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острых и подострых формах наиболее частыми находками являются изменения в виде снижения прозрачности легочных полей по типу "матового стекла", распространенных узелково-сетчатых затем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хроническом альвеолите чаще выявляют хорошо очерченные линейные тени, выраженные интерстициальные изменения, узелковые затемнения, уменьшение размеров легочных полей, при далеко зашедших стадия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артину "сотового легкого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024360" y="7223040"/>
            <a:ext cx="38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Диагностика (рентгенологическая картина)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0" algn="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Сотовое легкое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"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Замещение нормально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легочной ткани кистозным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полост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Кистозные пол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представляют соб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расширенны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респираторные бронхио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720720"/>
            <a:ext cx="4622760" cy="6838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3600360" y="722304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Диагностика (рентгенологическая картина)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7840" y="790200"/>
            <a:ext cx="9549000" cy="6683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Является более чувствительным методом визуализации ЭАА. КТ позволяет выявлять невидимые при обычной рентгенографии узелковые затемнения, зоны "матового стекла", "сотовые изменени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720720"/>
            <a:ext cx="7020000" cy="4680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3024360" y="7223040"/>
            <a:ext cx="38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Диагностика (лабораторные данные)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7840" y="863280"/>
            <a:ext cx="9549000" cy="6372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о время острых атак ЭАА в лабораторных анализах крови вы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ренный лейкоцитоз (до 12-15∙10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Отмечается сдвиг лейкоцитарной формулы вле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озинофилия выявляется редко и если имеется, то часто незначитель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большинства пациентов отмечаются нормальные значения СОЭ, однако в 31% случаев этот показатель достигает 20-40 мм/ч и в 8%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лее 40 мм/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сто выявляют повышенные уровни общих IgG и IgM, иногда также повышен уровень общего Ig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некоторых больных также обнаруживают умеренное повышение активности ревматоидного фактора. Довольно часто отмечают повышение уровня общей ЛД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024360" y="7223040"/>
            <a:ext cx="38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Диагностика (лабораторные данные)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ое значение при ЭАА имеет обнаружение специфических преципитирующих антител к "виновному" антигену. Чаще всего используют методы двойной диффузии по Оухтерлони, микро-Оухтерлони, встречного иммуноэлектрофореза и иммуноферментные методы (ELISA, ELIE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ципитирующие антитела обнаруживаются у большинства пациентов, особенно при остром течении заболевания. После прекращения контакта с антигеном антитела обнаруживаются в сыворотке в течение 1-3 лет. При хроническом же течении преципитирующие антитела часто не выявляю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024360" y="7223040"/>
            <a:ext cx="38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Диагностика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7840" y="826920"/>
            <a:ext cx="9549000" cy="6320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проведении функциональных тестов функциональные изменения неспецифичны и сходны с таковыми при других интерстициальных заболеваниях легк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вокационные тесты – обеспечение контакта пациента с массивной дозой "виновного" антигена. Могут давать ражличные варианты реакции: от полного отсутствия эффекта до воспроизведения полной картины острого альвеолита с общими и легочными нарушени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ронхоальвеолярный лаваж (БАЛ) – отражает клеточный состав дистальных отделов дыхательных путей и альвеол (увеличение числа клеточных элементов с преобладанием лимфоцитов, которые могут составлять до 80% от общего числа всех клеток БАЛ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024360" y="7223040"/>
            <a:ext cx="38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Дифференциальная диагностика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фференциальный диагноз нужно проводить с диссеминированными поражениями легких (альвеолярным и метастатическим раком, милиарным туберкулезом, саркоидозом и другими фиброзирующими альвеолитами, аспергиллезом и др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024360" y="7223040"/>
            <a:ext cx="38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Определение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Экзогенный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аллергический альвеолит (ЭАА), или гиперчувствительный пневмонит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группа близких интерстициальных заболеваний легких, характеризующихся преимущественно диффузными воспалительными изменениями легочной паренхимы и мелких дыхательных путей, развивающимися в ответ на повторную ингаляцию различных антигенов, являющихся продуктами бактерий, грибов, животных белков, некоторых низкомолекулярных химических соединен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024360" y="6978600"/>
            <a:ext cx="38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doctorprofessor.com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Лечение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7840" y="89964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лючевым элементом и основой лечения ЭАА является исключение контакта с "виновным" агент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некоторых пациентов ремиссия заболевания может наступить и несмотря на последующие контакты с антиге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острых, тяжелых и прогрессирующих формах заболевания рекомендовано назначение глюкокортикостероидов (при остром течении ЭАА – преднизолон 0,5 мг/1 кг в течение 2-4 нед. При подостром и хроническом течении – преднизолон 1 мг/кг в течение 1-2 мес. с последующим постепенным снижением дозы до поддерживающей (5-10 мг/сут)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резистентности заболевания к кортикостероидам иногда назначают Д-пеницилламин и колхици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024360" y="7223040"/>
            <a:ext cx="38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Профилактика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7840" y="755640"/>
            <a:ext cx="954900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4440" indent="-32076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Первичная профилактика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альвеолита включает высушивание сена, использование открытых силосных ям и хорошее проветривание производственных помещений. Необходимость соблюдения гигиенических норм касается производственных и прочих помещений, в которых содержатся животные и птицы. Требуется тщательный уход за кондиционерами и увлажнителями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Вторичная профилактика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ЭАА заключается в прекращении контакта с аллергенами лиц, прошедших лечение по поводу аллергического альвеолита. В тех случаях, когда болезнь связана с условиями работы, необходима смена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Прогноз аллергического альвеолита зависит от своевременного, возможно более полного и раннего устранения из окружающей больного среды этиологических факторов, вызывающих альвеолит, и активного лечения этого заболевания. При повторном рецидивировании альвеолита и появлении осложнений со стороны легких и сердца прогноз становится неблагоприятны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024360" y="7223040"/>
            <a:ext cx="38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Этиология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иной ЭАА является аллерген, попадающий в организм ингаляционным путем с вдыхаемым воздухом. Аллергеном могут быть самые различные вещества, чаще всего споры грибов, которые находятся в прелом сене, кленовой коре, сахарном тростнике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жное  значение имеют размер вдыхаемых частиц и их количество. Частицы до 5 мкм могут легко достигать альвеол и вызывать сенсибилизац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024360" y="6978600"/>
            <a:ext cx="38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doctorprofessor.com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Причинные факторы ЭАА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704880"/>
          <a:ext cx="10080720" cy="9293040"/>
        </p:xfrm>
        <a:graphic>
          <a:graphicData uri="http://schemas.openxmlformats.org/drawingml/2006/table">
            <a:tbl>
              <a:tblPr/>
              <a:tblGrid>
                <a:gridCol w="2622600"/>
                <a:gridCol w="3571920"/>
                <a:gridCol w="3886200"/>
              </a:tblGrid>
              <a:tr h="476280"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сточник антиг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7640" indent="-212760" algn="ctr">
                        <a:lnSpc>
                          <a:spcPct val="81000"/>
                        </a:lnSpc>
                        <a:tabLst>
                          <a:tab algn="l" pos="0"/>
                          <a:tab algn="l" pos="647640"/>
                          <a:tab algn="l" pos="1095480"/>
                          <a:tab algn="l" pos="1544760"/>
                          <a:tab algn="l" pos="1994040"/>
                          <a:tab algn="l" pos="2443320"/>
                          <a:tab algn="l" pos="2892600"/>
                          <a:tab algn="l" pos="3341520"/>
                          <a:tab algn="l" pos="3790800"/>
                          <a:tab algn="l" pos="4240080"/>
                          <a:tab algn="l" pos="4689360"/>
                          <a:tab algn="l" pos="5138640"/>
                          <a:tab algn="l" pos="5587920"/>
                          <a:tab algn="l" pos="6037200"/>
                          <a:tab algn="l" pos="6486480"/>
                          <a:tab algn="l" pos="6935760"/>
                          <a:tab algn="l" pos="7385040"/>
                          <a:tab algn="l" pos="7834320"/>
                          <a:tab algn="l" pos="8283600"/>
                          <a:tab algn="l" pos="8732880"/>
                          <a:tab algn="l" pos="9182160"/>
                          <a:tab algn="l" pos="963144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озможный антиг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1781280"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егкое ферме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аплесневело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Thermophilic Actinomycetes: Mycropolyspora faeni, Thermoactinomyces vulgaris; Aspergillus spp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  <a:tr h="1406520"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Багасс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ахарный трост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ycropolyspora faeni, Thermoactinomyces saccha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  <a:tr h="1460520"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егкое лиц, выращивающих гриб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омп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Thermoactinomyces vulgaris, Mycropolyspora fae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  <a:tr h="2309760"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егкое лиц, использующих кондицион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ондиционеры, увлажнители, обогрев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Thermoactinomyces vulgaris, Thermoactinomyces viridis,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eba, Fun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  <a:tr h="1858680"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Cубер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ора пробкового дер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lvl="2" marL="644400" indent="-214200" algn="ctr">
                        <a:lnSpc>
                          <a:spcPct val="81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644400"/>
                          <a:tab algn="l" pos="1092240"/>
                          <a:tab algn="l" pos="1541520"/>
                          <a:tab algn="l" pos="1990800"/>
                          <a:tab algn="l" pos="2440080"/>
                          <a:tab algn="l" pos="2889360"/>
                          <a:tab algn="l" pos="3338640"/>
                          <a:tab algn="l" pos="3787920"/>
                          <a:tab algn="l" pos="4237200"/>
                          <a:tab algn="l" pos="4686480"/>
                          <a:tab algn="l" pos="5135400"/>
                          <a:tab algn="l" pos="5584680"/>
                          <a:tab algn="l" pos="6033960"/>
                          <a:tab algn="l" pos="6483240"/>
                          <a:tab algn="l" pos="6932520"/>
                          <a:tab algn="l" pos="7381800"/>
                          <a:tab algn="l" pos="7831080"/>
                          <a:tab algn="l" pos="8280360"/>
                          <a:tab algn="l" pos="8729640"/>
                          <a:tab algn="l" pos="9178920"/>
                          <a:tab algn="l" pos="96282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enicillum frequent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Причинные факторы ЭАА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727200"/>
          <a:ext cx="10126800" cy="8288280"/>
        </p:xfrm>
        <a:graphic>
          <a:graphicData uri="http://schemas.openxmlformats.org/drawingml/2006/table">
            <a:tbl>
              <a:tblPr/>
              <a:tblGrid>
                <a:gridCol w="2635200"/>
                <a:gridCol w="3587760"/>
                <a:gridCol w="3903840"/>
              </a:tblGrid>
              <a:tr h="626760"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егкое варщиков сол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аплесневелый ячм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spergillus clav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  <a:tr h="424080"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Болезн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ыровар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Частицы сыра, плес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enicillum case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  <a:tr h="626760"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еквой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ревесная пыль секвой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gaphium spp., Pupullaria spp., Alternaria spp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  <a:tr h="1486080"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егкое производящих детерген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етергенты, фермен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acillus subti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  <a:tr h="990360"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егкое любителей пти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Экскременты, перхоть пти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ывороточные белки пти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  <a:tr h="978120"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егкое лабораторных рабо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оча и перхоть грызу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отеины мочи грызу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  <a:tr h="743040"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егкое нюхающих порошок гипоф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орошок гипоф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виные и бычьи проте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  <a:tr h="1220760"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егкое занятых в производстве пластм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иизоциан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Toluene diisocianate, diphenylmethane diisocian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  <a:tr h="1192320"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"Летний" пневмон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ыль влажных жилых помещений (Япо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Trichosporon cutane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d6e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Патогенез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6920" y="89964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еобходимым условием развития ЭАА является ингаляция антигенного материала определенных размеров в достаточной дозе и в течение определенного временного период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Для того чтобы произошла депозиция антигена в мелких дыхательных путях и альвеолах, антиген должен иметь размеры менее 5 мкм, хотя возможно развитие заболевания и при абсорбции растворимых антигенов из частиц больших размеров, осевших в проксимальных отделах бронхиального дерев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Большинство людей, подвергшихся экспозиции антигенного материала, не заболевают ЭАА, что предполагает, кроме внешних факторов, участие в развитии заболевания и эндогенных факторов (генетические факторы, особенности иммунного ответа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24360" y="6978600"/>
            <a:ext cx="38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doctorprofessor.com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Патогенез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АА считается иммунопатологическим заболеванием, в развитии которого ведущая роль принадлежит аллергическим реакциям 3-го и 4-го типов (по классификации Gell, Coomb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меет значение и неиммунное воспа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024360" y="6978600"/>
            <a:ext cx="38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doctorprofessor.com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Гистологическая картина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астым признаком ЭАА являются неказифицирующиеся гранулемы, которые могут быть обнаружены в 67-90% случа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 хроническом течении ЭАА обнаруживают фибротические изменения, выраженные в различной степени (неспецифический легочный фиброз, "сотовое легкогое"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24360" y="6978600"/>
            <a:ext cx="38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doctorprofessor.com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700" spc="-1" strike="noStrike">
                <a:solidFill>
                  <a:srgbClr val="ffffff"/>
                </a:solidFill>
                <a:latin typeface="Arial Black"/>
              </a:rPr>
              <a:t>Клиническая картина: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7840" y="1079280"/>
            <a:ext cx="954900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АА болеют преимущественно люди, не имеющие предрасположенности к аллергическим реакция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е развивается обычно после длительных контактов с источниками аллергена, в течение которых происходит сенсибилизация организ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024360" y="6978600"/>
            <a:ext cx="38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doctorprofessor.com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p.net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>user</dc:creator>
  <dc:description/>
  <dc:language>en-US</dc:language>
  <cp:lastModifiedBy>user</cp:lastModifiedBy>
  <dcterms:modified xsi:type="dcterms:W3CDTF">2012-10-05T17:35:22Z</dcterms:modified>
  <cp:revision>51</cp:revision>
  <dc:subject>Экзогенный аллергический альвеолит</dc:subject>
  <dc:title>ЭАА</dc:title>
</cp:coreProperties>
</file>