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214E-6FD8-4BE4-9342-4C9332417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863A-4D95-4433-AA73-09473CC83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72C9-AF7A-4631-8D66-FA6966799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8945-63D7-4767-912D-A871067BA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25CEB-4B5B-426B-BF36-A92A5B626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8F624-ABB5-4EBC-B056-B02150CF0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A39BE-88EA-4E38-B0C6-637D6A819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7DC5A-3CD1-41CE-B5C2-F8AC54DF1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37918-CC31-43D2-8FCD-9D732FEED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BB290-4BFD-4B3F-8112-FBED5860A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85B88-7975-48D2-9A93-D406344E6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4BED-65DB-48FB-8488-99962A86F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A8C38-4FF8-49FF-9E1D-EA772C10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133C2-0E04-48A5-B9BD-25B52FDF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C21CB-40CD-4B08-8D60-DA867A2D5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C5927-CA96-4BD4-9145-61EA6B0CD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23E59-339F-449F-8C25-857155D21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47D599-4CEE-4642-A951-C1E3C6E09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E742EC-DA3F-4768-9F37-468685851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B583A2-C4FB-4AB7-BF3C-B837371C5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7CA250-8707-4AE6-8671-5F7ADA96A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33F3B9-85D7-472C-8D79-13CBB7F33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4A6D-11BB-469D-9315-39EE0DB3A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0B3E6B-50FE-422D-B576-F2D0310F3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1B8524-5626-484A-BD6A-B8536CAB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48A6DF-17BA-4B55-B75E-05F100BE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5CBD3A-7B9A-45D1-93E1-F6712A81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5E152F-3A6B-46DE-AC3D-B73EAAEFC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7D6410-BE5C-4A53-8B26-978F933F4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955F32-D481-4918-BB2A-B0B7C61D6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C6ABC-4765-4C6D-9D94-274030696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B9867-4AEC-4DC8-929D-73D715EC0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3C265-B21E-4EB8-A647-9652557CD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180E-EFD0-4F92-A556-0DE65B82D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1E325-E3A2-45FB-BBA2-ED79A8BBB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0A6ED-20AE-4A74-A1EA-A5748820F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BF1BD-D608-4185-BFDF-C4B61D873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240C6-1E5D-4703-BEB3-CB3E4A74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3F722-AB72-4F51-9AD4-71312DA8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9E1D4-DF59-4CC2-84ED-D2999AF8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D3D09-1DE2-416A-99FF-63EA301E4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D691F-8A93-4303-8692-F7C030473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D91F0-AA3D-4B6E-9CD3-7880D4838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59E031-A184-45A0-B325-6EBC32F7B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FEC5-EE1B-4EA3-B897-B6B88B8A6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A8668A-D689-40C9-89F6-5AC86E757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1FF928-C350-47F4-BB0D-23169743D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2EFCEE-C69E-452A-B8B6-2EE900CD8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B5C5B4-73C6-4E5B-849C-DF5180AB7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B817C0-BCBD-43C1-82D3-127B49C24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D16BCA-7B0F-482A-8BB3-577B334A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CCF509-C304-4546-9F59-B2AD0EBE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DFF5DB-AA00-4E71-A90E-0ADA72BA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2C8E10-861E-44F2-AD84-C2A6F4882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A8CA40-A9D1-4DE2-A51A-7E8804831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3896-09EC-42B6-9BA9-1BCF76BAB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498583-8571-475D-B59E-B1A9FB952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629E8D-FEF8-40D4-B794-D683B3ED6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D2E155-8DA2-4C8F-808C-16F4F1F64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A5964F-3252-4C8E-B363-693C31A69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02942B-6E8D-4752-8C36-083DCFEF3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BF989C-0EEB-4B8B-9143-AC7E51346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1B4634-D908-46CE-9125-4F937F7CE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390A3F-3AAE-4AC6-ADD7-9D8EDFAE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917AAA-C883-4771-B05D-122C0258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BB646A-631A-47BA-A207-DABF99C5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986C-F5FB-42B6-8416-CF9C8CB9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EDE4BA-846F-4F91-8F89-BDBDEE1F1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98E37E-4CE4-486A-B712-7A6EAAFED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169754-454A-4E54-A259-D87FDCCD7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BEA52A-4012-4929-8545-281679E73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DB4C09-EB36-48A9-9195-55DE624F0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F513F1-7DC2-48E7-B190-A74B0250A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A52E90-6DA3-48CE-9B20-DDF7CFB22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9B5916-EBF5-4AED-AA7A-1DAF0A22B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D83AED-AE87-4E30-A24A-02B7C1A2E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320AF1-37F7-4049-A9F1-C32EF32F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C989-B60B-431A-9D08-B2CE9CD1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293B81-6D8E-402E-8937-9D18232D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87521F-7ECB-4A38-96C6-8E92D0992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92BEF1-BED0-4155-BDF9-23A111D85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B07EC0-F706-4767-A81F-9F144CD0F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8EECEB-B4EB-46B1-B3FE-E86EFABA7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5568-FCE2-4E68-85EA-E6D96E19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7F297-1946-48AF-A4A8-609E29996A3B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6D644-4C73-4A69-B69C-3322180164F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4FBA3-A5DD-4187-9371-BAD69BFBFF3B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061B4-283B-46A6-B6E8-628F5095608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F93FC-3A49-44D5-AD87-A504515D1242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F034C-586F-40A9-9E93-23082BA344F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C8CB6-E139-45FF-8400-EC9C21E33C00}" type="datetime"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8109C-CE0A-4941-A30B-4E68FA36541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B5CC5-6EDA-46E2-BDA2-5C50DAE22E45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2CEC2-33B4-47FE-8244-7A73B1B011C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ABF0E-5373-4A7D-BC3C-0F002B93F059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9011B-AFEB-4D19-B7B0-4E5F5C003F8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6A1E7-1360-48A2-9C62-35D883592D80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EFE07-6359-488F-9F30-9E4F43F38CB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ОСНОВЫ СУБД </a:t>
            </a: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ORACL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Лекция №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Средства обеспечения целостности данных. Транзакции. Предложения 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SQL</a:t>
            </a: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, управляющие транзакциями (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COMMIT</a:t>
            </a: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, 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SAVE POINT</a:t>
            </a: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, 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ROLLBACK WORK</a:t>
            </a: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 и др.). Непротиворечивость и параллельная обработка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Номер слайда 2"/>
          <p:cNvSpPr/>
          <p:nvPr/>
        </p:nvSpPr>
        <p:spPr>
          <a:xfrm>
            <a:off x="13255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465C4-EE6D-49E2-B049-F3CA1BF2ED9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ПРИМЕР НЕДЕЛИМОСТ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kyte@TKYTE816&gt; set serveroutput o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kyte@TKYTE816&gt; insert into t values (1) 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 fired and updated 1 row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1 row created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kyte@TKYTE816&gt; insert into t values (-1) 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sert into t values (-1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 at line 1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ORA-02290: check constraint (TKYTE.SYS_C001570) violated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kyte@TKYTE816&gt; exec null /* это необходимо для получения результатов dbms_output */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 fired and updated 1 row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L/SQL procedure successfully completed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kyte@TKYTE816&gt; select * from t2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N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Номер слайда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20E8E-AAF4-421A-BE3B-38DEC941D2A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ПРЕИМУЩЕСТВА 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ORACLE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ПРИ РАБОТЕ С</a:t>
            </a:r>
            <a:br>
              <a:rPr sz="3000"/>
            </a:b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ТРАНЗАКЦИЯМ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Транзакции всегда начинаются неявно, и возможность автоматической фиксации отсутствует, если только она не реализована в приложении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Транзакции должны быть такого размера, как нужно для приложения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роблемы нехватки блокировок,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невозможности доступа к данным для других сеансов и т.п. учитывать не надо — размер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транзакции определяется исключительно требованиями обеспечения целостности данных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Блокировки не являются особо ценным ресурсом, а одновременное чтение и запись данных не приводит к конфликтам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родолжительность транзакций не ограничивается, — она определяется требованиями приложения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3" name="Номер слайда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B1514-C82C-4847-B66C-B55ABB7F16D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РАСПРЕДЕЛЕННЫЕ ТРАНЗАКЦИИ В 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ORACL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Одной из действительно замечательных возможностей сервера ORACLE является его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пособность прозрачно для пользователей выполнять распределенные транзакции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Можно изменять данные в нескольких базах в пределах одной транзакции. При фиксации эти изменения либо фиксируются во всех экземплярах, либо ни в одном (они все откатываются)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Для этого не нужно писать дополнительный код — достаточно просто выполнить оператор фиксации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Связь базы данных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— это объект базы данных, описывающий, как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дключиться к другому экземпляру с текущего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6" name="Номер слайда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226EF-F21A-4776-B1D1-3252BBCD380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РАСПРЕДЕЛЕННЫЕ ТРАНЗАКЦИИ В 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ORACL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ect * from T@another_database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ычно факт удаленности таблицы Т "скрывают", создавая для нее представление или синони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e synonym T for T@another_database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еперь, настроив связи базы данных и проверив их с помощью чтения ряда таблиц, мы сможем также изменять их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pdate local_table set x = 5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pdate remote_table@another_database set 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у = 10;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mit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Номер слайда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5C85F-2907-4272-B569-323C615B94E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ОГРАНИЧЕНИЯ В РАСПРЕДЕЛЕННОЙ ТРАНЗАКЦИ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Нельзя выполнять оператор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COMMIT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 удаленной базе данных. Фиксировать транзакцию можно только на сервере-инициаторе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 удаленных базах данных нельзя выполнят операторы ЯОД. Это прямое следствие предыдущего ограничения на фиксацию операторов ЯМД. Фиксировать транзакцию можно только с сервера — инициатора транзакции, поэтому нельзя выполнять операторы ЯОД в связанных базах данных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 удаленных базах данных нельзя выполнять оператор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SAVEPOINT.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Короче, в удаленных базах данных нельзя выполнять операторы управления транзакцией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2" name="Номер слайда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35401-A7ED-4E4D-8428-DA6BAE9560E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ЖУРНАЛЫ ПОВТОРНОГО ВЫПОЛНЕ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Файлы журнала повторного выполнения чрезвычайно важны для базы данных ORACLE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Это журналы транзакций базы данных. Они используются только для восстановления; единственное их назначение — предоставить необходимую информацию в случае сбоя экземпляра или носителя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Если на машине, где работает сервер, пропадает питание, что приводит к сбою экземпляра, сервер ORACLE будет использовать активные журналы повторного выполнения для восстановления системы в состояние на момент, непосредственно предшествующий отключению питания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Номер слайда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723E6-EBD8-4549-A45E-7DC2F628B4A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ЖУРНАЛЫ ПОВТОРНОГО ВЫПОЛНЕ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46240" indent="-246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ервер ORACLE поддерживает два типа файлов журнала повторного выполнения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01200" indent="-25632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ктивны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01200" indent="-25632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рхивны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6240" indent="-246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каждой базе данных ORACLE есть по крайней мере два активных файла журнала повторного выполнения. Эти активные файлы журнала повторного выполнения используются циклически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6240" indent="-246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ервер ORACLE будет выполнять запись в журнальный файл 1, а добравшись до конца этого файла, переключится на журнальный файл 2 и начнет записывать в него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8" name="Номер слайда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36EAD-8676-4E5F-8BF3-1AA0208F91F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Century Schoolbook"/>
              </a:rPr>
              <a:t>АКТИВНЫЕ 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ЖУРНАЛЫ ПОВТОРНОГО ВЫПОЛНЕ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2080" indent="-262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каждой базе данных ORACLE есть по крайней мере два активных файла журнала повторного выполнения. Эти активные файлы журнала повторного выполнения используются циклически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2080" indent="-262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ервер ORACLE будет выполнять запись в журнальный файл 1, а добравшись до конца этого файла, переключится на журнальный файл 2 и начнет записывать в него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1" name="Номер слайда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72305-1FE5-47DB-AEB8-CEC770E71F5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Century Schoolbook"/>
              </a:rPr>
              <a:t>АРХИВНЫЕ 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ЖУРНАЛЫ ПОВТОРНОГО ВЫПОЛНЕ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5416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рхивные файлы журнала повторного выполнения — это просто копии старых, заполненных активных файлов журнала повторного выполне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416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огда система заполняет журнальные файлы, процесс ARCH копирует активный файл журнала повторного выполнения в другое место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416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рхивные файлы журнала повторного выполнения используются для восстановления носителя, когда сбой приводит к порче диска или в случае другого физического сбо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4" name="Номер слайда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0D994-3B1C-4971-8D5E-BDB966E62E1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Century Schoolbook"/>
              </a:rPr>
              <a:t>АРХИВНЫЕ 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ЖУРНАЛЫ ПОВТОРНОГО ВЫПОЛНЕ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2080" indent="-262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ервер ORACLE может применять эти архивные файлы журнала повторного выполнения к резервным копиям файлов данных, чтобы привести их в соответствие с остальной базой данных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2080" indent="-262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Эти журналы содержат хронологию транзакций в базе данных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7" name="Номер слайда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86BB4-248E-4B78-8684-270986F0096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ТРАНЗАКЦИ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Транзакции —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дно из свойств, отличающих базу данных от файловой системы. 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файловой системе, если сбой ОС происходит во время записи файла, он, скорее всего,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кажется поврежденны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сновное назначение транзакций в базе данных – переводить ее из одного согласованного состояния в другое. При фиксации изменений в базе данных гарантируется сохранение либо всех изменений, либо ни одного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6" name="Номер слайда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0DAFE-2DF7-4A61-A87D-F0835A4BD39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ОПЕРАТОРЫ УПРАВЛЕНИЯ ТРАНЗАКЦИЯМ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СУБД ORACLE нет оператора "начать транзакцию". Транзакция неявно начинается с первого же оператора, изменяющего данны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ператоры COMMIT или ROLLBACK явно завершают транзакци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ранзакции в ORACLE неделимы: либо фиксируется (делается постоянным) результат выполнения каждого из операторов, составляющих транзакцию, либо результаты выполнения всех операторов откатываютс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Номер слайда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9975C-E3B4-4B90-8576-9B7E8E582F3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ОПЕРАТОРЫ УПРАВЛЕНИЯ ТРАНЗАКЦИЯМ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1" name="Объект 3" descr=""/>
          <p:cNvPicPr/>
          <p:nvPr/>
        </p:nvPicPr>
        <p:blipFill>
          <a:blip r:embed="rId1"/>
          <a:stretch/>
        </p:blipFill>
        <p:spPr>
          <a:xfrm>
            <a:off x="438120" y="1596960"/>
            <a:ext cx="7505640" cy="4572000"/>
          </a:xfrm>
          <a:prstGeom prst="rect">
            <a:avLst/>
          </a:prstGeom>
          <a:ln w="0">
            <a:noFill/>
          </a:ln>
        </p:spPr>
      </p:pic>
      <p:sp>
        <p:nvSpPr>
          <p:cNvPr id="362" name="Номер слайда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64836-9409-4E75-A50C-FD9565CE1B3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ОПЕРАТОРЫ УПРАВЛЕНИЯ ТРАНЗАКЦИЯМ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4" name="Объект 3" descr=""/>
          <p:cNvPicPr/>
          <p:nvPr/>
        </p:nvPicPr>
        <p:blipFill>
          <a:blip r:embed="rId1"/>
          <a:stretch/>
        </p:blipFill>
        <p:spPr>
          <a:xfrm>
            <a:off x="438120" y="1596960"/>
            <a:ext cx="7505640" cy="3713400"/>
          </a:xfrm>
          <a:prstGeom prst="rect">
            <a:avLst/>
          </a:prstGeom>
          <a:ln w="0">
            <a:noFill/>
          </a:ln>
        </p:spPr>
      </p:pic>
      <p:sp>
        <p:nvSpPr>
          <p:cNvPr id="365" name="Номер слайда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5261D-FFB9-4D39-AC37-B3E22EE8C6C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ОПЕРАТОРЫ УПРАВЛЕНИЯ ТРАНЗАКЦИЯМ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7" name="Объект 3" descr=""/>
          <p:cNvPicPr/>
          <p:nvPr/>
        </p:nvPicPr>
        <p:blipFill>
          <a:blip r:embed="rId1"/>
          <a:stretch/>
        </p:blipFill>
        <p:spPr>
          <a:xfrm>
            <a:off x="438120" y="1584360"/>
            <a:ext cx="7505640" cy="2292480"/>
          </a:xfrm>
          <a:prstGeom prst="rect">
            <a:avLst/>
          </a:prstGeom>
          <a:ln w="0">
            <a:noFill/>
          </a:ln>
        </p:spPr>
      </p:pic>
      <p:sp>
        <p:nvSpPr>
          <p:cNvPr id="368" name="Номер слайда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57392-6EB3-4779-9B0C-B57718310F4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ОПЕРАТОРЫ УПРАВЛЕНИЯ ТРАНЗАКЦИЯМ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0" name="Объект 3" descr=""/>
          <p:cNvPicPr/>
          <p:nvPr/>
        </p:nvPicPr>
        <p:blipFill>
          <a:blip r:embed="rId1"/>
          <a:stretch/>
        </p:blipFill>
        <p:spPr>
          <a:xfrm>
            <a:off x="438120" y="1596960"/>
            <a:ext cx="7505640" cy="4883040"/>
          </a:xfrm>
          <a:prstGeom prst="rect">
            <a:avLst/>
          </a:prstGeom>
          <a:ln w="0">
            <a:noFill/>
          </a:ln>
        </p:spPr>
      </p:pic>
      <p:sp>
        <p:nvSpPr>
          <p:cNvPr id="371" name="Номер слайда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1EDFD-804F-45BB-98AE-2874DFD867B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ОПЕРАТОРЫ УПРАВЛЕНИЯ ТРАНЗАКЦИЯМ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3" name="Объект 3" descr=""/>
          <p:cNvPicPr/>
          <p:nvPr/>
        </p:nvPicPr>
        <p:blipFill>
          <a:blip r:embed="rId1"/>
          <a:stretch/>
        </p:blipFill>
        <p:spPr>
          <a:xfrm>
            <a:off x="438120" y="1590840"/>
            <a:ext cx="7505640" cy="2858760"/>
          </a:xfrm>
          <a:prstGeom prst="rect">
            <a:avLst/>
          </a:prstGeom>
          <a:ln w="0">
            <a:noFill/>
          </a:ln>
        </p:spPr>
      </p:pic>
      <p:sp>
        <p:nvSpPr>
          <p:cNvPr id="374" name="Номер слайда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8110B-033D-4939-BB7A-51AD39F6B18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ПРИМЕР НЕДЕЛИМОСТ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lnSpc>
                <a:spcPct val="9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kyte@TKYTE816&gt; create table t2 (cnt int) 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40120" indent="-2401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able created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40120" indent="-240120">
              <a:lnSpc>
                <a:spcPct val="9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kyte@TKYTE816&gt; insert into t2 values (0)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40120" indent="-2401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1 row created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40120" indent="-240120">
              <a:lnSpc>
                <a:spcPct val="9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kyte@TKYTE816&gt; create table t (x int check (x&gt;0)) 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40120" indent="-2401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able created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40120" indent="-240120">
              <a:lnSpc>
                <a:spcPct val="9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kyte@TKYTE816&gt; create trigger t_trigger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40120" indent="-2401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2 before insert or delete on t for each row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40120" indent="-2401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3 begi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40120" indent="-2401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4 if (inserting) the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40120" indent="-2401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5 update t2 set cnt = cnt +1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40120" indent="-2401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6 els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40120" indent="-2401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7 update t2 set cnt = cnt -1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40120" indent="-2401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8 end if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40120" indent="-2401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9 dbms_output.put_line('I fired and updated ' || sql%rowcount || ' rows')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40120" indent="-2401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10 end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40120" indent="-2401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11 /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40120" indent="-2401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rigger created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Номер слайда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6C38F-9F45-435C-BF8B-23F5E800CC9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5T11:39:15Z</dcterms:created>
  <dc:creator>DEVELOPER-XP</dc:creator>
  <dc:description/>
  <dc:language>en-US</dc:language>
  <cp:lastModifiedBy>Admin</cp:lastModifiedBy>
  <dcterms:modified xsi:type="dcterms:W3CDTF">2014-02-15T19:36:55Z</dcterms:modified>
  <cp:revision>114</cp:revision>
  <dc:subject/>
  <dc:title>Слайд 1</dc:title>
</cp:coreProperties>
</file>