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6752103-334B-45FA-9936-908D7A42359E}" type="datetime10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3B07-D61E-4904-981A-2201BDC976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96C5-A38F-420C-B091-04AE53D9CADD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4E07-C163-4CB1-A60D-ACA80F94C1C5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EE4D-9C4D-4EFC-B875-91039C38188F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FA6D-A4C5-4B72-9857-55994668832F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5599-BCE7-417B-BF7E-EE20DB74598D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A5D8-7A85-436A-AB53-EA7E6A2E1E29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68D9-A053-450D-BBC0-B6EEEC4E9435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DD94-8E29-479D-A257-83F4C287D8BF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C555-CEE1-4108-AA1F-125731DA2281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92A7-936B-4B3F-8E3C-196530D0F5A7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592D-34C3-446B-A49F-149F176F47EE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72A4-15DC-4112-86B2-4FF619AAF306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EECD-D70B-413E-9665-1BAEBCE3B400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3681-0D96-43FC-8711-D7FEAD700999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DA84-906B-4793-944E-421DC2873429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BB29-555A-4DF2-8DE4-156CB3AA4B61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2F79-826C-45F9-ABA5-6DBBC1F4FCBE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6A5A-566D-4A51-AD2D-DBA2F0769764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ABCB-C7A1-4E81-9F1D-7074B4B6BBA0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C5E6-222D-479A-8734-966B9B336703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F090-FAE9-423D-BC37-8860636DB04E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9225-F457-414D-9840-4CB8A423E094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D99B-D4CC-41FE-92EA-394007233CDD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B6AE-58EE-42BC-B0BF-F7424D76E216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4631-C134-42EC-8983-9CDF107C3059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3A28-9003-45EB-9C47-A23625850FDD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D9EA-F7DB-46DE-8454-B035B242C6B6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5E50-D8D6-4D61-81A7-D984C7F863BB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50BC-73E9-469D-AB5F-DEE0EB723898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5237-3B03-495D-B4A5-6FEE6C122509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4D26-F5A2-46A4-82CC-A0DF5246BD08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5D27-48D9-4441-84B2-37F7CF46C201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D01A-ED54-403D-A4F6-2AB10AA1232B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6E4D-A6C6-4F88-8D66-AC1B3169BDA6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482B-CA96-46D3-874E-284BE947A056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D4C-3EAD-4DF0-91CB-6840FB37734C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AE7A-8091-4519-BCA3-F068697B302A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0A44-96FA-4B90-B588-55950F1B7AFE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E025-724F-43B6-9B99-2B3383EB2621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2141-2369-4E7F-8D8E-53417F87F24A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4410-9D8D-4765-8FEF-D707990461EE}" type="datetime10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D9A7-59BF-4C67-83E8-C2576762BD5B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6D551-259C-4EED-95C4-15214ED6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88A2-00C9-451A-9B38-2BB3810D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8F48-A6F6-4FC1-AC0D-80DC9BFE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61FD3-825B-4F43-B3F3-DB2FDFA3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8227-18BF-4CEF-B510-CB6E2EB5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0425-18B2-42D4-9451-30A34B72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77F9-D592-4303-8AC6-BA126FCD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93D0-8E4B-42AC-B854-0C8B645D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C6E9-1DF7-4731-ACB4-B562FD86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3FCF-8278-4186-928B-5C114CF8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3B23-C7E9-43F9-94AA-FB7B42A5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9C36-E279-41CE-BF00-99D713F0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A135-18C8-418E-9CBB-B4ED011B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B150-790A-4047-A809-7DE995F8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73D2-7016-4F50-9166-BD4103B6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2C11-80D3-4F2D-9FC7-4918171B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41FC-9180-46B7-86F9-FC5B5A18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A06BD-F675-426F-BC54-CB65B0B9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5434-7B76-4F9A-93A9-D97A39FF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59A5-373D-4646-BFE5-28761824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A667-B2EF-4B01-A0B3-8355A2E5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0BB0-CDEB-41F3-A1A4-29D6E336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23DD-98AF-4726-BB03-5031CBE0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0BB11-A977-4D00-80D9-CD6F8C8F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F63A-E49F-4233-84EC-C245C2EC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A508-FE25-46F3-9050-105BEC59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4352C-96D5-4700-806B-042E0BC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171D5-DA2B-4F67-9CBC-6D7530A6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C15B-BC18-4320-8F95-196EA1DA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B695-1A20-4A53-93E0-66B0E737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02F91-15B4-4ADD-8469-B7355941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8BED4-D1A2-4CB0-AD51-798E98CF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4F161-8CA2-4090-B74F-E0670FD9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CF1C-80EA-4923-B784-A55F3A1A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60B217-6639-4967-AA1F-E9CB2152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C7815B-04A3-4BC4-8C03-A4D23B0A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E17B1-5020-453E-B3B2-E8A2CBC2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462DB-85A0-4504-9AAF-0816D7B3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B78CD-6502-479A-99A2-AA10012D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5583C2-53EA-464D-B083-FF77B5B7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4EDB33-016D-48D4-8166-8281C1B0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ABEFF-9E3C-4C71-84B3-3EC4F824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B8DBB1-15DB-4D66-8B2B-9D2D10FD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3C6A-4F3A-44C2-BE39-51AA0BF2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282A-2D14-481A-A682-BBA54194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01BC-FC15-485E-9576-2A03E3C4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79BD-0E39-4A84-A6E1-EBD7BF12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8FC7-AF6B-4C3A-B4D1-F7E3E524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87A8BF4F-BCA2-4745-94AF-406BF121F6F4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2BEB-2428-457C-AB5A-0A238AD9D2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F46DBF-018C-4C38-A1AF-B1029C6778C6}" type="datetime10">
              <a:rPr b="0" lang="ru-RU" sz="1400" spc="-1" strike="noStrike">
                <a:solidFill>
                  <a:srgbClr val="000000"/>
                </a:solidFill>
                <a:latin typeface="Arial"/>
              </a:rPr>
              <a:t>12:5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2A24-745A-4C9B-9714-B30ED9694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67ED87E4-F4FB-49A4-84DC-5EFA79938F57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1D0A-DBA6-4CDA-A345-1273F526EC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ED2D-DD8D-47CF-A782-BBDFE009DD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F773D30D-1DF5-4D3C-AB83-2318F73A3B42}" type="datetime10">
              <a:rPr b="0" lang="ru-RU" sz="14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351640" cy="43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ОСНОВЫ ЭПИЗООТОЛОГИЧЕСКОГО ИССЛЕДОВАНИЯ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ОБЩИЕ ПРИНЦИПЫ ОРГАНИЗАЦИИ                    И ПРОВЕДЕНИЯ ПРОТИВОЭПИЗООТИЧЕСКИХ МЕРОПРИЯТ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63D4-1B6F-4F7A-A8AB-217BC2BBEC3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C90D-E437-4CEC-B21D-061CBACB87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21840" y="169992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тим методом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пределяю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стационарность, периодичность, сезонность болезней, их связь                                   с социально-экономическими                    движущими силами ЭП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атериал для этого метода берут из журналов, вет. отчетов, актов и т.д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9004-2D71-430A-B00B-DF4BF050F50E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4F5E-33E3-497E-8A8B-EEF1D42566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РАВНИТЕЛЬНО-ГЕОГРАФИЧЕСКОЕ ОПИСАНИЕ выясняет закономерности распространения инфекций животных                        в зависимости о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нкретны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территорий, их природно-географических                                 и хозяйственно-экономических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собенносте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5F77-89ED-45FD-80FF-83032435D8C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852C-815E-4091-B68F-9A20E2A5C3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50920" y="2133360"/>
            <a:ext cx="8642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ходе сравнительно-географического описания составляется ЭПИЗООТОЛОГИЧЕСКАЯ КАРТ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8696-9838-4DA9-A87D-824A0741AE68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4030-DEA7-42AF-8138-FD85BBE7F3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1476360" y="2308320"/>
            <a:ext cx="6408720" cy="39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34C8-6724-4915-ACDA-D5006818789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2C30-6862-47BF-B2F8-72EC63CEF0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ОЕ ОБСЛЕДОВАНИЕ ведут непосредственно          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неблагополучном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ункте, хозяйстве                   по определенной схеме                                             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а практических занятия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37EB-E29E-4A56-B025-B4D6C855D76B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5F0E-851D-4AFD-9611-8B65526240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21840" y="1917720"/>
            <a:ext cx="8642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ЭКСПЕРИМЕНТ проводят когда необходимо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уточни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эпизоотическую ситуацию,                           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уточни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диагноз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B202-E0B2-45B5-8083-B78256CFCEC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1311-1D48-465E-91A5-0EA15D1092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эксперимент                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бычн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оводят в лабораториях,                          но может быть и в хозяйстве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мпилобактериоз, АЧС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2162-506B-48B4-A17B-B92C11309B5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51C9-CEA1-4EA1-AC2F-0CB837882F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эксперимен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твечае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на следующие вопрос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542880" indent="-3571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еханизм заражения животных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42880" indent="-3571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ути выделения возбудителя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42880" indent="-3571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лияние различных факторов на ЭП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42880" indent="-3571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эффективность противоэпизоотических мероприятий и лечебных средств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42880" indent="-3571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едрасположенность болезни к широкому распространению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603E-4514-4D94-A73B-5B6ABC3CED0A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E5BB-25DE-463B-809A-3CD7F38686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АТЕМАТИЧЕСКАЯ ОБРАБОТКА МАТЕРИАЛА – позволяе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предели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тяжесть и динамику ЭП, ареал и характер распространения ИБ, определить влияние на интенсивность ЭП различных факторов (интенсивные и экстенсивные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F2BF-00B7-415F-86AC-67B8843FE30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CED8-01C3-431E-8401-C6A7C5375E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 эпизоотологическим исследованием тесно связаны такие понятия, как «эпизоотологический мониторинг»                         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лат. monitor - напоминающий, надзирающи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                                  и «эпизоотологический анализ»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AB04-6C62-48E5-9006-93D9C213989A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F9E1-EE8D-4935-9209-C783BE6BAA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Comic Sans MS"/>
              </a:rPr>
              <a:t>План лекции</a:t>
            </a:r>
            <a:endParaRPr b="1" lang="en-US" sz="5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29800" y="909720"/>
            <a:ext cx="77742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100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ПРИЕМЫ И МЕТОДЫ                     ЭПИЗООТОЛОГИЧЕСКОГО ИССЛЕДОВАНИЯ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100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ЭПИЗООТОЛОГИЧЕСКИЙ МОНИТОРИНГ                        И ЭПИЗООТОЛОГИЧЕСКИЙ АНАЛИЗ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100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ЭПИЗООТОЛОГИЧЕСКИЙ ДИАГНОЗ И ЭПИЗООТОЛОГИЧЕСКОЕ ПРОГНОЗИРОВАНИЕ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375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ЗАДАЧИ И ПРИНЦИПЫ БОРЬБЫ                                        С ЭПИЗООТИЯМИ В РФ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375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ОБЩАЯ ПРОФИЛАКТИКА                                               ИНФЕКЦИОННЫХ БОЛЕЗНЕЙ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375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АКТИВНАЯ, НАСТУПАТЕЛЬНАЯ                                          И ПРЕОБРАЗУЮЩАЯ ПРОФИЛАКТИКА ИНФЕКЦИОННЫХ БОЛЕЗНЕЙ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275"/>
              </a:spcBef>
              <a:spcAft>
                <a:spcPts val="1375"/>
              </a:spcAft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СПЕЦИФИЧЕСКАЯ ПРОФИЛАКТИКА ИНФЕКЦИОННЫХ БОЛЕЗНЕЙ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7817-A0F6-4F3B-ABC1-F210790ADAB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0460-BF0C-4686-B36C-CEE59D5538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МОНИТОРИНГ</a:t>
            </a:r>
            <a:r>
              <a:rPr b="0" i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 наблюдение, сбор данных, оценка                      и прогноз эпизоотического состояния определенных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территори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829E-71BB-4B4E-87A4-69CCE9AED188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60D9-7F16-4973-9904-80D890F019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лавная цель ЭМ - создани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едино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государственной системы ветеринарного надзора на основе современных методов диагностики, индикации и идентификации возбудителей инфекционных болезней животных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E9AF-5D3C-4447-A6C3-CEA2C941ED0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A6BE-510C-4DD9-8106-00E2BA7E63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дачи ЭМ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ация современной базы производства и контроля качества биопрепаратов;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прерывное эпизоотическое слежение за динамикой заболеваний и экологическая оценка окружающей среды для охраны территории РФ от заноса и распространения заразных болезне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ликвидация ИБ, поддержание ветеринарного благополучия, а также контроль производства и качества сельскохозяйственного сырья и продовольствия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85A9-E882-48C5-B9FC-1339741367E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B20D-5FB9-487E-BF3C-A6804E3F27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мониторинг                       должен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ключа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 себя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рганизацию системы постоянного получения проб для диагностических исследований на наличие возбудителей болезней в агро- и экосистемах, оценку иммунологической структуры стад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работку перечня неблагополучных территорий и очагов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77D7-3285-4FBA-8864-0F6DBD9C2F7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CFEE-E916-4693-B7FE-1C43140ECE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мониторинг                  должен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ключа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 себя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формирование баз данных по количественным и качественным характеристикам эпизоотической ситуации по времени и конкретным территориям; специализиров. обработку информаци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дготовку комплексных таблиц и карт, отражающих проанализированную информацию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A32D-01D5-4D4E-ADF8-F5C37697EC4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7837-8D14-4F12-A494-C233A9B562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мониторинг                    должен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ключа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 себя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ценку эпизоотической ситуации в сопредельных государствах и прогноз возможного появления и распространения инфекци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снащение компьютерной техникой и современной связью центральных ветеринарных органов и диагностических центров с ветеринарной службой республик, краев и областе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73E4-B9F2-4DC6-A924-6256E555745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A024-C9A2-4DA3-8560-BBF581CCE9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250920" y="155736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АНАЛИЗ</a:t>
            </a:r>
            <a:r>
              <a:rPr b="0" i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едставляет собой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овокупнос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методических приемов и методов ЭИ, цель которых - изучить характер, уровень и динамику ЭП, возникшего                                 на определенной территории,                                        за определенный отрезок времен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5121-1870-4CA3-8235-8ECC967A9F9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7498-0ADA-4AB3-A346-5A6646755A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ому анализу</a:t>
            </a:r>
            <a:r>
              <a:rPr b="0" i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едшествую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ходя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 него как органическая составная часть сравнительно-историческое и сравнительно-географическое описания ЭП конкретной болезни, эпизоотологическое обследование хозяйств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еблагополучных пунктов, эпизоотических очагов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 и эпизоотологический эксперимент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735F-B5A0-4EAD-87D3-77FD629F101B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D480-B69A-44D7-846D-62476986AF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езультаты наблюдений                                               и диагностических исследований, данные ветотчетности и другие интересующие исследователя материалы должны быть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истематизированы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 виде сводных статистических таблиц и подвергнуты математической обработке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2E7A-ADD5-42BD-AC9B-A0A216CE02D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EA14-37EA-4C92-82FB-18909464AE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324000" y="26028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МОНИТОРИНГ И ЭПИЗООТОЛОГИЧЕСКИЙ АНАЛИ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основании результатов ЭА можно сделать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ывод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 характере ИБ,                                           возникшей на определенной территории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становить эпизоотологический диагноз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,                              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едсказа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озможность возникновения, развитие и угасание                   той или иной ИБ                                       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пизоотологическое прогнозирован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A6CB-FF28-4A15-9E46-400FD0F9937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8564-72DB-4D28-91D0-96A2A9D4D5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овокупность методических приемов                        анализа ЭП – называют ЭПИЗООТОЛОГИЧЕСКИМ ИССЛЕДОВАНИЕМ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 основании эпизоотологического исследования делается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оценк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эпизоотической ситуации и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организации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мероприятий                          по профилактике и ликвидации ИБ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47DF-F395-4AC8-8848-55FA569E09CE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991A-AF12-4A69-9096-C3B5DFDC6E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ДИАГНОЗ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едставляет собой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ывод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 характере возникшей ИБ, сделанный на основании совокупности сведений, отражающих                      ее эпизоотологические особенности                              и закономерност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2ABC-96EF-453F-9F9A-53C606037F3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3520-A3EF-496A-9F3A-4A06A9BB32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д ЭПИЗООТОЛОГИЧЕСКИМ ПРОГНОЗОМ понимают научно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едвиден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изменений обстановки                          по инфекционным болезням                                   на определенной территори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FEFB-EB79-4890-B6D9-B9513E51DBC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E929-0CEE-4937-9E5A-80EF91C655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ПИЗООТОЛОГИЧЕСКИЙ ПРОГНОЗ основывается на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анализ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различных факторов, влияющих на развитие эпизоотического процесса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определенной степени можно прогнозировать и экономический ущерб            от болезне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F902-0C92-4BC0-94C2-2EFCB58286D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692D-F3E3-4B2C-AA52-A788BCBBDE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адачи эпизоотологического прогноз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становление возможности и сроков возникновения болезне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гнозирование интенсивности ЭП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гнозирование возможности заноса ИБ из неблагополучных пунктов в благополучные, а также на территорию благополучного государства из неблагополучного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16B8-2482-4438-869A-AADAF675AE15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8A0C-D1C6-483F-BFCD-A897BF9C01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гнозы бывают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88920" indent="-809640">
              <a:lnSpc>
                <a:spcPct val="16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ЕЗОННЫЕ – КРАТКОСРОЧНЫЕ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88920" indent="-809640">
              <a:lnSpc>
                <a:spcPct val="16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ГОДОВЫЕ – СРЕДНЕСРОЧНЫЕ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88920" indent="-809640">
              <a:lnSpc>
                <a:spcPct val="16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НОГОЛЕТНИЕ – ДОЛГОСРОЧНЫЕ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9B11-A827-4394-965E-4DD575818E2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869F-65C3-4B38-89BE-588C70D965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Достовернос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огнозов зависит от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4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тепени изученности эпизоотической ситуаци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4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нания особенностей болезн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4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ровня ведения с/х производства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4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ровня учета и  отчетности по ИБ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DB2D-B197-48D8-9224-33E3B1140D3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CA90-8B07-4C00-9336-2A9BB7A94D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езультаты прогнозирования позволяют научно-обоснованно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ланирова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отивоэпизоотическую роботу, а также выбирать наиболее эффективные методы и средства профилактики ИБ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6C0C-FFBC-46D0-859E-34F2BFC7B90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D1CE-C177-4432-A874-245EFCCF47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713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ГНОЗИРОВАНИЕ может проводиться 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масштаб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тдельного хозяйства,                         района, области, страны и т.д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CF87-04D0-49C7-A990-1C02EF36225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D4E0-F735-45EA-B0AE-D5C2DF457D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практической деятельности ветврачи-эпизоотологи разрабатывают прогноз, основанный на анализе динамики эпизоотической ситуации по актуальной болезни в области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рае, республике и т.п.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                        за последни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10...15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лет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2CDB-558F-42EC-BE01-FD0C40B2A90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858E-F310-427F-97A8-F62551B191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ким образом, прогнозирование ЭП начинают с того, что накапливаю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фактическ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данные о распространении инфекционных болезней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(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равнительно-исторического и сравнительно-географического описания, эпизоотологического обследования и мониторинг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A9C8-69D1-42D8-AAAD-1CB230B6382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229E-1A50-4C57-8F5D-8EAE280C94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эпизоотологическом исследовани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различаю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следующие этап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лучение, организация и систематизация сведений по эпизоотической ситуации, противоэпизоотическим мероприятиям, природно-географическому, экологическому и хозяйственно-экономическому фону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становление оперативного эпизоотологического диагноза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0973-FC34-41A8-A9CD-243E2FAA39B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8207-142F-43B8-B99D-658EC255F1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общая эти данные, устанавливаю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осты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овторности или закономерности распространения болезней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пизоотологический диагноз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9AB3-0256-4E54-B708-AAA42CD4880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34D2-CD28-4741-A24C-B76689B662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их основе выявляю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тенденци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 особенности и закономерности развития ЭП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ыясняют причинно-следственные связи путем использования статистико-математических приемов ЭА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                                          и разрабатываю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огноз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                        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эпизоотологическое прогнозирован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, вероятность которого тем выше, чем больше                    изучаемая территория и точнее методы научного исследования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1870-85F2-480B-8A57-597921C7A2B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C1FB-4242-4264-AF35-07F4D403B5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ЭПИЗООТОЛОГИЧЕСКИЙ ДИАГНОЗ                       И ЭПИЗООТОЛОГИЧЕСКОЕ ПРОГНОЗИРОВАНИЕ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692360" y="1628640"/>
            <a:ext cx="5759280" cy="29628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Эпизоотический процесс – объект исследова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250920" y="2349360"/>
            <a:ext cx="8642160" cy="2876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иемы исследова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250920" y="2637000"/>
            <a:ext cx="2160360" cy="4316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mic Sans MS"/>
              </a:rPr>
              <a:t>Сравнительно-историческое описание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Text Box 19"/>
          <p:cNvSpPr/>
          <p:nvPr/>
        </p:nvSpPr>
        <p:spPr>
          <a:xfrm>
            <a:off x="4500720" y="2637000"/>
            <a:ext cx="2232000" cy="4316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mic Sans MS"/>
              </a:rPr>
              <a:t>Эпизоотологическое обследование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2411280" y="2637000"/>
            <a:ext cx="2089440" cy="4316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mic Sans MS"/>
              </a:rPr>
              <a:t>Сравнительно-географическое описание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6732720" y="2637000"/>
            <a:ext cx="2160360" cy="4316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mic Sans MS"/>
              </a:rPr>
              <a:t>Эпизоотологический эксперимент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611280" y="3429000"/>
            <a:ext cx="7921440" cy="29628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татистические данные и математическая обработка материал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1692360" y="6308640"/>
            <a:ext cx="5759280" cy="29628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Конкретные предложения по организации ПЭ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AutoShape 30"/>
          <p:cNvSpPr/>
          <p:nvPr/>
        </p:nvSpPr>
        <p:spPr>
          <a:xfrm>
            <a:off x="4357800" y="1989000"/>
            <a:ext cx="358560" cy="360360"/>
          </a:xfrm>
          <a:prstGeom prst="downArrow">
            <a:avLst>
              <a:gd name="adj1" fmla="val 49556"/>
              <a:gd name="adj2" fmla="val 5996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63" name="Group 37"/>
          <p:cNvGrpSpPr/>
          <p:nvPr/>
        </p:nvGrpSpPr>
        <p:grpSpPr>
          <a:xfrm>
            <a:off x="1116000" y="3068640"/>
            <a:ext cx="6767640" cy="360360"/>
            <a:chOff x="1116000" y="3068640"/>
            <a:chExt cx="6767640" cy="360360"/>
          </a:xfrm>
        </p:grpSpPr>
        <p:sp>
          <p:nvSpPr>
            <p:cNvPr id="364" name="AutoShape 32"/>
            <p:cNvSpPr/>
            <p:nvPr/>
          </p:nvSpPr>
          <p:spPr>
            <a:xfrm>
              <a:off x="1116000" y="3068640"/>
              <a:ext cx="358920" cy="360360"/>
            </a:xfrm>
            <a:prstGeom prst="downArrow">
              <a:avLst>
                <a:gd name="adj1" fmla="val 49556"/>
                <a:gd name="adj2" fmla="val 5990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5" name="AutoShape 33"/>
            <p:cNvSpPr/>
            <p:nvPr/>
          </p:nvSpPr>
          <p:spPr>
            <a:xfrm>
              <a:off x="3276720" y="3068640"/>
              <a:ext cx="358560" cy="360360"/>
            </a:xfrm>
            <a:prstGeom prst="downArrow">
              <a:avLst>
                <a:gd name="adj1" fmla="val 49556"/>
                <a:gd name="adj2" fmla="val 5996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6" name="AutoShape 34"/>
            <p:cNvSpPr/>
            <p:nvPr/>
          </p:nvSpPr>
          <p:spPr>
            <a:xfrm>
              <a:off x="5435640" y="3068640"/>
              <a:ext cx="358560" cy="360360"/>
            </a:xfrm>
            <a:prstGeom prst="downArrow">
              <a:avLst>
                <a:gd name="adj1" fmla="val 49556"/>
                <a:gd name="adj2" fmla="val 5996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7" name="AutoShape 35"/>
            <p:cNvSpPr/>
            <p:nvPr/>
          </p:nvSpPr>
          <p:spPr>
            <a:xfrm>
              <a:off x="7524720" y="3068640"/>
              <a:ext cx="358920" cy="360360"/>
            </a:xfrm>
            <a:prstGeom prst="downArrow">
              <a:avLst>
                <a:gd name="adj1" fmla="val 49556"/>
                <a:gd name="adj2" fmla="val 5990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68" name="Text Box 23"/>
          <p:cNvSpPr/>
          <p:nvPr/>
        </p:nvSpPr>
        <p:spPr>
          <a:xfrm>
            <a:off x="2124000" y="4148280"/>
            <a:ext cx="4753080" cy="29628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Эпизоотологический анализ и синтез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 Box 24"/>
          <p:cNvSpPr/>
          <p:nvPr/>
        </p:nvSpPr>
        <p:spPr>
          <a:xfrm>
            <a:off x="2411280" y="4869000"/>
            <a:ext cx="4248360" cy="29628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Эпизоотологический диагноз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2411280" y="5587920"/>
            <a:ext cx="4248360" cy="296280"/>
          </a:xfrm>
          <a:prstGeom prst="rect">
            <a:avLst/>
          </a:prstGeom>
          <a:solidFill>
            <a:srgbClr val="0099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Эпизоотологический прогноз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AutoShape 36"/>
          <p:cNvSpPr/>
          <p:nvPr/>
        </p:nvSpPr>
        <p:spPr>
          <a:xfrm>
            <a:off x="4356000" y="3787920"/>
            <a:ext cx="358920" cy="360360"/>
          </a:xfrm>
          <a:prstGeom prst="downArrow">
            <a:avLst>
              <a:gd name="adj1" fmla="val 49556"/>
              <a:gd name="adj2" fmla="val 5990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AutoShape 38"/>
          <p:cNvSpPr/>
          <p:nvPr/>
        </p:nvSpPr>
        <p:spPr>
          <a:xfrm>
            <a:off x="4356000" y="4508640"/>
            <a:ext cx="358920" cy="360360"/>
          </a:xfrm>
          <a:prstGeom prst="downArrow">
            <a:avLst>
              <a:gd name="adj1" fmla="val 49556"/>
              <a:gd name="adj2" fmla="val 5990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AutoShape 39"/>
          <p:cNvSpPr/>
          <p:nvPr/>
        </p:nvSpPr>
        <p:spPr>
          <a:xfrm>
            <a:off x="4356000" y="5227560"/>
            <a:ext cx="358920" cy="360360"/>
          </a:xfrm>
          <a:prstGeom prst="downArrow">
            <a:avLst>
              <a:gd name="adj1" fmla="val 49556"/>
              <a:gd name="adj2" fmla="val 5990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AutoShape 40"/>
          <p:cNvSpPr/>
          <p:nvPr/>
        </p:nvSpPr>
        <p:spPr>
          <a:xfrm>
            <a:off x="4356000" y="5948280"/>
            <a:ext cx="358920" cy="360360"/>
          </a:xfrm>
          <a:prstGeom prst="downArrow">
            <a:avLst>
              <a:gd name="adj1" fmla="val 49556"/>
              <a:gd name="adj2" fmla="val 5990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mph" presetID="35" repeatCount="5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5658-6466-40FC-A5ED-77C464195F8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707D-FBE2-4691-9DD3-313CE27C37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67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сновны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задачи ПЭМ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534960" indent="-355680">
              <a:lnSpc>
                <a:spcPct val="120000"/>
              </a:lnSpc>
              <a:spcBef>
                <a:spcPts val="700"/>
              </a:spcBef>
              <a:spcAft>
                <a:spcPts val="1925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щита животных от ИБ;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34960" indent="-355680">
              <a:lnSpc>
                <a:spcPct val="120000"/>
              </a:lnSpc>
              <a:spcBef>
                <a:spcPts val="700"/>
              </a:spcBef>
              <a:spcAft>
                <a:spcPts val="1925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пуск безопасных продуктов животноводства;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34960" indent="-355680">
              <a:lnSpc>
                <a:spcPct val="120000"/>
              </a:lnSpc>
              <a:spcBef>
                <a:spcPts val="700"/>
              </a:spcBef>
              <a:spcAft>
                <a:spcPts val="1925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щита населения от болезней,                              общих для человека и животных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B2F4-8A77-4675-A4C2-81747983F10B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B6C3-4CB0-4AC0-9E2E-F15EA773A0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НЦИПЫ ПРОТИВОЭПИЗООТИЧЕСКИХ МЕРОПРИЯТ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787D-A1AA-4C28-8D71-B7B3444915CB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5B4A-217A-456A-A196-3A0FF4AC62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042560" y="155736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>
              <a:lnSpc>
                <a:spcPct val="11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сновные </a:t>
            </a:r>
            <a:r>
              <a:rPr b="0" lang="ru-RU" sz="2000" spc="-1" strike="noStrike">
                <a:solidFill>
                  <a:srgbClr val="ffcc00"/>
                </a:solidFill>
                <a:latin typeface="Comic Sans MS"/>
              </a:rPr>
              <a:t>принципы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противоэпизоотической работы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офилактическая направленность ПЭМ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лановость ПЭМ;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бязательность учета и отчетности по ИБ;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комплексность и направленность на ЭЦ;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ыбор ведущего звена ЭЦ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ерриториальное единство ПЭМ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динство ветеринарного законодательства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широкая пропаганда ветеринарно-сананитарных знаний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182520" indent="-18252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бесплатность проведения ПЭМ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F8AF-B5A2-480F-B099-3AA759212F7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644-F18E-4304-AB33-D00C485D59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ФИЛАКТИЧЕСКАЯ НАПРАВЛЕННОСТЬ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филактическая направленность                   составляет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основу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противоэпизоотической работы в нашей стране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олезнь всегда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легче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дешевле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предупредить, чем бороться с ней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1868-5D53-4322-9C76-AFF2D4A24ADB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5F5D-868D-467F-B2EC-16297584C0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ЛАНОВОСТЬ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анный принцип состоит в том, что ПЭМ целенаправленно планируют на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всех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административно-хозяйственных уровнях: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ерма ‑ хозяйство (пункт, ветучасток) ‑ район (город) ‑ область ‑ страна в цело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D4E3-D27C-4BB3-A2ED-136BACDDFCE5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6E2D-E5FD-47FF-9813-F034F77889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041120" y="1628640"/>
            <a:ext cx="7202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зависимости от эпизоотической обстановки                              и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конкретных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задач, составляют план: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44600" indent="-2653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 год (текущий) и на несколько лет (перспективный);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44600" indent="-2653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масштабах хозяйства (пункта),                               региона или страны;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44600" indent="-2653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 период оздоровления или ликвидации болезни и т. д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еречисленные планы носят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директивны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(обязательный) характер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00C3-60B9-4D39-B20A-B69D3A9BFEC8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448B-54B0-48E1-B471-3AB3547448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БЯЗАТЕЛЬНОСТЬ УЧЕТА И ОТЧЕТНОСТИ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Эффективность ПЭМ зависит                                          от своевременности и быстроты                                    их проведения, поэтому так важны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сведения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             о каждом случае появления ИБ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1ACA-62DC-4FC0-8E8A-A4F0249E94F7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62AC-D7EA-44EC-A783-44DB12C089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эпизоотологическом исследовании (ЭИ)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различаю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следующие этап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эпизоотологический анализ особенностей                      и закономерностей ЭП, выявление факторов, влияющих на эпизоотическую напряженность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оделирование и прогнозирование эпизоотической ситуации, установление ретроспективного эпизоотологического диагноза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AC5-1A1F-4408-8066-13AD4AFB01BB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EEEF-F586-470A-BEB9-AD42E4BB5B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ведения об особо опасных болезнях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ящур, чума, сибирская язва, б. Ньюкасла и др.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 передаю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экстренн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о телефону, телефаксу, электронной почтой и пр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6227-42FB-4DB0-A0CC-934DA9DB214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7332-F39A-4E9E-857B-37DB94D9FA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МПЛЕКСНОСТЬ.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нцип комплексности предусматривае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очетан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разнообразных мер воздействия                      на все звенья ЭЦ (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ВИ — МП — ВЖ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EACD-7F21-4433-9BD4-D23C1FE497A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5530-6418-409E-9639-FD942509FF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и разных болезнях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ценность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                        отдельных мероприятий, применяемых                               на том или ином этапе ПЭМ,                                    бывает неодинакова, отсюда возникает необходимость учета следующего принцип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F2E7-CC4E-413E-BF3E-56D0F8A7D9C2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B7F3-DABA-4DBB-8CBD-43BF887F2F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БОР ВЕДУЩЕГО ЗВЕНА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оздействуя на ведущее звено ЭЦ, удается добиться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максимального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эффекта, т.е. получить положительный результат и снизить                       нежелательные дополнительные расходы                        и потери при выполнении ПЭ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DE2A-B801-47D9-87F7-831E40DFC2BE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DF16-6C74-4D2F-BEAD-E28495E95E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5256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ABAF-E11D-41F2-B250-6DF367C6A46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18DE-377A-4C76-A231-C0AB966383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скольку при разных болезнях эффективность ПМ может                         существенно различаться,                                          то при вспышке конкретной ИБ выявляют ведущее звено ЭЦ, на которое воздействуют 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ервую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чередь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D4DE-8981-42E0-A824-ACE5AC314797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A19F-55C0-476C-BD17-ED7303991C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ерам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оздействия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могут быть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явление, изоляция или устранение (уничтожение, убой, лечение) ИВИ 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туберкулез, бруцеллез и др.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странение МП (дезинфекция, дезинсекция, дератизация) 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трансмиссивные болезни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вышение общей резистентности или создание иммунитета у ВЖ 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ибирская язв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AD55-E5B3-4BFB-9927-E14F52860C2F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D9ED-35F0-49F7-9F9B-EF9FB7DEAC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395280" y="170172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актически принцип выявления ведущего звена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отивоположен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инципу комплексност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5DCA-8C8B-447C-BE00-F688E48BCD2F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F6D3-8235-4396-B2FE-412B6F8D50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днако здесь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не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отиворечий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итывать надо все,                                                     но наибольшее внимание обращать                                                            на самы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главны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звень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9221-6680-4FC0-BB42-E68409714CAE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A57F-44C9-48BF-B662-296E821322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ОМПЛЕКСНОСТЬ И ВЫЯВЛЕНИЕ ВЕДУЩЕГО ЗВЕНА В ОБЩЕЙ СИСТЕМЕ МЕРОПРИЯТИЙ —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ОСНОВ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КОНКРЕТНОЙ ПРОТИВОЭПИЗООТИЧЕСКОЙ РАБОТЫ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3626-F1E6-43C9-9D54-E0CC98D6151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8AF1-5F4C-4E4A-83C5-5C0403336F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эпизоотологическом исследовании (ЭИ)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различаю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следующие этап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гнозирование ожидаемого срока                                  и зон риска возникновения и развития чрезвычайных ситуаци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нализ возможных социально-экономических последствий эпизоотий, разработку рекомендаций по системе противоэпизоотических мер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DEBA-0FBB-4884-8C82-2220C896F2AA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3AA5-2C73-4ABE-8554-59B64D3681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ЕРРИТОРИАЛЬНОЕ ЕДИНСТВО ПЭМ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7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едставляет собой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бщегосударственную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систему,                                она направлена на предупреждение болезни в целом по стране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0A31-37FF-4E02-B245-58B93575CFFD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F24B-3650-4A71-8781-38B59AB220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ДИНСТВО ВЕТ. ЗАКОНОДАТЕЛЬСТВА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2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нашей стране действуе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едино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етеринарное законодательство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784B-31F2-48C4-BDC3-A30D859EA64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0177-CB23-4B99-8686-B24ACED4F1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ШИРОКАЯ ПРОПАГАНДА ВЕТ.-САН. ЗНАНИЙ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6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Важный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неотъемлемый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элемент ПЭМ,                             т.к. позволяет проводить мероприятия эффективно и защитить население                                           и специалистов от заражения                                                   особо опасными ИБ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D270-EA6D-471F-BB58-5711C1AE6C3E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7BD3-461F-403D-8DD2-6F353C4197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ЗАДАЧИ И ПРИНЦИПЫ БОРЬБЫ                         С ЭПИЗООТИЯМИ В РФ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0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ЕСПЛАТНОСТЬ ПРОВЕДЕНИЯ ПЭМ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20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ероприятия по особо опасным болезням финансируются                                             из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федеральног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бюджет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8690-0060-4D89-94FD-D1539C6A0BF7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DE57-B12C-4074-8AF7-AB55BBADAE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филактика</a:t>
            </a:r>
            <a:r>
              <a:rPr b="0" i="1" lang="ru-RU" sz="3200" spc="-1" strike="noStrike">
                <a:solidFill>
                  <a:srgbClr val="ffffff"/>
                </a:solidFill>
                <a:latin typeface="Comic Sans MS"/>
              </a:rPr>
              <a:t> —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истема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мероприятий, обеспечивающих предупреждение возникновения и распространения ИБ                       в хозяйствах и стране в целом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23E6-57A8-4D38-810B-58D9BBAF492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50C7-58AD-4E5D-9D73-29B2968AD2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4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ФИЛАКТИЧЕСКИЕ МЕРОПРИЯТИЯ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УСЛОВН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РАЗДЕЛЯЮТ НА ОБЩИЕ                           И СПЕЦИАЛЬНЫЕ (специфические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CEBD-5CE4-4CE7-AD68-88FB280834EF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B7E9-74C6-4656-9F19-52C477E047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ЩАЯ ПРОФИЛАКТИКА —                                       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мплекс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остоянно действующих                            и повсеместно проводимых организационно-хозяйственных                               и ветеринарно-санитарных мер, направленных на профилактику                            всех инфекционных болезней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E911-62D7-4759-AB84-3E599F9EBA58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CAFD-80C1-40E8-A472-A1718B2D5E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сторически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рн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бщей профилактики болезней уходят в древность, когда стали прибегать к предупредительным мерам                    на пути движения мора                                   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ордоны, костры, сжигание трупов и т.п.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57A2-A7B2-4BF9-A045-506175EC037A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EF77-B2E1-4E70-B1C9-66C5357F06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 мере познания сущности заболеваний их профилактика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овершенствовалас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7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настоящее время профилактика ИБ построена на прочных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теоретически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          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методологически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сновах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EFDA-B0FA-402C-9B01-133DE89EDF7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73BD-CCF3-4767-897C-3988961776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324000" y="1628280"/>
            <a:ext cx="86421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мплекс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бщепрофилактических мер можно выделить следующие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хранно-ограничительные меры                                          и контроль за перемещением животных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филактическое карантинирование                         (30 дней) вновь поступающих животных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елекция животных (пород)                                                   с наследственной устойчивостью к ИБ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9575-3227-4997-943E-22371050F995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0928-A55F-4FC0-A512-8D6E1F694A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21840" y="2131560"/>
            <a:ext cx="86425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иемы и методы ЭИ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РАВНИТЕЛЬНО-ИСТОРИЧЕСКОЕ ОПИСАНИЕ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РАВНИТЕЛЬНО-ГЕОГРАФИЧЕСКОЕ ОПИСАНИЕ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ПИЗООТОЛОГИЧЕСКОЕ ОБСЛЕДОВАНИЕ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ПИЗООТОЛОГИЧЕСКИЙ ЭКСПЕРИМЕНТ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16040" indent="-5367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МАТЕМАТИЧЕСКАЯ ОБРАБОТКА МАТЕРИАЛ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EAF9-E439-431C-B4E0-2DA25084D517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0D03-F568-4A55-8A0F-941966F857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324000" y="1628280"/>
            <a:ext cx="86421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мплекс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бщепрофилактических мер можно выделить следующие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лноценное и рациональное кормление, размещение и эксплуатация животных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ериодические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 реже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раза в мес.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) клинические осмотры животных, диспансеризация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2 раза в год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), своевременное выявление и изоляция больных и подозрительных по заболеванию животных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5A25-D485-41F0-A67D-56E25CD3C14A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7CD3-5FE8-4334-982C-1059949EAC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мплекс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бщепрофилактических мер можно выделить следующие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егулярная очистка и дезинфекция помещений, инвентаря и территорий                                  (не реже 1 раза в год)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воевременная уборка и утилизация трупов, отходов животноводства и навоза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ероприятия по борьбе с переносчиками (дезинсекция и дератизация)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2361-2620-4D50-ACE9-200A8A4AE725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349B-4A62-47E8-A80A-C25C9106C9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мплекс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бщепрофилактических мер можно выделить следующие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крытый тип работы крупных животноводческих предприятий,                      соблюдение принципа «пусто-занято»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рганизация контроля на станциях искусственного осеменения животных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онтроль за состоянием пастбищ                                       и их санация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3B9F-7AFE-4CE6-B71C-7FA65B12A54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D41C-D385-4336-9CD6-E42CE9FA6B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ОБЩАЯ ПРОФИЛАКТИКА ИНФЕКЦИОННЫХ БОЛЕЗНЕЙ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21840" y="1628640"/>
            <a:ext cx="8642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8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Характер действия общих профилактических мероприятий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универсален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для всех ИБ, поэтому данные мероприятия должны проводиться повсеместно и постоянно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A29A-C12A-4747-996D-C5BF0C8C4588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04D4-94F7-4228-A105-AF0963603E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связи с появлением крупных животноводческих комплексов значение профилактик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озрастае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з этого вытекает необходимость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овершенствования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офилактики, придавая ей еще более активный (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ступательный и преобразующи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 характер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96D3-0C79-4E33-903D-7D3B5EA41B2D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7C7A-356B-4AC1-BA29-FFD4AA98D3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льзя отождествлять понятия “активная профилактика” и “активная иммунизация”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следняя является одним из важных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пецифически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звеньев профилактических мероприятий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2D86-151F-4F22-9248-3513817D06B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B56D-69AE-45F3-9738-D323E157AF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икакая иммунизация, даже создающая весьма активный иммунитет, не може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одменить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собой весь комплекс активной профилактики, т.к. иммунизация является средством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ременно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защиты организма от инфекци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6E14-8800-4A80-8FB6-10BD172E957F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A25E-9A8D-4D1F-BCDE-880B43A71F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Цель современной активной профилактики                      не ограничиваться мероприятиями оборонительного характера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кажем, вакцинацией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),                    а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наступать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на болезни, искать, находить                         и уничтожать их потенциальные причины           везде и всюду, своевременно и в зародыше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ф. Х.Г. Гизатулли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CF82-B1E7-4A73-A206-78B2833340D8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FFFF-7BD4-4E48-81D2-896881791F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ктивная профилактика складывается                      из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дву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сновных моментов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30360" indent="-451080">
              <a:lnSpc>
                <a:spcPct val="170000"/>
              </a:lnSpc>
              <a:spcBef>
                <a:spcPts val="700"/>
              </a:spcBef>
              <a:spcAft>
                <a:spcPts val="17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СТУПАТЕЛЬНАЯ ПРОФИЛАКТИКА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630360" indent="-451080">
              <a:lnSpc>
                <a:spcPct val="170000"/>
              </a:lnSpc>
              <a:spcBef>
                <a:spcPts val="700"/>
              </a:spcBef>
              <a:spcAft>
                <a:spcPts val="17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ЕОБРАЗУЮЩАЯ ПРОФИЛАКТИК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C9CA-BF0E-4129-8FD2-DEECF475D30F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E9C4-CC8A-4F87-8B4F-59933F0D92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ступательные мероприятия должны быть направлены на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ыявлен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                     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устранен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ИВИ и ЭО                                           (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собенно скрытых, латентны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FFAD-F43A-4CF7-9160-637BDEB569BB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3168-17F1-4007-9FC1-4BC9937CE7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0920" y="2131920"/>
            <a:ext cx="864216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РАВНИТЕЛЬНО-ИСТОРИЧЕСКОЕ ОПИСАНИЕ – наиболе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древни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ием эпизоотологического исследования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7642-E2DC-4C5D-B88B-F1CFFD29565C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9E1D-F71E-4904-A689-F002C4369A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ктивным направлением в профилактике ИБ является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учение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Павловского Е.Н.                                     “О природной очаговости болезней”,                              которое позволяет прослеживать пути циркуляции возбудителей ИБ в природе, выявлять закономерности появления, развития и затухания ЭО в природе и ликвидировать их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C2A8-9FC8-4DCF-A988-3A192C0387FE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A4C2-C0CE-4184-801D-DCE504B919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дной из форм наступательной профилактики является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активно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оздействие на возбудителя ИБ                               как в организме, так и вне его, т.е. обеззараживание животных и внешней среды – девастация (акад. К.И. Скрябин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00DC-B4D8-48C9-AE37-528F9EB029A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CD85-142A-4CDC-818A-76AD12C7B5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250920" y="1843200"/>
            <a:ext cx="86421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ажным орудием современной активной формы профилактики болезней                              является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диспансерны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метод вететеринарно-зоотехнического обслуживания животноводства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0668-34A7-4FA5-B0F1-20790DFDC9E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3FC9-1005-4437-9186-539DADB67A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ИСПАНСЕРИЗАЦИЯ – 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систем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организации вет.-зоот. работ, направленных на раннее предупреждение всякой заболеваемости среди животных путем постоянных наблюдений за их здоровьем, продуктивностью и периодических плановых обследований здорового скота, условий его содержания и кормления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5465-0613-491A-A9D4-5D12BEC3D2E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08BB-165E-4AA8-9E27-1E22F2EB24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Цели диспансеризации животных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воевременно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ыявление животных                        с начальными признаками заболевания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становление и устранение сан.-зоогиг.                                  и зоотехнических недостатков в их содержании, уходе и кормлени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D7F8-6B2E-4A19-B336-13C87FFCBA09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A4E7-34D6-4F7F-BD86-52DC37B9DD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еобразующие мероприятия активной профилактики должны иметь целью целесообразное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преобразование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ландшафта, мест обитания животных и самих животных в направлении повышения их устойчивости (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ренировка, закаливание, регулирование обмена веществ, холодный метод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),                                   а также отбор и разведение стойких к болезням семейств, линий (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генетическая профилактика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B504-7680-426E-B275-16C03F9CCD8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BDD7-9F95-4AB3-A379-A10574D288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324000" y="189000"/>
            <a:ext cx="864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АКТИВНАЯ, НАСТУПАТЕЛЬНАЯ                          И ПРЕОБРАЗУЮЩ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кая форма племенной работы весьма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ерспективна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и открывает широкие возможности для ветеринарных специалистов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8917-BA22-4167-839A-F743677B05F2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EBB2-AB68-47C9-A32F-51787B37E5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АЯ ПРОФИЛАКТИКА — специальная система мер, направленных на предупреждение появления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нкретны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инфекционных болезней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то важнейше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звен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 комплексе ПЭМ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8824-0996-454D-90E5-5C6468E1DDD7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B6E9-82A1-4E79-AF95-A547F4D2D7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250920" y="1699920"/>
            <a:ext cx="86421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Характер специфических профилактических мероприятий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определяется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особенностями отдельных болезней, эпизоотической обстановкой хозяйства и окружающей территори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4EEB-72DB-4681-B134-090D0895D605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6308-3278-461C-93C6-96D44BB6AB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пецифическо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профилактике относят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пециальные диагностические исследования                 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ключая содержание животных в карантине, изоляцию, уточнение диагноза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именение лечебно-профилактических средств специального назначения (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емиксы, аэрозоли, иммуномодуляторы, кормовые антибиотики, пробиотики и пр.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иммунопрофилактику с использованием специфических средств вакцин, сывороток, иммуноглобулинов и др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667E-7E17-4CA8-81D8-0C5E2827BC70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AEB7-385E-41F1-84D3-B42C98E268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ПРИЕМЫ И МЕТОДЫ ЭПИЗООТОЛОГИЧЕСКОГО ИССЛЕДОВАНИЯ </a:t>
            </a:r>
            <a:endParaRPr b="1" lang="en-US" sz="32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 этом определяется была ли эта болезнь в данной местности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в прошлом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 причины возникновения, вид  и возраст больных животных, форма проявления заболевания и характер                                         ее распространения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2F1E-D1F4-480E-81EA-35C89D8EDE33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06DF-8DED-47A5-ABAC-E60FFFC8F9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филактическая (предохранительная) вакцинация — проведение прививок                        в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благополучном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хозяйстве с целью создать у животных иммунитет на случай их возможного заражения впоследстви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A7C6-9D63-465E-9122-072E225C1A17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C3FE-8309-4446-A6BC-9AB1C20410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50920" y="1699920"/>
            <a:ext cx="8642160" cy="50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 РФ обязательны прививки против ряда болезней, вне зависимости от угрозы заражения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ротив сибирской язвы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чумы свине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ожи свине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-277920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ящура парнокопытных в буферных зонах и др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55BF-2832-4C73-BA46-7E1DE0632576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C078-5BEE-4FC2-9373-506C9CBBC5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642160" cy="39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СКУССТВЕННАЯ ИММУНИЗАЦИЯ                                     В НЕБЛАГОПОЛУЧНЫХ ХОЗЯЙСТВАХ НАЗЫВАЕТСЯ ВЫНУЖДЕННОЙ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7FB4-0D6D-4788-AB9F-4A93C2A6DA62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4311-33CF-486F-9D54-FCA01F32FB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78920" y="1960200"/>
            <a:ext cx="8713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ая профилактика                         направлена на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3-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звено ЭЦ – восприимчивых животных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3C80-6BC9-4B5E-A66A-C8A1D3C1869B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9386-F06C-47CD-A297-79E26572B2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скусственную профилактику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деля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на активную и пассивную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роме того, различают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симультанную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иммунизацию (пассивная + активная), когда сначала применяют сыворотку,                            а затем вакцину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95C0-22C5-4D7A-BACC-F8323A0DA7D1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8051-7FCC-422D-88E4-71448BA92D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амый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распространенны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вид иммунизации – активная с помощью вакцин, которая обеспечивает более длительную и напряженную специфическую невосприимчивость к ИБ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A7E5-515B-4FBD-806B-67CD17304635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C39D-96ED-486E-B418-B055746158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сли в стаде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75-80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% животных иммунизированы, создается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препятстви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для циркуляции возбудителя                                      и распространения болезн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944C-1C82-4250-8947-20D270F9D52F}" type="datetime10">
              <a:rPr b="0" lang="ru-RU" sz="1200" spc="-1" strike="noStrike">
                <a:solidFill>
                  <a:srgbClr val="ffffff"/>
                </a:solidFill>
                <a:latin typeface="Arial"/>
              </a:rPr>
              <a:t>12:52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B32E-CA22-42C3-AE4E-A4FFB8FD62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324000" y="189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Comic Sans MS"/>
              </a:rPr>
              <a:t>СПЕЦИФИЧЕСКАЯ ПРОФИЛАКТИКА ИНФЕКЦИОННЫХ БОЛЕЗНЕЙ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резвычайно важное значение                      приобретает активная иммунизация                                                            в животноводческих </a:t>
            </a: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комплексах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8:38:10Z</dcterms:created>
  <dc:creator>*</dc:creator>
  <dc:description/>
  <dc:language>en-US</dc:language>
  <cp:lastModifiedBy>XXX</cp:lastModifiedBy>
  <dcterms:modified xsi:type="dcterms:W3CDTF">2013-10-15T17:58:17Z</dcterms:modified>
  <cp:revision>85</cp:revision>
  <dc:subject/>
  <dc:title>ВВОДНАЯ ЛЕКЦИЯ ЭПИЗООТОЛОГИЯ КАК НАУКА,                                             ЕЕ ПРЕДМЕТ, ЗАДАЧИ И ИСТОРИЯ,                                              ПРОБЛЕМЫ И ДОСТИЖЕНИЯ                                         НА СОВРЕМЕННОМ ЭТАПЕ</dc:title>
</cp:coreProperties>
</file>