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541D097-5D4E-43C9-B57D-8DDA219E71CC}" type="datetime10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:4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C38C-2994-4C86-84D6-6C35764E8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5E9-1FA4-40ED-B39A-84E33F6BF70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E98-57CC-4881-A99E-1D040D57E07B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68E-0DFF-4EAB-9C9B-C23A05402964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DBD3-5EBB-452E-9F9A-6CBFACD24AC8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087D-A145-4018-8E17-85D3F141584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8449-BA85-4A68-8578-00E48CC072FC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B77-C5E8-45D8-8C5F-D30E2B112AE4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294-816F-461B-A102-1BCA37A715BA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AB84-1BF5-4D94-9516-310E75578DDF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0C6-E330-4EDA-8F3B-0D75CE2E5620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EBF-D703-41F9-99BF-80C6723478F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A38-22D7-4CD0-9907-3FA3CEB04E94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19C9-8D37-466F-9439-F87CC19AD2DB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06C-0D9A-40FD-B0DE-29CB0001C702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822-CE24-4D22-B762-E603582C4B8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0F3-886C-4A9F-8971-F21F7BCD901D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8D86-4037-430D-A65B-C02A7DF38CB6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F4EF-1A47-425B-AF0C-9DACA3DE1E7D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EECC-784B-4B34-9519-22A5A573532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57D-986F-4873-B1D9-BC77422CC19D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EC5-D3F5-4988-96F1-AD93402523B0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8D0-F5CC-47A9-9135-7380BA731C00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24A-BDBF-4E72-8219-8230A078958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C7E2-CBBF-4C18-9D8C-8D1CDA14AE35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4C32-F415-4EB0-9A9B-F42E77D28FA1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468-F397-4D3A-9C55-112781625A6F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432-999C-431A-A624-0AEEB3C9B0BE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596B-795A-4224-8629-57C5CA0F4F39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BE2C-AF0D-45A5-962D-75BDDB4BE217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A09-31CD-4DBC-B76E-EA44B3B74E3B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E518-33BB-4BCC-BA50-8114AC8D286C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FD8-D44D-4417-9D6B-534662E8799F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E2C-3B16-44F1-84B3-B3C1EF815702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39BF-AE57-4970-9D93-358BFCC9225B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D717-2554-4B51-819E-6E632E0DBA45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64D4-772F-4DA2-B62D-7EE66AAE897C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2C81-5A4B-48ED-B97E-1D754A33CFE2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7504-9C27-4439-929E-774C02BC6172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33C-78A3-45E7-9E8D-D3F5159B77E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7D9-9135-49E0-A8C4-4BACAC8F40FD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6D5-87C5-4580-8A68-BDEF8683D3F3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8BC7-057C-4130-99ED-1ABA53A5A1AA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AA2D-8E80-4158-B596-06738785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3D7D-28BF-42C5-ADBB-88CCBE1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AB71-9FB1-4606-949E-45380615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4D65-EAE6-44F0-80F2-39B78745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CF49-1EFC-4FCB-970B-4C8C210D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36F-D22C-4A6E-B57B-4FF3C4C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944C-C225-4636-A66D-5A264F55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C0E5-EE07-465A-9570-22C761D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26D9-A34C-41E4-9ADF-A775601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9DF4-7708-4D2E-BB0B-E4FFB1E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AE18-9D56-48CB-A8E2-5EF0EF3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860B-5AB8-4D9C-9E9A-02915EDF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DD86-1C18-41E1-B6D4-76357D31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D50-B28F-46FF-B9C0-5F61697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8751-69DE-4019-AAC1-3B0D00F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A5F-1229-4BA5-A286-63C510B2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27F3-A1F0-44DB-AEF8-178A2D55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92A8-66D8-4A8D-8A1A-0DD9B68E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B02F-D166-4367-90C4-C87F3B7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CBBE-6545-4846-8064-70DBD013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715A-B86E-44DB-8CA0-1209C640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9AA0-E290-4380-B9B6-810A5C2A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8112-00ED-4E3F-B767-E7600A8F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DF9BE-FE1A-467A-A3EE-2DC942DD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85FA-7AFB-4D69-AED9-1D0E0BE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5075-6493-417F-B22A-225D395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FBD5-A91A-4B38-8BAC-B5E3412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4A11-937F-49BC-80FB-0AA15F2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D218-D954-408A-B6D0-C7BB251B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0EF0-E8C4-4F97-8B28-8B777731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A2BDB-C922-4DE1-958F-F7F47D4C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A439F-EE83-4F67-8810-A48E190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A73FB-2088-4C30-B944-F531E8E4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47D0-B26C-458E-B74B-EC55C74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BBA4D-9C7F-4F6C-BC7B-D460C8C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5A2A9-227D-4921-BD5E-7E78297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CD270-F6A5-4C76-AEF4-0FA90F92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2B03A-4EBA-4136-A1CE-774760B7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E57CC-5E47-4D2A-868A-E8D4808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CEDAE-A7AA-4352-8931-15C1EA5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14263-D66C-4C54-97A1-64899E1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08A21-FA1F-4D75-90E9-ECA451DE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BEC90-CD61-4F95-8344-4E72CCDD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FD63-9803-4D70-A356-52861E2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7448-97DB-4DB7-AAC4-1D68676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15C4-0DDB-4EF2-9F3D-7366C25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FB45-310A-4E73-9991-A898CA9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E4B7-C592-4205-9837-38DC6D6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346A73D5-8C0E-46F7-9E69-6A96E022862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691-2FA3-44DA-B26E-3089D35D23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579861-7E97-4054-A9FA-59F0EAB15C55}" type="datetime10">
              <a:rPr b="0" lang="ru-RU" sz="1400" spc="-1" strike="noStrike">
                <a:solidFill>
                  <a:srgbClr val="000000"/>
                </a:solidFill>
                <a:latin typeface="Arial"/>
              </a:rPr>
              <a:t>17:4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1E53-3EAF-42BC-B4EB-5FCCB57FB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8FA22D3C-11CD-492E-8268-547F246997F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645-8F87-4EB5-B37F-CED0689C1A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59E7-F2C6-4C40-934D-26343931B3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0DC75D56-5B2B-49A6-B6BB-3C02DCBFD79A}" type="datetime10">
              <a:rPr b="0" lang="ru-RU" sz="14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51640" cy="43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СНОВЫ ЭПИЗООТОЛОГИЧЕСКОГО ИССЛЕДОВАН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БЩИЕ ПРИНЦИПЫ ОРГАНИЗАЦИИ                    И ПРОВЕДЕНИЯ ПРОТИВОЭПИЗООТИЧЕСКИХ МЕРОПРИЯТ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FBE-681F-4E7E-88DF-7F90C8FA3CF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3269-FC77-4E72-85E8-1BACC4D25E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1840" y="169992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им методом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я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тационарность, периодичность, сезонность болезней, их связь                                   с социально-экономическими                    движущими силами ЭП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риал для этого метода берут из журналов, вет. отчетов, актов и т.д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B12-85A2-4C8E-9CA3-DE4979C3F8B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D3C-68A3-4592-9774-2DD81EABA5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 выясняет закономерности распространения инфекций животных                        в зависимости о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территорий, их природно-географических                                 и хозяйственно-экономически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собенносте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55D9-2245-4F44-8394-82BBAE1E697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9D7-FC08-4778-929B-86FE4B29CE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50920" y="213336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ходе сравнительно-географического описания составляется ЭПИЗООТОЛОГИЧЕСКАЯ КАР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018D-6CFF-4AB1-9DF6-07F3EF10735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531-8BAC-48B1-92D5-E298E18362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76360" y="2308320"/>
            <a:ext cx="640872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8B5-F5CD-47A2-86B6-94EE0C2B898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1432-53D7-41D0-8D3B-7180BD9CAF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 ведут непосредственно         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еблагополучн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ункте, хозяйстве                   по определенной схеме                    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практических занятия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004-F27C-44E3-B3F6-DF870938305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1E4-9131-470B-A5B7-4366408458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21840" y="1917720"/>
            <a:ext cx="8642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проводят когда необходимо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точ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эпизоотическую ситуацию,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точ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иагноз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7B2C-841C-44A9-B13F-04718176596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96B-C823-4D1D-A1A1-D261273C6F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быч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водят в лабораториях,                          но может быть и в хозяйстве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мпилобактериоз, АЧ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87B-9504-4349-B90A-FDB37BB2786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381-C8A0-4DF3-BE11-E66732D2E5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твеча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на следующие вопрос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ханизм заражен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ути выделения возбудител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лияние различных факторов на ЭП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ффективность противоэпизоотических мероприятий и лечебных средст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едрасположенность болезни к широкому распространени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A99-3857-41E4-971A-D239E1F1469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037-7F06-49FE-A18F-B359E9E5D8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МАТИЧЕСКАЯ ОБРАБОТКА МАТЕРИАЛА – позволя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тяжесть и динамику ЭП, ареал и характер распространения ИБ, определить влияние на интенсивность ЭП различных факторов (интенсивные и экстенсивные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497-17F9-4E2D-9F16-1921536194A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275-699A-4525-8E59-8879C3103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 эпизоотологическим исследованием тесно связаны такие понятия, как «эпизоотологический мониторинг»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лат. monitor - напоминающий, надзирающ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          и «эпизоотологический анализ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8FE-BC79-44D8-AD07-B7A2EE1627A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BE5E-B96C-4B97-8AF4-D9C7E2D00B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Comic Sans MS"/>
              </a:rPr>
              <a:t>План лекции</a:t>
            </a:r>
            <a:endParaRPr b="1" lang="en-US" sz="5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29800" y="909720"/>
            <a:ext cx="77742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ПРИЕМЫ И МЕТОДЫ                     ЭПИЗООТОЛОГИЧЕСКОГО ИССЛЕДОВА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    И ЭПИЗООТОЛОГИЧЕСКИЙ АНАЛИЗ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 И ЭПИЗООТОЛОГИЧЕСКОЕ ПРОГНОЗИРОВАНИЕ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ЗАДАЧИ И ПРИНЦИПЫ БОРЬБЫ                                        С ЭПИЗООТИЯМИ В РФ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ОБЩАЯ ПРОФИЛАКТИКА                                              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АКТИВНАЯ, НАСТУПАТЕЛЬНАЯ                                          И ПРЕОБРАЗУЮЩАЯ ПРОФИЛАКТИКА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D113-66A6-457C-BAF8-D8DCBEAB730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B0F4-27E0-49A8-827D-DEBC466495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 наблюдение, сбор данных, оценка                      и прогноз эпизоотического состояния определен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рритор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97D-DDB7-489C-9F6D-82E5EC37333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AFC-24F4-44F7-B52C-F97402CB71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лавная цель ЭМ - создан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един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государственной системы ветеринарного надзора на основе современных методов диагностики, индикации и идентификации возбудителей инфекционных болезней животных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EA3-C52F-4497-B3FB-EC5221B6D49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DFC7-53D3-4B86-A7B0-95616E9723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дачи ЭМ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ация современной базы производства и контроля качества биопрепаратов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прерывное эпизоотическое слежение за динамикой заболеваний и экологическая оценка окружающей среды для охраны территории РФ от заноса и распространения заразных болезн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иквидация ИБ, поддержание ветеринарного благополучия, а также контроль производства и качества сельскохозяйственного сырья и продовольствия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8BF5-792B-4821-B482-4900D808142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E7C-6873-4290-B64C-3606D21DED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рганизацию системы постоянного получения проб для диагностических исследований на наличие возбудителей болезней в агро- и экосистемах, оценку иммунологической структуры стад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работку перечня неблагополучных территорий и очаго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9F3-EE37-4498-84F7-C2935A45458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F46-768A-48EE-A6EE-95C86F850C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формирование баз данных по количественным и качественным характеристикам эпизоотической ситуации по времени и конкретным территориям; специализиров. обработку информаци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дготовку комплексных таблиц и карт, отражающих проанализированную информацию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168-FB2D-4718-8212-EB63A911CCD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A427-E9C6-4BAE-BA5F-587E3E9D3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ценку эпизоотической ситуации в сопредельных государствах и прогноз возможного появления и распространения инфекц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снащение компьютерной техникой и современной связью центральных ветеринарных органов и диагностических центров с ветеринарной службой республик, краев и областе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C7E-D210-4997-B38D-82693318143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9516-F04A-44DB-B6EE-5B36A0B4FC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окупнос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тодических приемов и методов ЭИ, цель которых - изучить характер, уровень и динамику ЭП, возникшего                                 на определенной территории,                                        за определенный отрезок времен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88C-FECD-40A9-8525-5B53710735A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302-264B-4B71-9CC4-844600AC7E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ому анализу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шеству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ходя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него как органическая составная часть сравнительно-историческое и сравнительно-географическое описания ЭП конкретной болезни, эпизоотологическое обследование хозяйств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благополучных пунктов, эпизоотических очаг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и эпизоотологический эксперимен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417-CDD8-4F13-B6E9-341C88C5EED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E72-354B-494C-A041-4F27631EE3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зультаты наблюдений                                               и диагностических исследований, данные ветотчетности и другие интересующие исследователя материалы должны бы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стематизированы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виде сводных статистических таблиц и подвергнуты математической обработк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567-A9BE-4ACF-A82E-05893765841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DBFB-FB2D-413F-879E-3A7CBC47D3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основании результатов ЭА можно сдела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в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 характере ИБ,                                           возникшей на определенной территории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становить эпизоотологический диа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,        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сказ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озможность возникновения, развитие и угасание                   той или иной ИБ    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ое прогнозиров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1A9-1BBD-4281-9682-785F4BF8FF3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851-F49A-438B-B379-A5F68A2BD1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вокупность методических приемов                        анализа ЭП – называют ЭПИЗООТОЛОГИЧЕСКИМ ИССЛЕДОВАНИЕМ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основании эпизоотологического исследования делается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ценк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эпизоотической ситуации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рганизаци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мероприятий                          по профилактике и ликвидации ИБ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B41-84A2-4962-B79C-3E2E43D3BF9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F4D-7AE7-4817-89CA-E3C5588E96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в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 характере возникшей ИБ, сделанный на основании совокупности сведений, отражающих                      ее эпизоотологические особенности                              и закономер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D6B-43F4-4B5A-B978-5309B6D0FFE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992-01F8-4FEF-8AD9-91B058BFAC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 ЭПИЗООТОЛОГИЧЕСКИМ ПРОГНОЗОМ понимают научно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вид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зменений обстановки                          по инфекционным болезням                                   на определенной территор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9AA-B3D9-4EC4-B789-F9000C785EC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EB0-1A0F-4EA5-B862-0EC2B71C3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ПРОГНОЗ основывается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анализ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личных факторов, влияющих на развитие эпизоотического процесс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определенной степени можно прогнозировать и экономический ущерб            от болезн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AE4D-82AB-4AEB-AF7C-24936C9B31B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3C0-AA16-4F46-AA40-E93BD6052F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дачи эпизоотологического прогноз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ановление возможности и сроков возникновения болез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интенсивности ЭП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возможности заноса ИБ из неблагополучных пунктов в благополучные, а также на территорию благополучного государства из неблагополучного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C8B-D4BD-4AD9-87A2-918BFA4CC1D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C47-91DC-4357-9BC6-DFFFA24AA3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гнозы бываю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ЗОННЫЕ – КРАТКОСРОЧНЫЕ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ГОДОВЫЕ – СРЕДНЕСРОЧНЫЕ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НОГОЛЕТНИЕ – ДОЛГОСРОЧНЫ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ACAD-06FF-4262-A352-80020C0A6EE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C794-D946-4D84-B48F-8188B3547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остовернос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гнозов зависит о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епени изученности эпизоотической ситуаци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нания особенностей болезн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ровня ведения с/х производств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ровня учета и  отчетности по ИБ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9B8-CC9C-4BD4-BE71-DF6A05586FB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A0B-F447-4FC1-9D98-4EE0AFE8CE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зультаты прогнозирования позволяют научно-обоснованно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ланиров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тивоэпизоотическую роботу, а также выбирать наиболее эффективные методы и средства профилактики ИБ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D53-0665-495A-8FCF-B26C3340785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A02-8DFF-4307-8626-B622BF2C39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ГНОЗИРОВАНИЕ может проводиться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масштаб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тдельного хозяйства,                         района, области, страны и т.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7D5-31D0-4729-896E-24C73A7E722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AF6-3987-4176-9581-0CBCE24D32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практической деятельности ветврачи-эпизоотологи разрабатывают прогноз, основанный на анализе динамики эпизоотической ситуации по актуальной болезни в области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рае, республике и т.п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за последн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10...15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ле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59E1-B761-4599-8166-35770934C90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9114-4512-4778-99DC-54910447D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ким образом, прогнозирование ЭП начинают с того, что накапли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фактическ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анные о распространении инфекционных болезне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равнительно-исторического и сравнительно-географического описания, эпизоотологического обследования и мониторинг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FDF-E573-44C9-A086-E10C8BF931F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389-4E01-4C88-8F86-05B99838BF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учение, организация и систематизация сведений по эпизоотической ситуации, противоэпизоотическим мероприятиям, природно-географическому, экологическому и хозяйственно-экономическому фону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ановление оперативного эпизоотологического диагн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2E6-7F41-44EC-B93C-B8EF1852A95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98F5-A9A9-4BE8-AA9C-1B615C9386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общая эти данные, устанавли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ст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вторности или закономерности распространения болезней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247-6EBD-4439-8C5F-57B3B1867DF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777-EA5B-4D7E-B6F6-D803E3AB1D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их основе выявля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нденци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 особенности и закономерности развития ЭП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ыясняют причинно-следственные связи путем использования статистико-математических приемов Э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                  и разрабаты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пизоотологическое прогнозиров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, вероятность которого тем выше, чем больше                    изучаемая территория и точнее методы научного исследова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ECAC-FC85-42AA-87D0-7D4F7759FE7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AC9-A894-44DA-A218-8A7268596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692360" y="1628640"/>
            <a:ext cx="57592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ический процесс – объект иссле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250920" y="2349360"/>
            <a:ext cx="8642160" cy="287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емы иссле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250920" y="2637000"/>
            <a:ext cx="216036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500720" y="2637000"/>
            <a:ext cx="223200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2411280" y="2637000"/>
            <a:ext cx="208944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6732720" y="2637000"/>
            <a:ext cx="216036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11280" y="3429000"/>
            <a:ext cx="792144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татистические данные и математическая обработка материал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1692360" y="6308640"/>
            <a:ext cx="57592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онкретные предложения по организации ПЭ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AutoShape 30"/>
          <p:cNvSpPr/>
          <p:nvPr/>
        </p:nvSpPr>
        <p:spPr>
          <a:xfrm>
            <a:off x="4357800" y="1989000"/>
            <a:ext cx="358560" cy="360360"/>
          </a:xfrm>
          <a:prstGeom prst="downArrow">
            <a:avLst>
              <a:gd name="adj1" fmla="val 49556"/>
              <a:gd name="adj2" fmla="val 5996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3" name="Group 37"/>
          <p:cNvGrpSpPr/>
          <p:nvPr/>
        </p:nvGrpSpPr>
        <p:grpSpPr>
          <a:xfrm>
            <a:off x="1116000" y="3068640"/>
            <a:ext cx="6767640" cy="360360"/>
            <a:chOff x="1116000" y="3068640"/>
            <a:chExt cx="6767640" cy="360360"/>
          </a:xfrm>
        </p:grpSpPr>
        <p:sp>
          <p:nvSpPr>
            <p:cNvPr id="364" name="AutoShape 32"/>
            <p:cNvSpPr/>
            <p:nvPr/>
          </p:nvSpPr>
          <p:spPr>
            <a:xfrm>
              <a:off x="1116000" y="3068640"/>
              <a:ext cx="358920" cy="360360"/>
            </a:xfrm>
            <a:prstGeom prst="downArrow">
              <a:avLst>
                <a:gd name="adj1" fmla="val 49556"/>
                <a:gd name="adj2" fmla="val 599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AutoShape 33"/>
            <p:cNvSpPr/>
            <p:nvPr/>
          </p:nvSpPr>
          <p:spPr>
            <a:xfrm>
              <a:off x="3276720" y="3068640"/>
              <a:ext cx="358560" cy="360360"/>
            </a:xfrm>
            <a:prstGeom prst="downArrow">
              <a:avLst>
                <a:gd name="adj1" fmla="val 49556"/>
                <a:gd name="adj2" fmla="val 5996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AutoShape 34"/>
            <p:cNvSpPr/>
            <p:nvPr/>
          </p:nvSpPr>
          <p:spPr>
            <a:xfrm>
              <a:off x="5435640" y="3068640"/>
              <a:ext cx="358560" cy="360360"/>
            </a:xfrm>
            <a:prstGeom prst="downArrow">
              <a:avLst>
                <a:gd name="adj1" fmla="val 49556"/>
                <a:gd name="adj2" fmla="val 5996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AutoShape 35"/>
            <p:cNvSpPr/>
            <p:nvPr/>
          </p:nvSpPr>
          <p:spPr>
            <a:xfrm>
              <a:off x="7524720" y="3068640"/>
              <a:ext cx="358920" cy="360360"/>
            </a:xfrm>
            <a:prstGeom prst="downArrow">
              <a:avLst>
                <a:gd name="adj1" fmla="val 49556"/>
                <a:gd name="adj2" fmla="val 599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68" name="Text Box 23"/>
          <p:cNvSpPr/>
          <p:nvPr/>
        </p:nvSpPr>
        <p:spPr>
          <a:xfrm>
            <a:off x="2124000" y="4148280"/>
            <a:ext cx="47530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 и синте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2411280" y="4869000"/>
            <a:ext cx="424836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2411280" y="5587920"/>
            <a:ext cx="424836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прогно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AutoShape 36"/>
          <p:cNvSpPr/>
          <p:nvPr/>
        </p:nvSpPr>
        <p:spPr>
          <a:xfrm>
            <a:off x="4356000" y="378792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AutoShape 38"/>
          <p:cNvSpPr/>
          <p:nvPr/>
        </p:nvSpPr>
        <p:spPr>
          <a:xfrm>
            <a:off x="4356000" y="450864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AutoShape 39"/>
          <p:cNvSpPr/>
          <p:nvPr/>
        </p:nvSpPr>
        <p:spPr>
          <a:xfrm>
            <a:off x="4356000" y="522756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AutoShape 40"/>
          <p:cNvSpPr/>
          <p:nvPr/>
        </p:nvSpPr>
        <p:spPr>
          <a:xfrm>
            <a:off x="4356000" y="594828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D84D-10C4-4FA7-BA8C-98F1BDA17D2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A48-8292-46E0-B292-2A4D42467E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67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сновн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адачи ПЭМ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щита животных от ИБ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пуск безопасных продуктов животноводства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щита населения от болезней,                              общих для человека и животных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24A-3789-433F-8D96-1CE4DE6B8F4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5D6A-5CC1-4EF3-960A-46CD67F6DA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НЦИПЫ ПРОТИВОЭПИЗООТИЧЕСКИХ МЕРОПРИЯТ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DE71-9807-4210-81E8-F171AB1C726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C20-3840-419D-83A6-D3D0DF1C1F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1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новные </a:t>
            </a:r>
            <a:r>
              <a:rPr b="0" lang="ru-RU" sz="2000" spc="-1" strike="noStrike">
                <a:solidFill>
                  <a:srgbClr val="ffcc00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противоэпизоотической работы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 ПЭМ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лановость ПЭМ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бязательность учета и отчетности по ИБ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омплексность и направленность на ЭЦ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бор ведущего звена ЭЦ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ерриториальное единство ПЭМ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динство ветеринарного законодательства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широкая пропаганда ветеринарно-сананитарных знаний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есплатность проведения ПЭ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5F1-87C0-49CA-8939-7C133AC1015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56E-593F-4BB0-963B-A98B16D396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                   составляет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снову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ротивоэпизоотической работы в нашей стране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олезнь всегд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легч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дешевл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редупредить, чем бороться с не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132-367C-41E2-8A2F-567576B803A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18B-9CCC-41CE-85BE-103F9B0B0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ЛАНОВОСТЬ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анный принцип состоит в том, что ПЭМ целенаправленно планируют н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все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административно-хозяйственных уровнях: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ерма ‑ хозяйство (пункт, ветучасток) ‑ район (город) ‑ область ‑ страна в цело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16A-AB8B-4BF2-8ED4-A4A80DEBE94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C5F-37CA-41CF-A9CA-D399422EB0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041120" y="1628640"/>
            <a:ext cx="7202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зависимости от эпизоотической обстановки                              и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задач, составляют план: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год (текущий) и на несколько лет (перспективный)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масштабах хозяйства (пункта),                               региона или страны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период оздоровления или ликвидации болезни и т. д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ечисленные планы носят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директивны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обязательный) характе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32F5-5017-4407-87D2-120C3ABB090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12E-7BDC-43F7-8167-8B98BD8F4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ЯЗАТЕЛЬНОСТЬ УЧЕТА И ОТЧЕТНОСТ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ффективность ПЭМ зависит                                          от своевременности и быстроты                                    их проведения, поэтому так важны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сведени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о каждом случае появления ИБ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946-D3C6-4387-B509-D29BC195B95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6600-AD26-44EF-A787-D3CA71C877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(ЭИ)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 особенностей                      и закономерностей ЭП, выявление факторов, влияющих на эпизоотическую напряженность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делирование и прогнозирование эпизоотической ситуации, установление ретроспективного эпизоотологического диагн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AF7-9EFB-449F-8E0E-8BDF94394B0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F9C-6140-4F33-ACE9-2E1EC622FD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едения об особо опасных болезнях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ящур, чума, сибирская язва, б. Ньюкасла и др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перед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экстрен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 телефону, телефаксу, электронной почтой и пр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25D-2595-4642-8368-9E70F45117E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701-6CF9-4BC6-8736-04644C495C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ЛЕКСНОСТЬ.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нцип комплексности предусматрива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чет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нообразных мер воздействия                      на все звенья ЭЦ (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ВИ — МП — ВЖ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F34A-17B5-483B-B66B-F58E304C83E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430-9A39-4E5F-BE3F-68DEFE8A5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 разных болезнях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ценность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 отдельных мероприятий, применяемых                               на том или ином этапе ПЭМ,                                    бывает неодинакова, отсюда возникает необходимость учета следующего принцип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614-2F47-4A41-B7A2-3F5030EA922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6A19-B642-46EC-8B32-A401EC51D7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БОР ВЕДУЩЕГО ЗВЕНА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оздействуя на ведущее звено ЭЦ, удается добиться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максимального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эффекта, т.е. получить положительный результат и снизить                       нежелательные дополнительные расходы                        и потери при выполнении ПЭ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B1F1-AD13-4C6C-A5F0-FB95B418904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206-A793-4926-9A98-BB55BC4D17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525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19D-8396-4CE0-B505-11E8C870E2C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77D-ACE2-4A93-A269-A9827AF424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скольку при разных болезнях эффективность ПМ может                         существенно различаться,                                          то при вспышке конкретной ИБ выявляют ведущее звено ЭЦ, на которое воздействуют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ерв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чередь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461-77F5-4033-AB43-CD6F2E30D76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E7C-62DD-458D-96E6-8F5C28019B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рам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оздейств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огут быть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явление, изоляция или устранение (уничтожение, убой, лечение) ИВИ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уберкулез, бруцеллез и др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ранение МП (дезинфекция, дезинсекция, дератизация)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рансмиссивные болезн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вышение общей резистентности или создание иммунитета у ВЖ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ибирская язв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2C1-5880-4063-B821-48ED71548FE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6DF-9F15-4B65-8B45-2AC09D4C64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95280" y="170172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актически принцип выявления ведущего зве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тивоположен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инципу комплексност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539F-9FEA-4342-B13E-296094C458A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228-DE97-4DCC-ABF1-EBB204A87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нако здес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тиворечи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итывать надо все,                                                     но наибольшее внимание обращать                                                            на самы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главн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ь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101-B3EB-4AB0-AE5B-FC42916FEA3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10A-E738-402A-9E49-98DBFE66CE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ПЛЕКСНОСТЬ И ВЫЯВЛЕНИЕ ВЕДУЩЕГО ЗВЕНА В ОБЩЕЙ СИСТЕМЕ МЕРОПРИЯТИЙ —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СНОВ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КОНКРЕТНОЙ ПРОТИВОЭПИЗООТИЧЕСКОЙ РАБОТ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1C8F-6EAB-4C4C-A7D7-96012C9F258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864-41A3-4002-835E-5BE4AB8986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(ЭИ)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ожидаемого срока                                  и зон риска возникновения и развития чрезвычайных ситуац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ализ возможных социально-экономических последствий эпизоотий, разработку рекомендаций по системе противоэпизоотических ме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8AB-0DF0-499C-887D-131E2CCA5A4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7559-EFD2-4B91-9302-18DE038454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РРИТОРИАЛЬНОЕ ЕДИНСТВО ПЭМ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бщегосударственн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истему,                                она направлена на предупреждение болезни в целом по стран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E30-C4DB-47D5-837F-8118A4A7125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9EA-0428-45B2-8636-E01FD4F614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ДИНСТВО ВЕТ. ЗАКОНОДАТЕЛЬ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нашей стране действу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еди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етеринарное законодательств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B6D-F912-43F4-8F13-3D313B61541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A76-065F-464C-A835-397702751D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ШИРОКАЯ ПРОПАГАНДА ВЕТ.-САН. ЗНАНИ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Важны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неотъемлемы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элемент ПЭМ,                             т.к. позволяет проводить мероприятия эффективно и защитить население                                           и специалистов от заражения                                                   особо опасными ИБ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1AD-BF52-4889-9875-CA341CA4E1B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62E-26A0-4122-93B1-8381493DAB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СПЛАТНОСТЬ ПРОВЕДЕНИЯ ПЭМ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0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роприятия по особо опасным болезням финансируются                                             из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федеральног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бюдже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35DA-B094-4A80-A0F3-692F39CFC29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AC82-95DA-4671-9254-B3D17D6B9C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ка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—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стем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роприятий, обеспечивающих предупреждение возникновения и распространения ИБ                       в хозяйствах и стране в цело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A665-016A-488C-8E1C-4213708CDED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454-5D47-4607-B864-C6D8499CA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4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ЧЕСКИЕ МЕРОПРИЯТИ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СЛОВ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ДЕЛЯЮТ НА ОБЩИЕ                           И СПЕЦИАЛЬНЫЕ (специфические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BCCD-4590-47E5-9CF8-9E92FAA2DDF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651-EE8C-4458-A76B-E48B525999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ЩАЯ ПРОФИЛАКТИКА —            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стоянно действующих                            и повсеместно проводимых организационно-хозяйственных                               и ветеринарно-санитарных мер, направленных на профилактику                            всех инфекционных болезн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3EB-D73C-4454-B038-F4D33C0ECD7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5BF8-8EF8-42E2-9CA8-0B391AB6FA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торическ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рн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й профилактики болезней уходят в древность, когда стали прибегать к предупредительным мерам                    на пути движения мора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ордоны, костры, сжигание трупов и т.п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3BC-F339-4ECE-8721-E0668865BC7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ADBB-E0B8-4450-8EC8-1375BA54C7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мере познания сущности заболеваний их профилактик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ершенствовалас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настоящее время профилактика ИБ построена на проч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орет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методолог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новах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1C8A-19D9-4221-A4E9-E3B257CE002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65E-8C0E-4C68-B72D-F7C9016AE4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хранно-ограничительные меры                                          и контроль за перемещением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ое карантинирование                         (30 дней) вновь поступающих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лекция животных (пород)                                                   с наследственной устойчивостью к ИБ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761-E9D8-47ED-BAE9-1001306E9E9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B1C7-5698-497E-B75E-56999D1708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21840" y="2131560"/>
            <a:ext cx="86425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емы и методы ЭИ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АТЕМАТИЧЕСКАЯ ОБРАБОТКА МАТЕРИАЛ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0A79-EEC3-48A7-9348-2E5C43F2844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63F-6419-4560-8E98-533E7FF4A1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ноценное и рациональное кормление, размещение и эксплуатац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иодические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реже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раза в мес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 клинические осмотры животных, диспансеризация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 раза в г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, своевременное выявление и изоляция больных и подозрительных по заболеванию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A2F-E6C6-47ED-8F99-6B68683240C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B77-531D-4625-AAE7-CF8844118E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егулярная очистка и дезинфекция помещений, инвентаря и территорий                                  (не реже 1 раза в год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воевременная уборка и утилизация трупов, отходов животноводства и нав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роприятия по борьбе с переносчиками (дезинсекция и дератизация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F06D-6E16-4FF7-9281-FEC8EA579D1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50D0-3436-406F-8227-5EDD62906F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крытый тип работы крупных животноводческих предприятий,                      соблюдение принципа «пусто-занято»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рганизация контроля на станциях искусственного осеменен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нтроль за состоянием пастбищ                                       и их санац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470-8C8A-437E-8A0E-4890FC9930C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F11-7F2D-4B58-88BD-69DC30CCA5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Характер действия общих профилактических мероприяти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ниверсален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ля всех ИБ, поэтому данные мероприятия должны проводиться повсеместно и постоянн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C497-6786-4B94-B325-92D19E53309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EB1-C8B1-4A15-A7B5-BF8C35737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связи с появлением крупных животноводческих комплексов значение профилактик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озраста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этого вытекает необходимос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ершенствован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филактики, придавая ей еще более активный (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ступательный и преобразующ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характер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735B-CB82-4CD8-987C-B4371A382C7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0C9-FF6F-4BD0-AC34-54ABF3364F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льзя отождествлять понятия “активная профилактика” и “активная иммунизация”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следняя является одним из важ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пециф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ьев профилактических мероприяти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F7D-3AF2-4DD9-AEED-FF54BEAD20A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6EC-DBDA-43C0-A857-830C81B93E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икакая иммунизация, даже создающая весьма активный иммунитет, не мож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одме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обой весь комплекс активной профилактики, т.к. иммунизация является средством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ременн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ащиты организма от инфек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5ACA-424D-4082-988F-D035F6AFC74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463-C261-4713-B813-9ABF9D059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ель современной активной профилактики                      не ограничиваться мероприятиями оборонительного характера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кажем, вакцинацие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,                    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наступать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на болезни, искать, находить                         и уничтожать их потенциальные причины           везде и всюду, своевременно и в зародыш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. Х.Г. Гизатулли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1E4D-BC59-4194-BDF8-AF7C93DFADB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844-0144-417C-919C-D0C9BDEEBF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ктивная профилактика складывается                      из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ву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новных моментов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30360" indent="-451080">
              <a:lnSpc>
                <a:spcPct val="170000"/>
              </a:lnSpc>
              <a:spcBef>
                <a:spcPts val="700"/>
              </a:spcBef>
              <a:spcAft>
                <a:spcPts val="17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СТУПАТЕЛЬНАЯ ПРОФИЛАКТИК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30360" indent="-451080">
              <a:lnSpc>
                <a:spcPct val="170000"/>
              </a:lnSpc>
              <a:spcBef>
                <a:spcPts val="700"/>
              </a:spcBef>
              <a:spcAft>
                <a:spcPts val="17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ЕОБРАЗУЮЩАЯ ПРОФИЛАКТИК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E8F1-44A6-4156-B3F1-67C6097BED4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428-CB92-4F2D-9BD4-B04D7337BF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ступательные мероприятия должны быть направлены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явл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стран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ВИ и ЭО       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 скрытых, латен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656E-88CD-4EF5-AD20-8A98110685A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06A-4885-47F5-B3ED-69FA0D4794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0920" y="213192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 – наиболе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ревн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ием эпизоотологического исследова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0EC-43E1-47AA-9D09-F1A55D3D554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67F9-89CC-4C95-8ED5-019C192C96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ктивным направлением в профилактике ИБ является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учени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авловского Е.Н.                                     “О природной очаговости болезней”,                              которое позволяет прослеживать пути циркуляции возбудителей ИБ в природе, выявлять закономерности появления, развития и затухания ЭО в природе и ликвидировать их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3B8-336D-48D7-B5B0-FAD78B339CE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D32B-C959-4239-A0BD-89843F534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ной из форм наступательной профилактики явля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актив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оздействие на возбудителя ИБ                               как в организме, так и вне его, т.е. обеззараживание животных и внешней среды – девастация (акад. К.И. Скрябин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3D4-C53A-432A-A63A-FBA044AFDF6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1DF-009C-486E-B08D-90A3148D7D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50920" y="184320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ажным орудием современной активной формы профилактики болезней                              явля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испансерны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тод вететеринарно-зоотехнического обслуживания животновод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CA01-543C-43EA-8671-786F88CF696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4F2-853C-48C5-BEBC-E54865D62A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ИСПАНСЕРИЗАЦИЯ –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систем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организации вет.-зоот. работ, направленных на раннее предупреждение всякой заболеваемости среди животных путем постоянных наблюдений за их здоровьем, продуктивностью и периодических плановых обследований здорового скота, условий его содержания и кормле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F2E-8926-4CC4-A17E-C2B0F1D0521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6FF8-722E-4E04-B3FF-686878CA05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ели диспансеризации животных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воевремен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ыявление животных                        с начальными признаками заболевания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становление и устранение сан.-зоогиг.                                  и зоотехнических недостатков в их содержании, уходе и кормлен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48B-933B-4B0E-A7CB-D4E4FB8915B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521-F2C2-403A-B931-079678998D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еобразующие мероприятия активной профилактики должны иметь целью целесообразное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преобразование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ландшафта, мест обитания животных и самих животных в направлении повышения их устойчивости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ренировка, закаливание, регулирование обмена веществ, холодный метод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,                                   а также отбор и разведение стойких к болезням семейств, линий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енетическая профилакти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988-8F0B-480D-B629-7EF76541A4D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8602-CA85-45B2-A346-B93D72FD2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кая форма племенной работы весьм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ерспективн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 открывает широкие возможности для ветеринарных специалист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7B9-B1E7-4206-9E78-D21B5B0F739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03DC-49DF-4061-A3F9-6EF369B72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— специальная система мер, направленных на предупреждение появлени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нфекционных болезн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о важнейше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зве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комплексе ПЭ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DD31-C319-474B-A4FE-CCF3246F87F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EA7D-55A3-4367-B3AB-E8262577FA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Характер специфических профилактических мероприяти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яетс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обенностями отдельных болезней, эпизоотической обстановкой хозяйства и окружающей территор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F4E-BB7A-4970-9645-01ACF40102D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312-7638-4219-8EDA-32D98F8AC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пецифическ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филактике относя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пециальные диагностические исследования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ключая содержание животных в карантине, изоляцию, уточнение диагноз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именение лечебно-профилактических средств специального назначения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миксы, аэрозоли, иммуномодуляторы, кормовые антибиотики, пробиотики и пр.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ммунопрофилактику с использованием специфических средств вакцин, сывороток, иммуноглобулинов и д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A6B-EF31-49AF-A468-F620DD57FDA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04FC-A2C2-4A08-A32F-6DEC3B754B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 этом определяется была ли эта болезнь в данной местност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 прошл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 причины возникновения, вид  и возраст больных животных, форма проявления заболевания и характер                                         ее распростране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7B1-71C8-4D81-850F-8E7B24B17F9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136-4D71-4FBC-B1A8-F37CF919B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ческая (предохранительная) вакцинация — проведение прививок                       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благополучн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хозяйстве с целью создать у животных иммунитет на случай их возможного заражения впоследств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1428-B44F-4B70-AE08-218FC9AFC96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C72-C6A8-4C4D-9EC4-DF4D84E86A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РФ обязательны прививки против ряда болезней, вне зависимости от угрозы заражения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тив сибирской язвы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умы сви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ожи сви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ящура парнокопытных в буферных зонах и д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9BC-0BB8-4544-8DF2-599A211361B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3BD6-A58F-4485-B7C5-CAEA5EDCCE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КУССТВЕННАЯ ИММУНИЗАЦИЯ                                     В НЕБЛАГОПОЛУЧНЫХ ХОЗЯЙСТВАХ НАЗЫВАЕТСЯ ВЫНУЖДЕННО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ED1-FEC8-4D00-89BE-56BC68EE87B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592-DC91-447B-A25B-0686F01A4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8920" y="1960200"/>
            <a:ext cx="8713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                        направлена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3-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о ЭЦ – восприимчивых животных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15E-982C-4543-84F9-F2796C8C8D2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5E7E-84FB-4738-9D40-367C39913D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кусственную профилактику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еля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на активную и пассивную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роме того, различ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мультанн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ммунизацию (пассивная + активная), когда сначала применяют сыворотку,                            а затем вакцин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2B8-9CC1-4DE5-A66B-145CCED02B1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7C1-9BA6-4E30-8D92-D5119744FF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амы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спространенны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ид иммунизации – активная с помощью вакцин, которая обеспечивает более длительную и напряженную специфическую невосприимчивость к ИБ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5E8-3693-4355-AD73-BD445EE577C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544E-F395-4119-9F20-4DBB150D69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сли в стад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75-80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% животных иммунизированы, созда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пятств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ля циркуляции возбудителя                                      и распространения болезн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66BA-DF4D-4479-B558-B7CF40422CC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7:43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4B5-0449-4EBA-A9CE-E4AE734B6F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резвычайно важное значение                      приобретает активная иммунизация                                                            в животноводчески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а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8:38:10Z</dcterms:created>
  <dc:creator>*</dc:creator>
  <dc:description/>
  <dc:language>en-US</dc:language>
  <cp:lastModifiedBy>XXX</cp:lastModifiedBy>
  <dcterms:modified xsi:type="dcterms:W3CDTF">2013-10-15T17:58:17Z</dcterms:modified>
  <cp:revision>85</cp:revision>
  <dc:subject/>
  <dc:title>ВВОДНАЯ ЛЕКЦИЯ ЭПИЗООТОЛОГИЯ КАК НАУКА,                                             ЕЕ ПРЕДМЕТ, ЗАДАЧИ И ИСТОРИЯ,                                              ПРОБЛЕМЫ И ДОСТИЖЕНИЯ                                         НА СОВРЕМЕННОМ ЭТАПЕ</dc:title>
</cp:coreProperties>
</file>